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4F4-BB7B-4580-841B-259430AE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9E3-DEC0-48FA-9261-ED3307BF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2AB-92AA-4088-965E-72A29C6E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601-EEE7-4B8B-863E-51DEC87E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3402-D096-4558-9F95-3CE0A832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2F4D-D81F-405C-8AD9-B586B79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2677-E1D7-48C3-BC47-667554C1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DAC1-E35A-480E-B1A0-7ACA81D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1EF6-3352-44D1-88AE-AE535963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9F8C-5D4E-4B8A-B1A9-8200F2E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0719-911E-4020-95E2-F97F98AA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74A-52A2-4575-841F-0C9A2FA2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A758-1567-415B-BBA6-E8884574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5E45-7510-4645-8485-25BD751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4179-49FD-47D9-9567-E88E9804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0C47-CE2E-4EDC-9F0D-5451344E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E4CF-E858-4797-AA06-907BA621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123-9671-404F-89A0-28A4CD8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37D-D619-4004-8402-6D2C2254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F65-D49D-4046-A9EE-C6F2BC8E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548-D58D-46A0-97AD-43C25F3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0A9-9438-4713-905F-303504F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672-141F-427B-8CA7-49169D4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9FB-E928-4DF1-8B46-87C0FF6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FE8-7D39-4A80-B063-C1CF8708456E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7C7-2C9B-4F66-AA86-2207EA20D7B8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63.xml"/><Relationship Id="rId14" Type="http://schemas.openxmlformats.org/officeDocument/2006/relationships/slide" Target="slide6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82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09760" y="2379600"/>
            <a:ext cx="63244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.3 Construction Draw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a line and measure 5 cm alo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5342040" y="48052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0060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05808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42924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78672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342040" y="4976280"/>
            <a:ext cx="25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51520" y="4630680"/>
            <a:ext cx="2408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3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60960" y="3884760"/>
            <a:ext cx="2158920" cy="215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3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5192640" y="4835520"/>
            <a:ext cx="287280" cy="288720"/>
            <a:chOff x="5192640" y="4835520"/>
            <a:chExt cx="287280" cy="288720"/>
          </a:xfrm>
        </p:grpSpPr>
        <p:sp>
          <p:nvSpPr>
            <p:cNvPr id="1905" name=""/>
            <p:cNvSpPr/>
            <p:nvPr/>
          </p:nvSpPr>
          <p:spPr>
            <a:xfrm>
              <a:off x="533700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9264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2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5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8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4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6991200" y="4835520"/>
            <a:ext cx="287280" cy="288720"/>
            <a:chOff x="6991200" y="4835520"/>
            <a:chExt cx="287280" cy="288720"/>
          </a:xfrm>
        </p:grpSpPr>
        <p:sp>
          <p:nvSpPr>
            <p:cNvPr id="1913" name=""/>
            <p:cNvSpPr/>
            <p:nvPr/>
          </p:nvSpPr>
          <p:spPr>
            <a:xfrm>
              <a:off x="713556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9120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684760" y="3543480"/>
            <a:ext cx="2879640" cy="287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1" dur="3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4" dur="3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the 2 end points to the intersection of the ar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scalene (3,4,5) tri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01200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1512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65964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64000" y="1916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364000" y="2349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364000" y="2781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364000" y="314172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364000" y="386064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364000" y="3500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tation should look something like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198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02604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81840" y="1930320"/>
            <a:ext cx="2728800" cy="885960"/>
          </a:xfrm>
          <a:custGeom>
            <a:avLst/>
            <a:gdLst/>
            <a:ahLst/>
            <a:rect l="l" t="t" r="r" b="b"/>
            <a:pathLst>
              <a:path w="1719" h="558">
                <a:moveTo>
                  <a:pt x="0" y="0"/>
                </a:moveTo>
                <a:cubicBezTo>
                  <a:pt x="357" y="5"/>
                  <a:pt x="527" y="5"/>
                  <a:pt x="832" y="37"/>
                </a:cubicBezTo>
                <a:cubicBezTo>
                  <a:pt x="928" y="47"/>
                  <a:pt x="1011" y="81"/>
                  <a:pt x="1097" y="119"/>
                </a:cubicBezTo>
                <a:cubicBezTo>
                  <a:pt x="1123" y="131"/>
                  <a:pt x="1152" y="137"/>
                  <a:pt x="1179" y="146"/>
                </a:cubicBezTo>
                <a:cubicBezTo>
                  <a:pt x="1188" y="149"/>
                  <a:pt x="1207" y="155"/>
                  <a:pt x="1207" y="155"/>
                </a:cubicBezTo>
                <a:cubicBezTo>
                  <a:pt x="1250" y="185"/>
                  <a:pt x="1223" y="170"/>
                  <a:pt x="1289" y="192"/>
                </a:cubicBezTo>
                <a:cubicBezTo>
                  <a:pt x="1298" y="195"/>
                  <a:pt x="1307" y="198"/>
                  <a:pt x="1316" y="201"/>
                </a:cubicBezTo>
                <a:cubicBezTo>
                  <a:pt x="1325" y="204"/>
                  <a:pt x="1344" y="210"/>
                  <a:pt x="1344" y="210"/>
                </a:cubicBezTo>
                <a:cubicBezTo>
                  <a:pt x="1389" y="257"/>
                  <a:pt x="1327" y="196"/>
                  <a:pt x="1399" y="247"/>
                </a:cubicBezTo>
                <a:cubicBezTo>
                  <a:pt x="1409" y="254"/>
                  <a:pt x="1416" y="266"/>
                  <a:pt x="1426" y="274"/>
                </a:cubicBezTo>
                <a:cubicBezTo>
                  <a:pt x="1476" y="316"/>
                  <a:pt x="1432" y="275"/>
                  <a:pt x="1481" y="302"/>
                </a:cubicBezTo>
                <a:cubicBezTo>
                  <a:pt x="1518" y="322"/>
                  <a:pt x="1543" y="354"/>
                  <a:pt x="1582" y="366"/>
                </a:cubicBezTo>
                <a:cubicBezTo>
                  <a:pt x="1588" y="375"/>
                  <a:pt x="1592" y="386"/>
                  <a:pt x="1600" y="393"/>
                </a:cubicBezTo>
                <a:cubicBezTo>
                  <a:pt x="1607" y="399"/>
                  <a:pt x="1620" y="395"/>
                  <a:pt x="1627" y="402"/>
                </a:cubicBezTo>
                <a:cubicBezTo>
                  <a:pt x="1643" y="418"/>
                  <a:pt x="1652" y="439"/>
                  <a:pt x="1664" y="457"/>
                </a:cubicBezTo>
                <a:cubicBezTo>
                  <a:pt x="1684" y="488"/>
                  <a:pt x="1719" y="520"/>
                  <a:pt x="1719" y="55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053040" y="2960640"/>
            <a:ext cx="841320" cy="871560"/>
          </a:xfrm>
          <a:custGeom>
            <a:avLst/>
            <a:gdLst/>
            <a:ahLst/>
            <a:rect l="l" t="t" r="r" b="b"/>
            <a:pathLst>
              <a:path w="530" h="549">
                <a:moveTo>
                  <a:pt x="0" y="549"/>
                </a:moveTo>
                <a:cubicBezTo>
                  <a:pt x="8" y="433"/>
                  <a:pt x="8" y="393"/>
                  <a:pt x="54" y="302"/>
                </a:cubicBezTo>
                <a:cubicBezTo>
                  <a:pt x="76" y="260"/>
                  <a:pt x="82" y="226"/>
                  <a:pt x="128" y="210"/>
                </a:cubicBezTo>
                <a:cubicBezTo>
                  <a:pt x="161" y="161"/>
                  <a:pt x="217" y="150"/>
                  <a:pt x="256" y="110"/>
                </a:cubicBezTo>
                <a:cubicBezTo>
                  <a:pt x="318" y="45"/>
                  <a:pt x="439" y="0"/>
                  <a:pt x="5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676920" y="3513240"/>
            <a:ext cx="246240" cy="31896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201"/>
                </a:moveTo>
                <a:cubicBezTo>
                  <a:pt x="3" y="167"/>
                  <a:pt x="2" y="133"/>
                  <a:pt x="9" y="100"/>
                </a:cubicBezTo>
                <a:cubicBezTo>
                  <a:pt x="15" y="74"/>
                  <a:pt x="38" y="69"/>
                  <a:pt x="55" y="54"/>
                </a:cubicBezTo>
                <a:cubicBezTo>
                  <a:pt x="65" y="46"/>
                  <a:pt x="71" y="33"/>
                  <a:pt x="82" y="27"/>
                </a:cubicBezTo>
                <a:cubicBezTo>
                  <a:pt x="105" y="15"/>
                  <a:pt x="132" y="12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8280" y="342576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ow label the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9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3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rotation of triangle ABC 90° around 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200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9760" y="3198960"/>
            <a:ext cx="287280" cy="288720"/>
            <a:chOff x="5549760" y="3198960"/>
            <a:chExt cx="287280" cy="288720"/>
          </a:xfrm>
        </p:grpSpPr>
        <p:sp>
          <p:nvSpPr>
            <p:cNvPr id="403" name=""/>
            <p:cNvSpPr/>
            <p:nvPr/>
          </p:nvSpPr>
          <p:spPr>
            <a:xfrm>
              <a:off x="5694120" y="31989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33433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2320" y="1812960"/>
            <a:ext cx="3059280" cy="305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768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045200" y="3517920"/>
            <a:ext cx="287280" cy="288720"/>
            <a:chOff x="7045200" y="3517920"/>
            <a:chExt cx="287280" cy="288720"/>
          </a:xfrm>
        </p:grpSpPr>
        <p:sp>
          <p:nvSpPr>
            <p:cNvPr id="481" name=""/>
            <p:cNvSpPr/>
            <p:nvPr/>
          </p:nvSpPr>
          <p:spPr>
            <a:xfrm>
              <a:off x="7189560" y="35179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45200" y="36622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65920" y="2436840"/>
            <a:ext cx="2448000" cy="2448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783400" y="4708440"/>
            <a:ext cx="287280" cy="288720"/>
            <a:chOff x="5783400" y="4708440"/>
            <a:chExt cx="287280" cy="288720"/>
          </a:xfrm>
        </p:grpSpPr>
        <p:sp>
          <p:nvSpPr>
            <p:cNvPr id="549" name=""/>
            <p:cNvSpPr/>
            <p:nvPr/>
          </p:nvSpPr>
          <p:spPr>
            <a:xfrm>
              <a:off x="5927760" y="4708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83400" y="4852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714920" y="3608280"/>
            <a:ext cx="2448000" cy="2448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Line Through Point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000" autoRev="1" fill="hold"/>
                                        <p:tgtEl>
                                          <p:spTgt spid="6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ect the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332160" y="262260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317760" y="26082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335400" y="335772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3321000" y="33289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. Line through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3341520" y="5194440"/>
            <a:ext cx="2306880" cy="42372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117516" h="21600">
                <a:moveTo>
                  <a:pt x="0" y="0"/>
                </a:moveTo>
                <a:lnTo>
                  <a:pt x="117516" y="0"/>
                </a:lnTo>
                <a:lnTo>
                  <a:pt x="117516" y="21600"/>
                </a:lnTo>
                <a:lnTo>
                  <a:pt x="0" y="21600"/>
                </a:lnTo>
                <a:close/>
              </a:path>
              <a:path fill="lightenLess" w="117516" h="21600">
                <a:moveTo>
                  <a:pt x="0" y="0"/>
                </a:moveTo>
                <a:lnTo>
                  <a:pt x="117516" y="0"/>
                </a:lnTo>
                <a:lnTo>
                  <a:pt x="116117" y="1400"/>
                </a:lnTo>
                <a:lnTo>
                  <a:pt x="1400" y="1400"/>
                </a:lnTo>
                <a:close/>
              </a:path>
              <a:path fill="darken" w="117516" h="21600">
                <a:moveTo>
                  <a:pt x="117516" y="0"/>
                </a:moveTo>
                <a:lnTo>
                  <a:pt x="117516" y="21600"/>
                </a:lnTo>
                <a:lnTo>
                  <a:pt x="116117" y="20200"/>
                </a:lnTo>
                <a:lnTo>
                  <a:pt x="116117" y="1400"/>
                </a:lnTo>
                <a:close/>
              </a:path>
              <a:path fill="darkenLess" w="117516" h="21600">
                <a:moveTo>
                  <a:pt x="11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17" y="20200"/>
                </a:lnTo>
                <a:close/>
              </a:path>
              <a:path fill="lighten" w="11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3341520" y="521028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3325680" y="4103640"/>
            <a:ext cx="2306880" cy="4240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117417" h="21600">
                <a:moveTo>
                  <a:pt x="0" y="0"/>
                </a:moveTo>
                <a:lnTo>
                  <a:pt x="117417" y="0"/>
                </a:lnTo>
                <a:lnTo>
                  <a:pt x="117417" y="21600"/>
                </a:lnTo>
                <a:lnTo>
                  <a:pt x="0" y="21600"/>
                </a:lnTo>
                <a:close/>
              </a:path>
              <a:path fill="lightenLess" w="117417" h="21600">
                <a:moveTo>
                  <a:pt x="0" y="0"/>
                </a:moveTo>
                <a:lnTo>
                  <a:pt x="117417" y="0"/>
                </a:lnTo>
                <a:lnTo>
                  <a:pt x="116017" y="1400"/>
                </a:lnTo>
                <a:lnTo>
                  <a:pt x="1400" y="1400"/>
                </a:lnTo>
                <a:close/>
              </a:path>
              <a:path fill="darken" w="117417" h="21600">
                <a:moveTo>
                  <a:pt x="117417" y="0"/>
                </a:moveTo>
                <a:lnTo>
                  <a:pt x="117417" y="21600"/>
                </a:lnTo>
                <a:lnTo>
                  <a:pt x="116017" y="20200"/>
                </a:lnTo>
                <a:lnTo>
                  <a:pt x="116017" y="1400"/>
                </a:lnTo>
                <a:close/>
              </a:path>
              <a:path fill="darkenLess" w="117417" h="21600">
                <a:moveTo>
                  <a:pt x="117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7" y="20200"/>
                </a:lnTo>
                <a:close/>
              </a:path>
              <a:path fill="lighten" w="117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3327480" y="40910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7680" y="224460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224172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7400" y="26146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873000" y="26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840" y="334152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334152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887400" y="409716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860400" y="40971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3" action="ppaction://hlinksldjump"/>
          </p:cNvPr>
          <p:cNvSpPr/>
          <p:nvPr/>
        </p:nvSpPr>
        <p:spPr>
          <a:xfrm>
            <a:off x="887400" y="48718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4" action="ppaction://hlinksldjump"/>
          </p:cNvPr>
          <p:cNvSpPr/>
          <p:nvPr/>
        </p:nvSpPr>
        <p:spPr>
          <a:xfrm>
            <a:off x="873000" y="48578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5" action="ppaction://hlinksldjump"/>
          </p:cNvPr>
          <p:cNvSpPr/>
          <p:nvPr/>
        </p:nvSpPr>
        <p:spPr>
          <a:xfrm>
            <a:off x="3328920" y="4643280"/>
            <a:ext cx="2306880" cy="4222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17917" h="21600">
                <a:moveTo>
                  <a:pt x="0" y="0"/>
                </a:moveTo>
                <a:lnTo>
                  <a:pt x="117917" y="0"/>
                </a:lnTo>
                <a:lnTo>
                  <a:pt x="117917" y="21600"/>
                </a:lnTo>
                <a:lnTo>
                  <a:pt x="0" y="21600"/>
                </a:lnTo>
                <a:close/>
              </a:path>
              <a:path fill="lightenLess" w="117917" h="21600">
                <a:moveTo>
                  <a:pt x="0" y="0"/>
                </a:moveTo>
                <a:lnTo>
                  <a:pt x="117917" y="0"/>
                </a:lnTo>
                <a:lnTo>
                  <a:pt x="116517" y="1400"/>
                </a:lnTo>
                <a:lnTo>
                  <a:pt x="1400" y="1400"/>
                </a:lnTo>
                <a:close/>
              </a:path>
              <a:path fill="darken" w="117917" h="21600">
                <a:moveTo>
                  <a:pt x="117917" y="0"/>
                </a:moveTo>
                <a:lnTo>
                  <a:pt x="117917" y="21600"/>
                </a:lnTo>
                <a:lnTo>
                  <a:pt x="116517" y="20200"/>
                </a:lnTo>
                <a:lnTo>
                  <a:pt x="116517" y="1400"/>
                </a:lnTo>
                <a:close/>
              </a:path>
              <a:path fill="darkenLess" w="117917" h="21600">
                <a:moveTo>
                  <a:pt x="117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517" y="20200"/>
                </a:lnTo>
                <a:close/>
              </a:path>
              <a:path fill="lighten" w="117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6" action="ppaction://hlinksldjump"/>
          </p:cNvPr>
          <p:cNvSpPr/>
          <p:nvPr/>
        </p:nvSpPr>
        <p:spPr>
          <a:xfrm>
            <a:off x="3328920" y="46292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26161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78360" y="336564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7" action="ppaction://hlinksldjump"/>
          </p:cNvPr>
          <p:cNvSpPr/>
          <p:nvPr/>
        </p:nvSpPr>
        <p:spPr>
          <a:xfrm>
            <a:off x="5775480" y="410544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32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0080" y="1816200"/>
            <a:ext cx="2306520" cy="433440"/>
          </a:xfrm>
          <a:custGeom>
            <a:avLst/>
            <a:gdLst>
              <a:gd name="textAreaLeft" fmla="*/ 28080 w 2306520"/>
              <a:gd name="textAreaRight" fmla="*/ 2278440 w 2306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4865" h="21600">
                <a:moveTo>
                  <a:pt x="0" y="0"/>
                </a:moveTo>
                <a:lnTo>
                  <a:pt x="114865" y="0"/>
                </a:lnTo>
                <a:lnTo>
                  <a:pt x="114865" y="21600"/>
                </a:lnTo>
                <a:lnTo>
                  <a:pt x="0" y="21600"/>
                </a:lnTo>
                <a:close/>
              </a:path>
              <a:path fill="lightenLess" w="114865" h="21600">
                <a:moveTo>
                  <a:pt x="0" y="0"/>
                </a:moveTo>
                <a:lnTo>
                  <a:pt x="114865" y="0"/>
                </a:lnTo>
                <a:lnTo>
                  <a:pt x="113465" y="1400"/>
                </a:lnTo>
                <a:lnTo>
                  <a:pt x="1400" y="1400"/>
                </a:lnTo>
                <a:close/>
              </a:path>
              <a:path fill="darken" w="114865" h="21600">
                <a:moveTo>
                  <a:pt x="114865" y="0"/>
                </a:moveTo>
                <a:lnTo>
                  <a:pt x="114865" y="21600"/>
                </a:lnTo>
                <a:lnTo>
                  <a:pt x="113465" y="20200"/>
                </a:lnTo>
                <a:lnTo>
                  <a:pt x="113465" y="1400"/>
                </a:lnTo>
                <a:close/>
              </a:path>
              <a:path fill="darkenLess" w="114865" h="21600">
                <a:moveTo>
                  <a:pt x="114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465" y="20200"/>
                </a:lnTo>
                <a:close/>
              </a:path>
              <a:path fill="lighten" w="114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81620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616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u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378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40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idistant between 2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3320" y="5746680"/>
            <a:ext cx="2306520" cy="420840"/>
          </a:xfrm>
          <a:custGeom>
            <a:avLst/>
            <a:gdLst>
              <a:gd name="textAreaLeft" fmla="*/ 27000 w 2306520"/>
              <a:gd name="textAreaRight" fmla="*/ 2279520 w 230652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118302" h="21600">
                <a:moveTo>
                  <a:pt x="0" y="0"/>
                </a:moveTo>
                <a:lnTo>
                  <a:pt x="118302" y="0"/>
                </a:lnTo>
                <a:lnTo>
                  <a:pt x="118302" y="21600"/>
                </a:lnTo>
                <a:lnTo>
                  <a:pt x="0" y="21600"/>
                </a:lnTo>
                <a:close/>
              </a:path>
              <a:path fill="lightenLess" w="118302" h="21600">
                <a:moveTo>
                  <a:pt x="0" y="0"/>
                </a:moveTo>
                <a:lnTo>
                  <a:pt x="118302" y="0"/>
                </a:lnTo>
                <a:lnTo>
                  <a:pt x="116902" y="1400"/>
                </a:lnTo>
                <a:lnTo>
                  <a:pt x="1400" y="1400"/>
                </a:lnTo>
                <a:close/>
              </a:path>
              <a:path fill="darken" w="118302" h="21600">
                <a:moveTo>
                  <a:pt x="118302" y="0"/>
                </a:moveTo>
                <a:lnTo>
                  <a:pt x="118302" y="21600"/>
                </a:lnTo>
                <a:lnTo>
                  <a:pt x="116902" y="20200"/>
                </a:lnTo>
                <a:lnTo>
                  <a:pt x="116902" y="1400"/>
                </a:lnTo>
                <a:close/>
              </a:path>
              <a:path fill="darkenLess" w="118302" h="21600">
                <a:moveTo>
                  <a:pt x="118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02" y="20200"/>
                </a:lnTo>
                <a:close/>
              </a:path>
              <a:path fill="lighten" w="118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320" y="5761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06960" y="3192480"/>
            <a:ext cx="2411640" cy="24098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7077240" y="4284720"/>
            <a:ext cx="287280" cy="288720"/>
            <a:chOff x="7077240" y="4284720"/>
            <a:chExt cx="287280" cy="288720"/>
          </a:xfrm>
        </p:grpSpPr>
        <p:sp>
          <p:nvSpPr>
            <p:cNvPr id="648" name=""/>
            <p:cNvSpPr/>
            <p:nvPr/>
          </p:nvSpPr>
          <p:spPr>
            <a:xfrm>
              <a:off x="7221600" y="42847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77240" y="4429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6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680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87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319800" y="3313080"/>
            <a:ext cx="287280" cy="288720"/>
            <a:chOff x="6319800" y="3313080"/>
            <a:chExt cx="287280" cy="288720"/>
          </a:xfrm>
        </p:grpSpPr>
        <p:sp>
          <p:nvSpPr>
            <p:cNvPr id="693" name=""/>
            <p:cNvSpPr/>
            <p:nvPr/>
          </p:nvSpPr>
          <p:spPr>
            <a:xfrm>
              <a:off x="6464160" y="3313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19800" y="34574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11880" y="237816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07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1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079960" y="3860640"/>
            <a:ext cx="2124000" cy="21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14840" y="4267080"/>
            <a:ext cx="1379520" cy="19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0000" y="5153040"/>
            <a:ext cx="16398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70480" y="3787920"/>
            <a:ext cx="1016280" cy="16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34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958000" y="4692600"/>
            <a:ext cx="287280" cy="288720"/>
            <a:chOff x="5958000" y="4692600"/>
            <a:chExt cx="287280" cy="288720"/>
          </a:xfrm>
        </p:grpSpPr>
        <p:sp>
          <p:nvSpPr>
            <p:cNvPr id="747" name=""/>
            <p:cNvSpPr/>
            <p:nvPr/>
          </p:nvSpPr>
          <p:spPr>
            <a:xfrm>
              <a:off x="6102360" y="4692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58000" y="4836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091120" y="385920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5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the point of the angle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66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73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8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gle Bisector of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98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805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line 4cm above and parallel to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0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4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n arc above line AB using each end as the ce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435600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84600" y="5029200"/>
            <a:ext cx="128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26080" y="4292640"/>
            <a:ext cx="100332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46920" y="24890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45400" y="3009960"/>
            <a:ext cx="9903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83480" y="2425680"/>
            <a:ext cx="952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3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37320" y="3076560"/>
            <a:ext cx="287280" cy="288720"/>
            <a:chOff x="7537320" y="3076560"/>
            <a:chExt cx="287280" cy="288720"/>
          </a:xfrm>
        </p:grpSpPr>
        <p:sp>
          <p:nvSpPr>
            <p:cNvPr id="846" name=""/>
            <p:cNvSpPr/>
            <p:nvPr/>
          </p:nvSpPr>
          <p:spPr>
            <a:xfrm>
              <a:off x="7681680" y="30765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37320" y="32209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32480" y="4946760"/>
            <a:ext cx="287280" cy="288720"/>
            <a:chOff x="5532480" y="4946760"/>
            <a:chExt cx="287280" cy="288720"/>
          </a:xfrm>
        </p:grpSpPr>
        <p:sp>
          <p:nvSpPr>
            <p:cNvPr id="849" name=""/>
            <p:cNvSpPr/>
            <p:nvPr/>
          </p:nvSpPr>
          <p:spPr>
            <a:xfrm>
              <a:off x="5676840" y="494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2480" y="509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965840" y="4354560"/>
            <a:ext cx="143964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45480" y="2487600"/>
            <a:ext cx="143964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t least 2 other centers draw more arcs abov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358128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50040" y="30481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97760" y="3556080"/>
            <a:ext cx="10792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60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64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6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76920" y="3578400"/>
            <a:ext cx="144000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364440" y="4168800"/>
            <a:ext cx="287280" cy="288720"/>
            <a:chOff x="6364440" y="4168800"/>
            <a:chExt cx="287280" cy="288720"/>
          </a:xfrm>
        </p:grpSpPr>
        <p:sp>
          <p:nvSpPr>
            <p:cNvPr id="877" name=""/>
            <p:cNvSpPr/>
            <p:nvPr/>
          </p:nvSpPr>
          <p:spPr>
            <a:xfrm>
              <a:off x="6508800" y="41688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4440" y="4313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348240" y="3046320"/>
            <a:ext cx="144000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942240" y="3629160"/>
            <a:ext cx="287280" cy="288720"/>
            <a:chOff x="6942240" y="3629160"/>
            <a:chExt cx="287280" cy="288720"/>
          </a:xfrm>
        </p:grpSpPr>
        <p:sp>
          <p:nvSpPr>
            <p:cNvPr id="881" name=""/>
            <p:cNvSpPr/>
            <p:nvPr/>
          </p:nvSpPr>
          <p:spPr>
            <a:xfrm>
              <a:off x="7086600" y="3629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240" y="37735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tops of all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887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91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95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99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alle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cm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912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916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920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2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60º angle at A, above th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3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draw an arc that crosses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4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950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4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place point where the arc crosses the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5307120" y="2816280"/>
            <a:ext cx="2698560" cy="26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6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6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305320" y="2814480"/>
            <a:ext cx="269892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519960" y="4037040"/>
            <a:ext cx="287280" cy="288720"/>
            <a:chOff x="6519960" y="4037040"/>
            <a:chExt cx="287280" cy="288720"/>
          </a:xfrm>
        </p:grpSpPr>
        <p:sp>
          <p:nvSpPr>
            <p:cNvPr id="970" name=""/>
            <p:cNvSpPr/>
            <p:nvPr/>
          </p:nvSpPr>
          <p:spPr>
            <a:xfrm>
              <a:off x="6664320" y="4037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4181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2 arcs c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76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8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8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0º Ang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94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99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100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eflection you need to state 2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eflec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irror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lect Shape ABCD in the mirror line x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35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27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643280" y="3068640"/>
            <a:ext cx="2304720" cy="2232000"/>
            <a:chOff x="4643280" y="3068640"/>
            <a:chExt cx="2304720" cy="2232000"/>
          </a:xfrm>
        </p:grpSpPr>
        <p:sp>
          <p:nvSpPr>
            <p:cNvPr id="1027" name=""/>
            <p:cNvSpPr/>
            <p:nvPr/>
          </p:nvSpPr>
          <p:spPr>
            <a:xfrm>
              <a:off x="4643280" y="3068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3280" y="350028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3280" y="393372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43280" y="4437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3280" y="4869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43280" y="5300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659640" y="256536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03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2880" y="3068640"/>
            <a:ext cx="15256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494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22760" y="5084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effective methods to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fold the page alo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and tra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 lines perpendicular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that g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each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n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you get your reflection, the next step is to label its co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he image corner that same letter as the object it came from with a ( ‘ )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51520" y="2530440"/>
            <a:ext cx="3257280" cy="285840"/>
          </a:xfrm>
          <a:custGeom>
            <a:avLst/>
            <a:gdLst/>
            <a:ahLst/>
            <a:rect l="l" t="t" r="r" b="b"/>
            <a:pathLst>
              <a:path w="2052" h="180">
                <a:moveTo>
                  <a:pt x="0" y="180"/>
                </a:moveTo>
                <a:cubicBezTo>
                  <a:pt x="148" y="102"/>
                  <a:pt x="308" y="87"/>
                  <a:pt x="475" y="79"/>
                </a:cubicBezTo>
                <a:cubicBezTo>
                  <a:pt x="959" y="0"/>
                  <a:pt x="1454" y="44"/>
                  <a:pt x="1938" y="97"/>
                </a:cubicBezTo>
                <a:cubicBezTo>
                  <a:pt x="1962" y="114"/>
                  <a:pt x="1984" y="139"/>
                  <a:pt x="2011" y="152"/>
                </a:cubicBezTo>
                <a:cubicBezTo>
                  <a:pt x="2052" y="172"/>
                  <a:pt x="2028" y="149"/>
                  <a:pt x="2048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2120" y="5589720"/>
            <a:ext cx="685800" cy="115920"/>
          </a:xfrm>
          <a:custGeom>
            <a:avLst/>
            <a:gdLst/>
            <a:ahLst/>
            <a:rect l="l" t="t" r="r" b="b"/>
            <a:pathLst>
              <a:path w="432" h="73">
                <a:moveTo>
                  <a:pt x="0" y="0"/>
                </a:moveTo>
                <a:cubicBezTo>
                  <a:pt x="31" y="29"/>
                  <a:pt x="74" y="31"/>
                  <a:pt x="110" y="55"/>
                </a:cubicBezTo>
                <a:cubicBezTo>
                  <a:pt x="432" y="41"/>
                  <a:pt x="239" y="73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43560" y="5589720"/>
            <a:ext cx="2249640" cy="311040"/>
          </a:xfrm>
          <a:custGeom>
            <a:avLst/>
            <a:gdLst/>
            <a:ahLst/>
            <a:rect l="l" t="t" r="r" b="b"/>
            <a:pathLst>
              <a:path w="1417" h="196">
                <a:moveTo>
                  <a:pt x="0" y="0"/>
                </a:moveTo>
                <a:cubicBezTo>
                  <a:pt x="12" y="3"/>
                  <a:pt x="25" y="4"/>
                  <a:pt x="36" y="9"/>
                </a:cubicBezTo>
                <a:cubicBezTo>
                  <a:pt x="46" y="13"/>
                  <a:pt x="53" y="24"/>
                  <a:pt x="64" y="27"/>
                </a:cubicBezTo>
                <a:cubicBezTo>
                  <a:pt x="91" y="34"/>
                  <a:pt x="119" y="34"/>
                  <a:pt x="146" y="37"/>
                </a:cubicBezTo>
                <a:cubicBezTo>
                  <a:pt x="221" y="62"/>
                  <a:pt x="129" y="27"/>
                  <a:pt x="192" y="64"/>
                </a:cubicBezTo>
                <a:cubicBezTo>
                  <a:pt x="210" y="74"/>
                  <a:pt x="262" y="80"/>
                  <a:pt x="274" y="82"/>
                </a:cubicBezTo>
                <a:cubicBezTo>
                  <a:pt x="292" y="88"/>
                  <a:pt x="310" y="98"/>
                  <a:pt x="329" y="101"/>
                </a:cubicBezTo>
                <a:cubicBezTo>
                  <a:pt x="372" y="107"/>
                  <a:pt x="457" y="119"/>
                  <a:pt x="457" y="119"/>
                </a:cubicBezTo>
                <a:cubicBezTo>
                  <a:pt x="554" y="151"/>
                  <a:pt x="656" y="172"/>
                  <a:pt x="758" y="183"/>
                </a:cubicBezTo>
                <a:cubicBezTo>
                  <a:pt x="908" y="178"/>
                  <a:pt x="982" y="196"/>
                  <a:pt x="1097" y="155"/>
                </a:cubicBezTo>
                <a:cubicBezTo>
                  <a:pt x="1153" y="99"/>
                  <a:pt x="1230" y="107"/>
                  <a:pt x="1298" y="73"/>
                </a:cubicBezTo>
                <a:cubicBezTo>
                  <a:pt x="1310" y="67"/>
                  <a:pt x="1323" y="62"/>
                  <a:pt x="1334" y="55"/>
                </a:cubicBezTo>
                <a:cubicBezTo>
                  <a:pt x="1341" y="50"/>
                  <a:pt x="1346" y="42"/>
                  <a:pt x="1353" y="37"/>
                </a:cubicBezTo>
                <a:cubicBezTo>
                  <a:pt x="1374" y="24"/>
                  <a:pt x="1399" y="27"/>
                  <a:pt x="1417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770440" y="4441680"/>
            <a:ext cx="1719360" cy="1795320"/>
            <a:chOff x="5770440" y="4441680"/>
            <a:chExt cx="1719360" cy="1795320"/>
          </a:xfrm>
        </p:grpSpPr>
        <p:sp>
          <p:nvSpPr>
            <p:cNvPr id="1067" name=""/>
            <p:cNvSpPr/>
            <p:nvPr/>
          </p:nvSpPr>
          <p:spPr>
            <a:xfrm>
              <a:off x="5810400" y="44892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0440" y="532260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08600" y="532260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5240" y="449064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647760" y="475524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1160" y="474192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92960" y="444168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 a good check is to rule a line from one point to its’ image and check that the mirror line is at right ang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) D to 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26200" y="53006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rror line x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methods of rotating sha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s to trace the shape onto paper, then rotate the paper 90°, with your compass pt through the centre of ro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way i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line from one of the corners to the centre, in this case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4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draw an arc with the compass pt at the centre and pencil on the same cor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48120" y="1725480"/>
            <a:ext cx="4308480" cy="43084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6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774400" y="2748240"/>
            <a:ext cx="2324520" cy="2287080"/>
            <a:chOff x="5774400" y="2748240"/>
            <a:chExt cx="2324520" cy="2287080"/>
          </a:xfrm>
        </p:grpSpPr>
        <p:sp>
          <p:nvSpPr>
            <p:cNvPr id="1166" name=""/>
            <p:cNvSpPr/>
            <p:nvPr/>
          </p:nvSpPr>
          <p:spPr>
            <a:xfrm rot="3791400">
              <a:off x="6159600" y="30330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791400">
              <a:off x="5710320" y="36046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7800" y="3122640"/>
              <a:ext cx="747360" cy="1479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83640" y="3493800"/>
              <a:ext cx="744120" cy="37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6987600" y="3870720"/>
              <a:ext cx="773640" cy="27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83280" y="3068280"/>
              <a:ext cx="24768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3791400">
              <a:off x="7518960" y="34185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angle of rotation from the line 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013520" y="3452760"/>
            <a:ext cx="770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0120" y="3068640"/>
            <a:ext cx="1468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88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738920" y="345240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1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5951520" y="2916360"/>
            <a:ext cx="1987560" cy="1931760"/>
            <a:chOff x="5951520" y="2916360"/>
            <a:chExt cx="1987560" cy="1931760"/>
          </a:xfrm>
        </p:grpSpPr>
        <p:sp>
          <p:nvSpPr>
            <p:cNvPr id="1232" name=""/>
            <p:cNvSpPr/>
            <p:nvPr/>
          </p:nvSpPr>
          <p:spPr>
            <a:xfrm>
              <a:off x="6008760" y="2916360"/>
              <a:ext cx="1900080" cy="19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78800" y="3251160"/>
              <a:ext cx="26028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51520" y="4238640"/>
              <a:ext cx="1755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6103800" y="2997360"/>
            <a:ext cx="1719360" cy="1795320"/>
            <a:chOff x="6103800" y="2997360"/>
            <a:chExt cx="1719360" cy="1795320"/>
          </a:xfrm>
        </p:grpSpPr>
        <p:sp>
          <p:nvSpPr>
            <p:cNvPr id="1236" name=""/>
            <p:cNvSpPr/>
            <p:nvPr/>
          </p:nvSpPr>
          <p:spPr>
            <a:xfrm>
              <a:off x="6143760" y="304488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03800" y="38782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41960" y="387828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8600" y="304632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981120" y="331092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74520" y="329760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26320" y="29973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44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210280" y="3889440"/>
            <a:ext cx="21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05520" y="2914560"/>
            <a:ext cx="1900080" cy="19004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967440" y="30049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69240" y="249660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6545160" y="3497400"/>
            <a:ext cx="1190880" cy="1060200"/>
            <a:chOff x="6545160" y="3497400"/>
            <a:chExt cx="1190880" cy="1060200"/>
          </a:xfrm>
        </p:grpSpPr>
        <p:sp>
          <p:nvSpPr>
            <p:cNvPr id="1272" name=""/>
            <p:cNvSpPr/>
            <p:nvPr/>
          </p:nvSpPr>
          <p:spPr>
            <a:xfrm>
              <a:off x="6648480" y="3529080"/>
              <a:ext cx="698400" cy="698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5160" y="4005360"/>
              <a:ext cx="1190880" cy="5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72360" y="3497400"/>
              <a:ext cx="333360" cy="82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105600" y="2998800"/>
            <a:ext cx="1719360" cy="1795320"/>
            <a:chOff x="6105600" y="2998800"/>
            <a:chExt cx="1719360" cy="1795320"/>
          </a:xfrm>
        </p:grpSpPr>
        <p:sp>
          <p:nvSpPr>
            <p:cNvPr id="1276" name=""/>
            <p:cNvSpPr/>
            <p:nvPr/>
          </p:nvSpPr>
          <p:spPr>
            <a:xfrm>
              <a:off x="6145560" y="304632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05600" y="387972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43760" y="387972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80400" y="304776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982920" y="331236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76320" y="329904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8120" y="299880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38360" y="388944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45240" y="3527280"/>
            <a:ext cx="698400" cy="6987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967440" y="3005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67440" y="344016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886440" y="3467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join the points of the im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rot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9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ound poin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translation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364000" y="2637000"/>
            <a:ext cx="1729080" cy="3313080"/>
            <a:chOff x="5364000" y="2637000"/>
            <a:chExt cx="1729080" cy="3313080"/>
          </a:xfrm>
        </p:grpSpPr>
        <p:sp>
          <p:nvSpPr>
            <p:cNvPr id="1350" name=""/>
            <p:cNvSpPr/>
            <p:nvPr/>
          </p:nvSpPr>
          <p:spPr>
            <a:xfrm>
              <a:off x="579600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27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9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64000" y="3068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64000" y="350028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64000" y="393372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64000" y="4437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64000" y="4869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64000" y="5300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the shape ABCD 5cm right and 3cm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occasionally written as a vector in which case the top number means distance acr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2422440" y="4776840"/>
            <a:ext cx="49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974680" y="49640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452680" y="4761000"/>
            <a:ext cx="392040" cy="79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54200" y="550080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8360" y="471492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584520" y="480384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igh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4560" y="5281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ow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2873160" y="54435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ing with pt A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269040" y="30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069400" y="30481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026560" y="4106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794640" y="26859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028000" y="3409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 B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30920" y="39751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631280" y="39895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6273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89880" y="4336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5720" y="3068640"/>
            <a:ext cx="14828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84920" y="3068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056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s C and D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ing them C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829480" y="53229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629480" y="53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354720" y="49752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27960" y="44672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427960" y="4481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153200" y="41194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591320" y="56721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73960" y="47577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up the points A’ B’ C’ and D’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8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transl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51000" y="280044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n Enlargement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nlar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 of enlar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big to mak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473880" y="3645000"/>
            <a:ext cx="963720" cy="2016000"/>
            <a:chOff x="6473880" y="3645000"/>
            <a:chExt cx="963720" cy="2016000"/>
          </a:xfrm>
        </p:grpSpPr>
        <p:sp>
          <p:nvSpPr>
            <p:cNvPr id="1468" name=""/>
            <p:cNvSpPr/>
            <p:nvPr/>
          </p:nvSpPr>
          <p:spPr>
            <a:xfrm>
              <a:off x="647388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7716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3760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6012000" y="406224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012000" y="440856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012000" y="47689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12000" y="51577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 the shape ABCD by a scale factor of 3 about the point 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 a line from the centre of enlargement trough each of the point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 the distance from the centre to each of the poi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each of the distances by the scale fact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3 is Scale f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30760" y="2523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415280" y="2610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07040" y="41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that far along each of the lines from the centre and mark A’, B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630760" y="1887480"/>
            <a:ext cx="1351080" cy="323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996240" y="1915920"/>
            <a:ext cx="1306440" cy="325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5486400" y="4063680"/>
            <a:ext cx="1495440" cy="107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in the points of the image A’, B’ C and D’ with a ru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2" dur="3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e 2 arcs cross join with a Straight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13120" y="3068640"/>
            <a:ext cx="149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enlargemen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cale factor of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int 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 than 4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poin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for the l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4 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46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ull circle with the compass point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he locus of points exactly 4c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448320" y="3776760"/>
            <a:ext cx="287280" cy="288720"/>
            <a:chOff x="6448320" y="3776760"/>
            <a:chExt cx="287280" cy="288720"/>
          </a:xfrm>
        </p:grpSpPr>
        <p:sp>
          <p:nvSpPr>
            <p:cNvPr id="1596" name=""/>
            <p:cNvSpPr/>
            <p:nvPr/>
          </p:nvSpPr>
          <p:spPr>
            <a:xfrm>
              <a:off x="6592680" y="377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48320" y="392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95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e inside the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o represent the locus of points less than  4cm 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Locus of points less than 4 cm from point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2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5689440" y="267984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line parallel to AB above and below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78440" y="193032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00880" y="254016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313704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061040" y="3949560"/>
            <a:ext cx="8892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597640" y="2595600"/>
            <a:ext cx="287280" cy="288720"/>
            <a:chOff x="5597640" y="2595600"/>
            <a:chExt cx="287280" cy="288720"/>
          </a:xfrm>
        </p:grpSpPr>
        <p:sp>
          <p:nvSpPr>
            <p:cNvPr id="1633" name=""/>
            <p:cNvSpPr/>
            <p:nvPr/>
          </p:nvSpPr>
          <p:spPr>
            <a:xfrm>
              <a:off x="5742000" y="2595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597640" y="2739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6943680" y="3903840"/>
            <a:ext cx="287280" cy="288720"/>
            <a:chOff x="6943680" y="3903840"/>
            <a:chExt cx="287280" cy="288720"/>
          </a:xfrm>
        </p:grpSpPr>
        <p:sp>
          <p:nvSpPr>
            <p:cNvPr id="1636" name=""/>
            <p:cNvSpPr/>
            <p:nvPr/>
          </p:nvSpPr>
          <p:spPr>
            <a:xfrm>
              <a:off x="7088040" y="3903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43680" y="4048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6232680" y="3218040"/>
            <a:ext cx="287280" cy="288720"/>
            <a:chOff x="6232680" y="3218040"/>
            <a:chExt cx="287280" cy="288720"/>
          </a:xfrm>
        </p:grpSpPr>
        <p:sp>
          <p:nvSpPr>
            <p:cNvPr id="1639" name=""/>
            <p:cNvSpPr/>
            <p:nvPr/>
          </p:nvSpPr>
          <p:spPr>
            <a:xfrm>
              <a:off x="6377040" y="3218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2680" y="3362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1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4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were no end points specified then this would be where we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4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Bise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ndpoints are spec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2cm semicircle around each of the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ase the excess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57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2200" y="2017800"/>
            <a:ext cx="1440000" cy="143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353280" y="3309840"/>
            <a:ext cx="1439640" cy="1440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70560" y="5730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7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2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79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2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76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4521240" y="3251160"/>
            <a:ext cx="39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89520" y="4584600"/>
            <a:ext cx="218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This means in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need to find a set of points that go straight through the midd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 a perpendicular bi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5643720" y="3630600"/>
            <a:ext cx="287280" cy="288720"/>
            <a:chOff x="5643720" y="3630600"/>
            <a:chExt cx="287280" cy="288720"/>
          </a:xfrm>
        </p:grpSpPr>
        <p:sp>
          <p:nvSpPr>
            <p:cNvPr id="1694" name=""/>
            <p:cNvSpPr/>
            <p:nvPr/>
          </p:nvSpPr>
          <p:spPr>
            <a:xfrm>
              <a:off x="5788080" y="3630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43720" y="3774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192800" y="3770280"/>
            <a:ext cx="287280" cy="288720"/>
            <a:chOff x="7192800" y="3770280"/>
            <a:chExt cx="287280" cy="288720"/>
          </a:xfrm>
        </p:grpSpPr>
        <p:sp>
          <p:nvSpPr>
            <p:cNvPr id="1697" name=""/>
            <p:cNvSpPr/>
            <p:nvPr/>
          </p:nvSpPr>
          <p:spPr>
            <a:xfrm>
              <a:off x="7337160" y="3770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0" y="391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4876920" y="287028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26360" y="300996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15080" y="2844720"/>
            <a:ext cx="148572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819840" y="298440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69080" y="448308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876920" y="4203720"/>
            <a:ext cx="1358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826160" y="3276720"/>
            <a:ext cx="2412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429000"/>
            <a:ext cx="241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hat any point on the line is the same distance from A as it is from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575400" y="3090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805360" y="3134880"/>
            <a:ext cx="812880" cy="6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603840" y="3121200"/>
            <a:ext cx="725760" cy="79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5560" y="3164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94360" y="32637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5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drawings done using a compass and a ruler and not measuring distances if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operations done to a shape to move it and shift it around the page without changing the sh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a series of points, a line or a shape that fits a certain set of rules (ie is always 2cm from a po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6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37306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57400" y="218448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43360" y="2170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59200" y="29113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59200" y="2911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7400" y="366696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930400" y="3666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57400" y="444168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43360" y="4427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equilateral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 draw an arc from B above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1765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0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oal of this construction is to create a line through point A that is perpendicular to the line gi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B  draw an arc from A above the line,  It must cross the first a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6491160" y="4008600"/>
            <a:ext cx="287280" cy="288720"/>
            <a:chOff x="6491160" y="4008600"/>
            <a:chExt cx="287280" cy="288720"/>
          </a:xfrm>
        </p:grpSpPr>
        <p:sp>
          <p:nvSpPr>
            <p:cNvPr id="1779" name=""/>
            <p:cNvSpPr/>
            <p:nvPr/>
          </p:nvSpPr>
          <p:spPr>
            <a:xfrm>
              <a:off x="6635520" y="4008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491160" y="4152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76880" y="2786040"/>
            <a:ext cx="269856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0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3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an equilateral tri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isoceles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ide length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oint on A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491080" y="4965840"/>
            <a:ext cx="287280" cy="288720"/>
            <a:chOff x="5491080" y="4965840"/>
            <a:chExt cx="287280" cy="288720"/>
          </a:xfrm>
        </p:grpSpPr>
        <p:sp>
          <p:nvSpPr>
            <p:cNvPr id="1831" name=""/>
            <p:cNvSpPr/>
            <p:nvPr/>
          </p:nvSpPr>
          <p:spPr>
            <a:xfrm>
              <a:off x="5635440" y="4965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1080" y="5110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3584520" y="4049640"/>
            <a:ext cx="184320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39080" y="3716280"/>
            <a:ext cx="42048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49840" y="3289320"/>
            <a:ext cx="359856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3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4" dur="3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 place the point on B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6492960" y="3992400"/>
            <a:ext cx="287280" cy="288720"/>
            <a:chOff x="6492960" y="3992400"/>
            <a:chExt cx="287280" cy="288720"/>
          </a:xfrm>
        </p:grpSpPr>
        <p:sp>
          <p:nvSpPr>
            <p:cNvPr id="1844" name=""/>
            <p:cNvSpPr/>
            <p:nvPr/>
          </p:nvSpPr>
          <p:spPr>
            <a:xfrm>
              <a:off x="6637320" y="39924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2960" y="41367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836960" y="2333520"/>
            <a:ext cx="359892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9" dur="3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2" dur="3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n Isoceles Trian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triangle with sides 3 cm, 4 cm and 5 c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20:42:33Z</dcterms:created>
  <dc:creator>sykesr</dc:creator>
  <dc:description/>
  <dc:language>en-US</dc:language>
  <cp:lastModifiedBy>Ministry of Education</cp:lastModifiedBy>
  <dcterms:modified xsi:type="dcterms:W3CDTF">2008-08-05T02:57:43Z</dcterms:modified>
  <cp:revision>24</cp:revision>
  <dc:subject/>
  <dc:title>1.3 Construction Drawing</dc:title>
</cp:coreProperties>
</file>