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FA3E-80F9-4C45-B1F2-7D86B0E8B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03F5-61CB-4CA3-9F1D-B0B05ED7D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1E13-C3D0-4740-AE92-C5C206ECA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CD91-D5B4-46A2-BDD9-11682C5F2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01175-C653-4B89-81E8-197B762BD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D9BBD-160A-485E-AC81-971574A61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AA80B-590B-4B4B-86F9-73C6DFA12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C0DBC-F3A4-4D00-B236-2AECBB4CA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EF30F-6786-4C5C-A647-48357D6E8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AC313-9A4F-4129-8333-9C11E5414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C0253-E2CE-49E5-8279-9D5799C0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CDC7-5EB0-42D0-93FD-FAA763165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826AA-0109-4626-9973-446FABB6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E7855-7A09-4F7A-BEE1-F5A5FB5B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04FF9-D550-4EC4-9975-D7FDD5830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B7ED0-6C32-44D6-88C6-2A3F84B45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4C59C-8197-42EB-B3B3-221DDC94A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3185-EFF1-4494-BF2D-CB2180025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1349-73EE-4118-B245-6EEB88677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6450-C23B-4549-B376-D14B7C8C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F6F8-D038-4187-877A-0E0B13F2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E38B-AA84-47BB-BC3E-4E621B4D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9293-7827-4232-B82C-89C15B1D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7CC0-108E-455F-97BF-3E0C6B4D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810FE-96C1-4D38-A521-82899F5ABB67}" type="slidenum">
              <a:rPr b="0" lang="en-A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C9D33-4E48-45A6-B305-B3AA8FEF10AC}" type="slidenum">
              <a:rPr b="0" lang="en-A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" Target="slide27.xml"/><Relationship Id="rId6" Type="http://schemas.openxmlformats.org/officeDocument/2006/relationships/slide" Target="slide27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38.xml"/><Relationship Id="rId10" Type="http://schemas.openxmlformats.org/officeDocument/2006/relationships/slide" Target="slide38.xml"/><Relationship Id="rId11" Type="http://schemas.openxmlformats.org/officeDocument/2006/relationships/slide" Target="slide56.xml"/><Relationship Id="rId12" Type="http://schemas.openxmlformats.org/officeDocument/2006/relationships/slide" Target="slide56.xml"/><Relationship Id="rId13" Type="http://schemas.openxmlformats.org/officeDocument/2006/relationships/slide" Target="slide63.xml"/><Relationship Id="rId14" Type="http://schemas.openxmlformats.org/officeDocument/2006/relationships/slide" Target="slide63.xml"/><Relationship Id="rId15" Type="http://schemas.openxmlformats.org/officeDocument/2006/relationships/slide" Target="slide33.xml"/><Relationship Id="rId16" Type="http://schemas.openxmlformats.org/officeDocument/2006/relationships/slide" Target="slide33.xml"/><Relationship Id="rId17" Type="http://schemas.openxmlformats.org/officeDocument/2006/relationships/slide" Target="slide82.xml"/><Relationship Id="rId1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8.xml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7.xml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3.xml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8.xml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4.xml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56.xml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63.xml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1.xml"/><Relationship Id="rId3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1.xml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1.xml"/><Relationship Id="rId3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409760" y="2379600"/>
            <a:ext cx="632448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1.3 Construction Draw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Line Through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035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the Compass point on A and draw an arc that crosses the line in 2 pla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280120" y="307188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calene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172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ep 1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ule a line and measure 5 cm along i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8" name=""/>
          <p:cNvSpPr/>
          <p:nvPr/>
        </p:nvSpPr>
        <p:spPr>
          <a:xfrm>
            <a:off x="5342040" y="4805280"/>
            <a:ext cx="360360" cy="1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"/>
          <p:cNvSpPr/>
          <p:nvPr/>
        </p:nvSpPr>
        <p:spPr>
          <a:xfrm>
            <a:off x="5700600" y="480708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"/>
          <p:cNvSpPr/>
          <p:nvPr/>
        </p:nvSpPr>
        <p:spPr>
          <a:xfrm>
            <a:off x="6058080" y="480708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"/>
          <p:cNvSpPr/>
          <p:nvPr/>
        </p:nvSpPr>
        <p:spPr>
          <a:xfrm>
            <a:off x="6429240" y="480708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"/>
          <p:cNvSpPr/>
          <p:nvPr/>
        </p:nvSpPr>
        <p:spPr>
          <a:xfrm>
            <a:off x="6786720" y="480708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"/>
          <p:cNvSpPr/>
          <p:nvPr/>
        </p:nvSpPr>
        <p:spPr>
          <a:xfrm flipV="1">
            <a:off x="5342040" y="4976280"/>
            <a:ext cx="251928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"/>
          <p:cNvSpPr/>
          <p:nvPr/>
        </p:nvSpPr>
        <p:spPr>
          <a:xfrm flipV="1">
            <a:off x="5340240" y="4975200"/>
            <a:ext cx="18003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>
            <a:off x="5051520" y="4630680"/>
            <a:ext cx="2408040" cy="231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08" dur="indefinite" restart="never" nodeType="tmRoot">
          <p:childTnLst>
            <p:seq>
              <p:cTn id="1409" dur="indefinite" nodeType="mainSeq">
                <p:childTnLst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4" dur="3000"/>
                                        <p:tgtEl>
                                          <p:spTgt spid="1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9" dur="1000"/>
                                        <p:tgtEl>
                                          <p:spTgt spid="1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3" dur="1000"/>
                                        <p:tgtEl>
                                          <p:spTgt spid="1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7" dur="1000"/>
                                        <p:tgtEl>
                                          <p:spTgt spid="1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8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1" dur="1000"/>
                                        <p:tgtEl>
                                          <p:spTgt spid="1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5" dur="1000"/>
                                        <p:tgtEl>
                                          <p:spTgt spid="1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0" dur="500"/>
                                        <p:tgtEl>
                                          <p:spTgt spid="1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calene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7" name=""/>
          <p:cNvSpPr/>
          <p:nvPr/>
        </p:nvSpPr>
        <p:spPr>
          <a:xfrm>
            <a:off x="4259160" y="3882960"/>
            <a:ext cx="2159280" cy="2158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>
            <a:off x="4224240" y="3643200"/>
            <a:ext cx="930240" cy="25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5021280" y="4630680"/>
            <a:ext cx="1452600" cy="150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 flipV="1">
            <a:off x="5340240" y="4975200"/>
            <a:ext cx="180036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>
            <a:off x="5079960" y="3801960"/>
            <a:ext cx="44928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"/>
          <p:cNvSpPr/>
          <p:nvPr/>
        </p:nvSpPr>
        <p:spPr>
          <a:xfrm>
            <a:off x="4260960" y="3884760"/>
            <a:ext cx="2158920" cy="21589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172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ep 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t the compass to 3cm and draw an arc above the lin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04" name=""/>
          <p:cNvGrpSpPr/>
          <p:nvPr/>
        </p:nvGrpSpPr>
        <p:grpSpPr>
          <a:xfrm>
            <a:off x="5192640" y="4835520"/>
            <a:ext cx="287280" cy="288720"/>
            <a:chOff x="5192640" y="4835520"/>
            <a:chExt cx="287280" cy="288720"/>
          </a:xfrm>
        </p:grpSpPr>
        <p:sp>
          <p:nvSpPr>
            <p:cNvPr id="1905" name=""/>
            <p:cNvSpPr/>
            <p:nvPr/>
          </p:nvSpPr>
          <p:spPr>
            <a:xfrm>
              <a:off x="5337000" y="483552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5192640" y="497988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1441" dur="indefinite" restart="never" nodeType="tmRoot">
          <p:childTnLst>
            <p:seq>
              <p:cTn id="1442" dur="indefinite" nodeType="mainSeq">
                <p:childTnLst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7" dur="2000"/>
                                        <p:tgtEl>
                                          <p:spTgt spid="1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52" dur="2000"/>
                                        <p:tgtEl>
                                          <p:spTgt spid="1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55" dur="2000"/>
                                        <p:tgtEl>
                                          <p:spTgt spid="1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8" dur="2000"/>
                                        <p:tgtEl>
                                          <p:spTgt spid="19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calene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8" name=""/>
          <p:cNvSpPr/>
          <p:nvPr/>
        </p:nvSpPr>
        <p:spPr>
          <a:xfrm>
            <a:off x="4259160" y="3882960"/>
            <a:ext cx="2159280" cy="215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"/>
          <p:cNvSpPr/>
          <p:nvPr/>
        </p:nvSpPr>
        <p:spPr>
          <a:xfrm>
            <a:off x="4224240" y="3643200"/>
            <a:ext cx="930240" cy="25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"/>
          <p:cNvSpPr/>
          <p:nvPr/>
        </p:nvSpPr>
        <p:spPr>
          <a:xfrm>
            <a:off x="5079960" y="3801960"/>
            <a:ext cx="44928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172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ep 3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t the compass to 4cm and draw an arc above the lin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12" name=""/>
          <p:cNvGrpSpPr/>
          <p:nvPr/>
        </p:nvGrpSpPr>
        <p:grpSpPr>
          <a:xfrm>
            <a:off x="6991200" y="4835520"/>
            <a:ext cx="287280" cy="288720"/>
            <a:chOff x="6991200" y="4835520"/>
            <a:chExt cx="287280" cy="288720"/>
          </a:xfrm>
        </p:grpSpPr>
        <p:sp>
          <p:nvSpPr>
            <p:cNvPr id="1913" name=""/>
            <p:cNvSpPr/>
            <p:nvPr/>
          </p:nvSpPr>
          <p:spPr>
            <a:xfrm>
              <a:off x="7135560" y="483552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991200" y="497988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5" name=""/>
          <p:cNvSpPr/>
          <p:nvPr/>
        </p:nvSpPr>
        <p:spPr>
          <a:xfrm>
            <a:off x="5683320" y="3541680"/>
            <a:ext cx="2879640" cy="2879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>
            <a:off x="5021280" y="4630680"/>
            <a:ext cx="1452600" cy="150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 flipV="1">
            <a:off x="5340240" y="4975200"/>
            <a:ext cx="180036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"/>
          <p:cNvSpPr/>
          <p:nvPr/>
        </p:nvSpPr>
        <p:spPr>
          <a:xfrm>
            <a:off x="5979960" y="5791320"/>
            <a:ext cx="2525760" cy="66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>
            <a:off x="7561440" y="3556080"/>
            <a:ext cx="1031760" cy="23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>
            <a:off x="6256440" y="3454560"/>
            <a:ext cx="1377720" cy="44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>
            <a:off x="5684760" y="3543480"/>
            <a:ext cx="2879640" cy="287964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60" dur="indefinite" restart="never" nodeType="tmRoot">
          <p:childTnLst>
            <p:seq>
              <p:cTn id="1461" dur="indefinite" nodeType="mainSeq">
                <p:childTnLst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6" dur="2000"/>
                                        <p:tgtEl>
                                          <p:spTgt spid="1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71" dur="3000"/>
                                        <p:tgtEl>
                                          <p:spTgt spid="1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74" dur="3000"/>
                                        <p:tgtEl>
                                          <p:spTgt spid="1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7" dur="2000"/>
                                        <p:tgtEl>
                                          <p:spTgt spid="19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0" dur="2000"/>
                                        <p:tgtEl>
                                          <p:spTgt spid="19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calene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3" name=""/>
          <p:cNvSpPr/>
          <p:nvPr/>
        </p:nvSpPr>
        <p:spPr>
          <a:xfrm>
            <a:off x="4259160" y="3882960"/>
            <a:ext cx="2159280" cy="215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4224240" y="3643200"/>
            <a:ext cx="930240" cy="25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5079960" y="3801960"/>
            <a:ext cx="44928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172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ep 4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oin the 2 end points to the intersection of the arc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7" name=""/>
          <p:cNvSpPr/>
          <p:nvPr/>
        </p:nvSpPr>
        <p:spPr>
          <a:xfrm>
            <a:off x="5683320" y="3541680"/>
            <a:ext cx="287964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5021280" y="4630680"/>
            <a:ext cx="1452600" cy="150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 flipV="1">
            <a:off x="5340240" y="4975200"/>
            <a:ext cx="180036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5979960" y="5791320"/>
            <a:ext cx="2525760" cy="66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7561440" y="3556080"/>
            <a:ext cx="1031760" cy="23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6256440" y="3454560"/>
            <a:ext cx="1377720" cy="44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 flipV="1">
            <a:off x="5326200" y="4092120"/>
            <a:ext cx="653760" cy="88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 flipH="1" flipV="1">
            <a:off x="5994360" y="4106520"/>
            <a:ext cx="1146240" cy="871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82" dur="indefinite" restart="never" nodeType="tmRoot">
          <p:childTnLst>
            <p:seq>
              <p:cTn id="1483" dur="indefinite" nodeType="mainSeq">
                <p:childTnLst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8" dur="2000"/>
                                        <p:tgtEl>
                                          <p:spTgt spid="1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3" dur="2000"/>
                                        <p:tgtEl>
                                          <p:spTgt spid="1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calene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6" name=""/>
          <p:cNvSpPr/>
          <p:nvPr/>
        </p:nvSpPr>
        <p:spPr>
          <a:xfrm>
            <a:off x="4259160" y="3882960"/>
            <a:ext cx="2159280" cy="215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4224240" y="3643200"/>
            <a:ext cx="930240" cy="25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5079960" y="3801960"/>
            <a:ext cx="44928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172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Congratulati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is a scalene (3,4,5) triangl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0" name=""/>
          <p:cNvSpPr/>
          <p:nvPr/>
        </p:nvSpPr>
        <p:spPr>
          <a:xfrm>
            <a:off x="5683320" y="3541680"/>
            <a:ext cx="287964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>
            <a:off x="5021280" y="4630680"/>
            <a:ext cx="1452600" cy="150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 flipV="1">
            <a:off x="5340240" y="4975200"/>
            <a:ext cx="18003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5979960" y="5791320"/>
            <a:ext cx="2525760" cy="66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>
            <a:off x="7561440" y="3556080"/>
            <a:ext cx="1031760" cy="23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6256440" y="3454560"/>
            <a:ext cx="1377720" cy="44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"/>
          <p:cNvSpPr/>
          <p:nvPr/>
        </p:nvSpPr>
        <p:spPr>
          <a:xfrm flipV="1">
            <a:off x="5326200" y="4092120"/>
            <a:ext cx="653760" cy="88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"/>
          <p:cNvSpPr/>
          <p:nvPr/>
        </p:nvSpPr>
        <p:spPr>
          <a:xfrm flipH="1" flipV="1">
            <a:off x="5994360" y="4106520"/>
            <a:ext cx="1146240" cy="871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"/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"/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do a rotation you need 3 things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obj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rot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entr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rotate arou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ng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say how far to g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2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tate the triangle ABC, 90° around point 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7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>
            <a:off x="601200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>
            <a:off x="6910560" y="2460600"/>
            <a:ext cx="55440" cy="1319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>
            <a:off x="6332400" y="209700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entre of R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 flipH="1" flipV="1">
            <a:off x="6172200" y="3455640"/>
            <a:ext cx="295200" cy="17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>
            <a:off x="5243400" y="5176800"/>
            <a:ext cx="271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The object to Ro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6012000" y="1197000"/>
            <a:ext cx="0" cy="3313080"/>
          </a:xfrm>
          <a:prstGeom prst="line">
            <a:avLst/>
          </a:prstGeom>
          <a:ln cap="rnd" w="32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6315120" y="1197000"/>
            <a:ext cx="0" cy="3313080"/>
          </a:xfrm>
          <a:prstGeom prst="line">
            <a:avLst/>
          </a:prstGeom>
          <a:ln cap="rnd" w="32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>
            <a:off x="6659640" y="1197000"/>
            <a:ext cx="0" cy="3313080"/>
          </a:xfrm>
          <a:prstGeom prst="line">
            <a:avLst/>
          </a:prstGeom>
          <a:ln cap="rnd" w="32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"/>
          <p:cNvSpPr/>
          <p:nvPr/>
        </p:nvSpPr>
        <p:spPr>
          <a:xfrm>
            <a:off x="5364000" y="1916280"/>
            <a:ext cx="1729080" cy="0"/>
          </a:xfrm>
          <a:prstGeom prst="line">
            <a:avLst/>
          </a:prstGeom>
          <a:ln cap="rnd" w="93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/>
          <p:nvPr/>
        </p:nvSpPr>
        <p:spPr>
          <a:xfrm>
            <a:off x="5364000" y="2349360"/>
            <a:ext cx="1729080" cy="0"/>
          </a:xfrm>
          <a:prstGeom prst="line">
            <a:avLst/>
          </a:prstGeom>
          <a:ln cap="rnd" w="93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>
            <a:off x="5364000" y="2781360"/>
            <a:ext cx="1729080" cy="0"/>
          </a:xfrm>
          <a:prstGeom prst="line">
            <a:avLst/>
          </a:prstGeom>
          <a:ln cap="rnd" w="93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>
            <a:off x="5364000" y="3141720"/>
            <a:ext cx="1729080" cy="0"/>
          </a:xfrm>
          <a:prstGeom prst="line">
            <a:avLst/>
          </a:prstGeom>
          <a:ln cap="rnd" w="93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>
            <a:off x="5364000" y="3860640"/>
            <a:ext cx="1729080" cy="0"/>
          </a:xfrm>
          <a:prstGeom prst="line">
            <a:avLst/>
          </a:prstGeom>
          <a:ln cap="rnd" w="93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>
            <a:off x="5364000" y="3500280"/>
            <a:ext cx="1729080" cy="0"/>
          </a:xfrm>
          <a:prstGeom prst="line">
            <a:avLst/>
          </a:prstGeom>
          <a:ln cap="rnd" w="93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otation should look something like thi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9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5" name=""/>
          <p:cNvGrpSpPr/>
          <p:nvPr/>
        </p:nvGrpSpPr>
        <p:grpSpPr>
          <a:xfrm>
            <a:off x="5994360" y="1930320"/>
            <a:ext cx="1988640" cy="3903840"/>
            <a:chOff x="5994360" y="1930320"/>
            <a:chExt cx="1988640" cy="3903840"/>
          </a:xfrm>
        </p:grpSpPr>
        <p:sp>
          <p:nvSpPr>
            <p:cNvPr id="1986" name=""/>
            <p:cNvSpPr/>
            <p:nvPr/>
          </p:nvSpPr>
          <p:spPr>
            <a:xfrm>
              <a:off x="6012360" y="1936800"/>
              <a:ext cx="650880" cy="193680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5994360" y="1930320"/>
              <a:ext cx="1988640" cy="39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8" name=""/>
          <p:cNvSpPr/>
          <p:nvPr/>
        </p:nvSpPr>
        <p:spPr>
          <a:xfrm>
            <a:off x="602604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 rot="5400000">
            <a:off x="7634160" y="225252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>
            <a:off x="6081840" y="1930320"/>
            <a:ext cx="2728800" cy="885960"/>
          </a:xfrm>
          <a:custGeom>
            <a:avLst/>
            <a:gdLst/>
            <a:ahLst/>
            <a:rect l="l" t="t" r="r" b="b"/>
            <a:pathLst>
              <a:path w="1719" h="558">
                <a:moveTo>
                  <a:pt x="0" y="0"/>
                </a:moveTo>
                <a:cubicBezTo>
                  <a:pt x="357" y="5"/>
                  <a:pt x="527" y="5"/>
                  <a:pt x="832" y="37"/>
                </a:cubicBezTo>
                <a:cubicBezTo>
                  <a:pt x="928" y="47"/>
                  <a:pt x="1011" y="81"/>
                  <a:pt x="1097" y="119"/>
                </a:cubicBezTo>
                <a:cubicBezTo>
                  <a:pt x="1123" y="131"/>
                  <a:pt x="1152" y="137"/>
                  <a:pt x="1179" y="146"/>
                </a:cubicBezTo>
                <a:cubicBezTo>
                  <a:pt x="1188" y="149"/>
                  <a:pt x="1207" y="155"/>
                  <a:pt x="1207" y="155"/>
                </a:cubicBezTo>
                <a:cubicBezTo>
                  <a:pt x="1250" y="185"/>
                  <a:pt x="1223" y="170"/>
                  <a:pt x="1289" y="192"/>
                </a:cubicBezTo>
                <a:cubicBezTo>
                  <a:pt x="1298" y="195"/>
                  <a:pt x="1307" y="198"/>
                  <a:pt x="1316" y="201"/>
                </a:cubicBezTo>
                <a:cubicBezTo>
                  <a:pt x="1325" y="204"/>
                  <a:pt x="1344" y="210"/>
                  <a:pt x="1344" y="210"/>
                </a:cubicBezTo>
                <a:cubicBezTo>
                  <a:pt x="1389" y="257"/>
                  <a:pt x="1327" y="196"/>
                  <a:pt x="1399" y="247"/>
                </a:cubicBezTo>
                <a:cubicBezTo>
                  <a:pt x="1409" y="254"/>
                  <a:pt x="1416" y="266"/>
                  <a:pt x="1426" y="274"/>
                </a:cubicBezTo>
                <a:cubicBezTo>
                  <a:pt x="1476" y="316"/>
                  <a:pt x="1432" y="275"/>
                  <a:pt x="1481" y="302"/>
                </a:cubicBezTo>
                <a:cubicBezTo>
                  <a:pt x="1518" y="322"/>
                  <a:pt x="1543" y="354"/>
                  <a:pt x="1582" y="366"/>
                </a:cubicBezTo>
                <a:cubicBezTo>
                  <a:pt x="1588" y="375"/>
                  <a:pt x="1592" y="386"/>
                  <a:pt x="1600" y="393"/>
                </a:cubicBezTo>
                <a:cubicBezTo>
                  <a:pt x="1607" y="399"/>
                  <a:pt x="1620" y="395"/>
                  <a:pt x="1627" y="402"/>
                </a:cubicBezTo>
                <a:cubicBezTo>
                  <a:pt x="1643" y="418"/>
                  <a:pt x="1652" y="439"/>
                  <a:pt x="1664" y="457"/>
                </a:cubicBezTo>
                <a:cubicBezTo>
                  <a:pt x="1684" y="488"/>
                  <a:pt x="1719" y="520"/>
                  <a:pt x="1719" y="55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"/>
          <p:cNvSpPr/>
          <p:nvPr/>
        </p:nvSpPr>
        <p:spPr>
          <a:xfrm>
            <a:off x="8674200" y="29192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>
            <a:off x="6053040" y="2960640"/>
            <a:ext cx="841320" cy="871560"/>
          </a:xfrm>
          <a:custGeom>
            <a:avLst/>
            <a:gdLst/>
            <a:ahLst/>
            <a:rect l="l" t="t" r="r" b="b"/>
            <a:pathLst>
              <a:path w="530" h="549">
                <a:moveTo>
                  <a:pt x="0" y="549"/>
                </a:moveTo>
                <a:cubicBezTo>
                  <a:pt x="8" y="433"/>
                  <a:pt x="8" y="393"/>
                  <a:pt x="54" y="302"/>
                </a:cubicBezTo>
                <a:cubicBezTo>
                  <a:pt x="76" y="260"/>
                  <a:pt x="82" y="226"/>
                  <a:pt x="128" y="210"/>
                </a:cubicBezTo>
                <a:cubicBezTo>
                  <a:pt x="161" y="161"/>
                  <a:pt x="217" y="150"/>
                  <a:pt x="256" y="110"/>
                </a:cubicBezTo>
                <a:cubicBezTo>
                  <a:pt x="318" y="45"/>
                  <a:pt x="439" y="0"/>
                  <a:pt x="53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6740640" y="26114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6676920" y="3513240"/>
            <a:ext cx="246240" cy="318960"/>
          </a:xfrm>
          <a:custGeom>
            <a:avLst/>
            <a:gdLst/>
            <a:ahLst/>
            <a:rect l="l" t="t" r="r" b="b"/>
            <a:pathLst>
              <a:path w="155" h="201">
                <a:moveTo>
                  <a:pt x="0" y="201"/>
                </a:moveTo>
                <a:cubicBezTo>
                  <a:pt x="3" y="167"/>
                  <a:pt x="2" y="133"/>
                  <a:pt x="9" y="100"/>
                </a:cubicBezTo>
                <a:cubicBezTo>
                  <a:pt x="15" y="74"/>
                  <a:pt x="38" y="69"/>
                  <a:pt x="55" y="54"/>
                </a:cubicBezTo>
                <a:cubicBezTo>
                  <a:pt x="65" y="46"/>
                  <a:pt x="71" y="33"/>
                  <a:pt x="82" y="27"/>
                </a:cubicBezTo>
                <a:cubicBezTo>
                  <a:pt x="105" y="15"/>
                  <a:pt x="132" y="12"/>
                  <a:pt x="155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6856560" y="3468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>
            <a:off x="638280" y="3425760"/>
            <a:ext cx="445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Now label the cor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94" dur="indefinite" restart="never" nodeType="tmRoot">
          <p:childTnLst>
            <p:seq>
              <p:cTn id="1495" dur="indefinite" nodeType="mainSeq">
                <p:childTnLst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1499" dur="2000" fill="hold"/>
                                        <p:tgtEl>
                                          <p:spTgt spid="19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9" dur="2000"/>
                                        <p:tgtEl>
                                          <p:spTgt spid="1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fill="hold">
                            <p:stCondLst>
                              <p:cond delay="9000"/>
                            </p:stCondLst>
                            <p:childTnLst>
                              <p:par>
                                <p:cTn id="15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3" dur="1000"/>
                                        <p:tgtEl>
                                          <p:spTgt spid="1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7" dur="2000"/>
                                        <p:tgtEl>
                                          <p:spTgt spid="1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1" dur="1000"/>
                                        <p:tgtEl>
                                          <p:spTgt spid="1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5" dur="2000"/>
                                        <p:tgtEl>
                                          <p:spTgt spid="1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9" dur="1000"/>
                                        <p:tgtEl>
                                          <p:spTgt spid="1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fill="hold">
                      <p:stCondLst>
                        <p:cond delay="indefinite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3" dur="1000"/>
                                        <p:tgtEl>
                                          <p:spTgt spid="19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8" dur="1000"/>
                                        <p:tgtEl>
                                          <p:spTgt spid="19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fill="hold">
                      <p:stCondLst>
                        <p:cond delay="indefinite"/>
                      </p:stCondLst>
                      <p:childTnLst>
                        <p:par>
                          <p:cTn id="1541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3" dur="1000"/>
                                        <p:tgtEl>
                                          <p:spTgt spid="19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Congratulati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is a rotation of triangle ABC 90° around 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9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5" name=""/>
          <p:cNvGrpSpPr/>
          <p:nvPr/>
        </p:nvGrpSpPr>
        <p:grpSpPr>
          <a:xfrm>
            <a:off x="5994360" y="1930320"/>
            <a:ext cx="1988640" cy="3903840"/>
            <a:chOff x="5994360" y="1930320"/>
            <a:chExt cx="1988640" cy="3903840"/>
          </a:xfrm>
        </p:grpSpPr>
        <p:sp>
          <p:nvSpPr>
            <p:cNvPr id="2006" name=""/>
            <p:cNvSpPr/>
            <p:nvPr/>
          </p:nvSpPr>
          <p:spPr>
            <a:xfrm>
              <a:off x="6012360" y="1936800"/>
              <a:ext cx="650880" cy="193680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5994360" y="1930320"/>
              <a:ext cx="1988640" cy="39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8" name=""/>
          <p:cNvSpPr/>
          <p:nvPr/>
        </p:nvSpPr>
        <p:spPr>
          <a:xfrm rot="5400000">
            <a:off x="7634160" y="225252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"/>
          <p:cNvSpPr/>
          <p:nvPr/>
        </p:nvSpPr>
        <p:spPr>
          <a:xfrm>
            <a:off x="8674200" y="29192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"/>
          <p:cNvSpPr/>
          <p:nvPr/>
        </p:nvSpPr>
        <p:spPr>
          <a:xfrm>
            <a:off x="6740640" y="26114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>
            <a:off x="6856560" y="3468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Line Through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868560" y="3068640"/>
            <a:ext cx="1440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950240" y="4395960"/>
            <a:ext cx="6858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281560" y="30718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868560" y="3068640"/>
            <a:ext cx="1440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950240" y="4395960"/>
            <a:ext cx="6858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281560" y="30718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27680" y="186696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950240" y="4395960"/>
            <a:ext cx="6858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992840" y="3541680"/>
            <a:ext cx="2193840" cy="8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921280" y="2541600"/>
            <a:ext cx="771480" cy="201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165560" y="1814400"/>
            <a:ext cx="3059280" cy="3059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868560" y="2662200"/>
            <a:ext cx="1775160" cy="299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289400" y="1604880"/>
            <a:ext cx="3852720" cy="15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021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p 1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the Compass point on A and draw an arc that crosses the line in 2 pla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5549760" y="3198960"/>
            <a:ext cx="287280" cy="288720"/>
            <a:chOff x="5549760" y="3198960"/>
            <a:chExt cx="287280" cy="288720"/>
          </a:xfrm>
        </p:grpSpPr>
        <p:sp>
          <p:nvSpPr>
            <p:cNvPr id="403" name=""/>
            <p:cNvSpPr/>
            <p:nvPr/>
          </p:nvSpPr>
          <p:spPr>
            <a:xfrm>
              <a:off x="5694120" y="319896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549760" y="334332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6402240" y="4035600"/>
            <a:ext cx="1043280" cy="10728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162320" y="1812960"/>
            <a:ext cx="3059280" cy="305892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276880" y="30686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9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2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Line Through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68560" y="3068640"/>
            <a:ext cx="1440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950240" y="4395960"/>
            <a:ext cx="6858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281560" y="30718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868560" y="3068640"/>
            <a:ext cx="1440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950240" y="4395960"/>
            <a:ext cx="6858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281560" y="30718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927680" y="186696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950240" y="4395960"/>
            <a:ext cx="6858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992840" y="3541680"/>
            <a:ext cx="2193840" cy="8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921280" y="2541600"/>
            <a:ext cx="771480" cy="201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165560" y="1814400"/>
            <a:ext cx="3059280" cy="305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868560" y="2662200"/>
            <a:ext cx="1775160" cy="299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289400" y="1604880"/>
            <a:ext cx="3852720" cy="15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021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the compass point on 1 and draw an arc below the 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"/>
          <p:cNvSpPr/>
          <p:nvPr/>
        </p:nvSpPr>
        <p:spPr>
          <a:xfrm>
            <a:off x="6402240" y="4035600"/>
            <a:ext cx="1043280" cy="10728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169040" y="3541680"/>
            <a:ext cx="5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778000" y="48164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80120" y="307188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Line Through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868560" y="3068640"/>
            <a:ext cx="1440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622760" y="1604880"/>
            <a:ext cx="3519360" cy="10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281560" y="30718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868560" y="3068640"/>
            <a:ext cx="1440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622760" y="1604880"/>
            <a:ext cx="3519360" cy="10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281560" y="30718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281560" y="30718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92840" y="3541680"/>
            <a:ext cx="2193840" cy="8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165560" y="1814400"/>
            <a:ext cx="3059280" cy="305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868560" y="2662200"/>
            <a:ext cx="1440000" cy="299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402240" y="4035600"/>
            <a:ext cx="1043280" cy="10728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965920" y="2438280"/>
            <a:ext cx="2448000" cy="2448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850160" y="2509920"/>
            <a:ext cx="623880" cy="23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921280" y="2714760"/>
            <a:ext cx="771480" cy="18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045200" y="3517920"/>
            <a:ext cx="287280" cy="288720"/>
            <a:chOff x="7045200" y="3517920"/>
            <a:chExt cx="287280" cy="288720"/>
          </a:xfrm>
        </p:grpSpPr>
        <p:sp>
          <p:nvSpPr>
            <p:cNvPr id="481" name=""/>
            <p:cNvSpPr/>
            <p:nvPr/>
          </p:nvSpPr>
          <p:spPr>
            <a:xfrm>
              <a:off x="7189560" y="351792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045200" y="366228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289400" y="1604880"/>
            <a:ext cx="3852720" cy="12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965920" y="2436840"/>
            <a:ext cx="2448000" cy="24480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169040" y="3541680"/>
            <a:ext cx="5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778000" y="48164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844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the compass point on 1 and draw an arc below the 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5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8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Line Through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868560" y="3068640"/>
            <a:ext cx="1440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622760" y="1604880"/>
            <a:ext cx="3519360" cy="10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281560" y="30718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868560" y="3068640"/>
            <a:ext cx="1440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622760" y="1604880"/>
            <a:ext cx="3519360" cy="10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281560" y="30718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992840" y="3541680"/>
            <a:ext cx="2193840" cy="8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165560" y="1814400"/>
            <a:ext cx="3059280" cy="305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868560" y="2662200"/>
            <a:ext cx="1440000" cy="299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402240" y="4035600"/>
            <a:ext cx="1043280" cy="10728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965920" y="2438280"/>
            <a:ext cx="2448000" cy="244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850160" y="2509920"/>
            <a:ext cx="623880" cy="23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921280" y="2714760"/>
            <a:ext cx="771480" cy="18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289400" y="1604880"/>
            <a:ext cx="3852720" cy="12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169040" y="3541680"/>
            <a:ext cx="5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778000" y="48164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844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out changing the compass, Draw another arc below the 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fad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4165560" y="1814400"/>
            <a:ext cx="3059280" cy="305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402240" y="4035600"/>
            <a:ext cx="1043280" cy="10728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716360" y="3597120"/>
            <a:ext cx="2448000" cy="2448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Line Through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868560" y="3068640"/>
            <a:ext cx="1440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622760" y="1604880"/>
            <a:ext cx="3519360" cy="10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281560" y="30718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868560" y="2662200"/>
            <a:ext cx="1440000" cy="299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965920" y="2438280"/>
            <a:ext cx="2448000" cy="244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837560" y="2525760"/>
            <a:ext cx="826920" cy="265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289400" y="1604880"/>
            <a:ext cx="3852720" cy="12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254560" y="2714760"/>
            <a:ext cx="1671840" cy="18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5783400" y="4708440"/>
            <a:ext cx="287280" cy="288720"/>
            <a:chOff x="5783400" y="4708440"/>
            <a:chExt cx="287280" cy="288720"/>
          </a:xfrm>
        </p:grpSpPr>
        <p:sp>
          <p:nvSpPr>
            <p:cNvPr id="549" name=""/>
            <p:cNvSpPr/>
            <p:nvPr/>
          </p:nvSpPr>
          <p:spPr>
            <a:xfrm>
              <a:off x="5927760" y="470844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783400" y="48528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81560" y="307188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7169040" y="3541680"/>
            <a:ext cx="5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778000" y="48164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3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p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out changing the compass, Draw another arc below the 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"/>
          <p:cNvSpPr/>
          <p:nvPr/>
        </p:nvSpPr>
        <p:spPr>
          <a:xfrm>
            <a:off x="4714920" y="3608280"/>
            <a:ext cx="2448000" cy="244800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1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4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Line Through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165560" y="1814400"/>
            <a:ext cx="3059280" cy="305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402240" y="4035600"/>
            <a:ext cx="1043280" cy="10728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716360" y="3597120"/>
            <a:ext cx="2448000" cy="244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868560" y="3068640"/>
            <a:ext cx="1440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622760" y="1604880"/>
            <a:ext cx="3519360" cy="10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281560" y="30718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868560" y="2662200"/>
            <a:ext cx="1440000" cy="299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965920" y="2438280"/>
            <a:ext cx="2448000" cy="244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837560" y="2525760"/>
            <a:ext cx="826920" cy="265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289400" y="1604880"/>
            <a:ext cx="3852720" cy="12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254560" y="2714760"/>
            <a:ext cx="1671840" cy="18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281560" y="307188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021280" y="2641680"/>
            <a:ext cx="2773440" cy="2903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7169040" y="3541680"/>
            <a:ext cx="5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778000" y="48164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ule a line from A to where the arcs from 1 and 2 cro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"/>
          <p:cNvSpPr/>
          <p:nvPr/>
        </p:nvSpPr>
        <p:spPr>
          <a:xfrm>
            <a:off x="2452680" y="547200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4" dur="5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Line Through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gratulations that is a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erpendicular Line Through Point 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"/>
          <p:cNvSpPr/>
          <p:nvPr/>
        </p:nvSpPr>
        <p:spPr>
          <a:xfrm>
            <a:off x="4165560" y="1814400"/>
            <a:ext cx="3059280" cy="305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402240" y="4035600"/>
            <a:ext cx="1043280" cy="10728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716360" y="3597120"/>
            <a:ext cx="2448000" cy="244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868560" y="3068640"/>
            <a:ext cx="1440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622760" y="1604880"/>
            <a:ext cx="3519360" cy="10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281560" y="30718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868560" y="2662200"/>
            <a:ext cx="1440000" cy="299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965920" y="2438280"/>
            <a:ext cx="2448000" cy="244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7837560" y="2525760"/>
            <a:ext cx="826920" cy="265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289400" y="1604880"/>
            <a:ext cx="3852720" cy="12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254560" y="2714760"/>
            <a:ext cx="1671840" cy="18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281560" y="307188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021280" y="2641680"/>
            <a:ext cx="2773440" cy="2903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>
            <a:hlinkClick r:id="rId1" action="ppaction://hlinksldjump"/>
          </p:cNvPr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>
            <a:hlinkClick r:id="rId2" action="ppaction://hlinksldjump"/>
          </p:cNvPr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6" dur="1000" autoRev="1" fill="hold"/>
                                        <p:tgtEl>
                                          <p:spTgt spid="6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gle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isect the angle BA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"/>
          <p:cNvSpPr/>
          <p:nvPr/>
        </p:nvSpPr>
        <p:spPr>
          <a:xfrm>
            <a:off x="7147080" y="41274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335560" y="22273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410000" y="50529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742000" y="2514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155000" y="43848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856040" y="52196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917960" y="2583000"/>
            <a:ext cx="2293920" cy="2670120"/>
          </a:xfrm>
          <a:custGeom>
            <a:avLst/>
            <a:gdLst/>
            <a:ahLst/>
            <a:rect l="l" t="t" r="r" b="b"/>
            <a:pathLst>
              <a:path w="2240" h="1682">
                <a:moveTo>
                  <a:pt x="878" y="0"/>
                </a:moveTo>
                <a:lnTo>
                  <a:pt x="2240" y="1161"/>
                </a:lnTo>
                <a:lnTo>
                  <a:pt x="0" y="16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452680" y="547200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gle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the Compass at A and Draw 2 arcs that cross each of the arms of the ang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"/>
          <p:cNvSpPr/>
          <p:nvPr/>
        </p:nvSpPr>
        <p:spPr>
          <a:xfrm>
            <a:off x="4917960" y="2583000"/>
            <a:ext cx="2293920" cy="2670120"/>
          </a:xfrm>
          <a:custGeom>
            <a:avLst/>
            <a:gdLst/>
            <a:ahLst/>
            <a:rect l="l" t="t" r="r" b="b"/>
            <a:pathLst>
              <a:path w="2240" h="1682">
                <a:moveTo>
                  <a:pt x="878" y="0"/>
                </a:moveTo>
                <a:lnTo>
                  <a:pt x="2240" y="1161"/>
                </a:lnTo>
                <a:lnTo>
                  <a:pt x="0" y="16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7147080" y="41274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335560" y="22273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410000" y="50529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5742000" y="2514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7155000" y="43848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856040" y="52196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Menu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>
            <a:hlinkClick r:id="rId1" action="ppaction://hlinksldjump"/>
          </p:cNvPr>
          <p:cNvSpPr/>
          <p:nvPr/>
        </p:nvSpPr>
        <p:spPr>
          <a:xfrm>
            <a:off x="3332160" y="2622600"/>
            <a:ext cx="2306520" cy="638280"/>
          </a:xfrm>
          <a:custGeom>
            <a:avLst/>
            <a:gdLst>
              <a:gd name="textAreaLeft" fmla="*/ 41040 w 2306520"/>
              <a:gd name="textAreaRight" fmla="*/ 2265480 w 230652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78023" h="21600">
                <a:moveTo>
                  <a:pt x="0" y="0"/>
                </a:moveTo>
                <a:lnTo>
                  <a:pt x="78023" y="0"/>
                </a:lnTo>
                <a:lnTo>
                  <a:pt x="78023" y="21600"/>
                </a:lnTo>
                <a:lnTo>
                  <a:pt x="0" y="21600"/>
                </a:lnTo>
                <a:close/>
              </a:path>
              <a:path fill="lightenLess" w="78023" h="21600">
                <a:moveTo>
                  <a:pt x="0" y="0"/>
                </a:moveTo>
                <a:lnTo>
                  <a:pt x="78023" y="0"/>
                </a:lnTo>
                <a:lnTo>
                  <a:pt x="76623" y="1400"/>
                </a:lnTo>
                <a:lnTo>
                  <a:pt x="1400" y="1400"/>
                </a:lnTo>
                <a:close/>
              </a:path>
              <a:path fill="darken" w="78023" h="21600">
                <a:moveTo>
                  <a:pt x="78023" y="0"/>
                </a:moveTo>
                <a:lnTo>
                  <a:pt x="78023" y="21600"/>
                </a:lnTo>
                <a:lnTo>
                  <a:pt x="76623" y="20200"/>
                </a:lnTo>
                <a:lnTo>
                  <a:pt x="76623" y="1400"/>
                </a:lnTo>
                <a:close/>
              </a:path>
              <a:path fill="darkenLess" w="78023" h="21600">
                <a:moveTo>
                  <a:pt x="780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23" y="20200"/>
                </a:lnTo>
                <a:close/>
              </a:path>
              <a:path fill="lighten" w="780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7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>
            <a:hlinkClick r:id="rId2" action="ppaction://hlinksldjump"/>
          </p:cNvPr>
          <p:cNvSpPr/>
          <p:nvPr/>
        </p:nvSpPr>
        <p:spPr>
          <a:xfrm>
            <a:off x="3317760" y="2608200"/>
            <a:ext cx="234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Perpendicular Bis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>
            <a:hlinkClick r:id="rId3" action="ppaction://hlinksldjump"/>
          </p:cNvPr>
          <p:cNvSpPr/>
          <p:nvPr/>
        </p:nvSpPr>
        <p:spPr>
          <a:xfrm>
            <a:off x="3335400" y="3357720"/>
            <a:ext cx="2306520" cy="637920"/>
          </a:xfrm>
          <a:custGeom>
            <a:avLst/>
            <a:gdLst>
              <a:gd name="textAreaLeft" fmla="*/ 41040 w 2306520"/>
              <a:gd name="textAreaRight" fmla="*/ 2265480 w 2306520"/>
              <a:gd name="textAreaTop" fmla="*/ 41040 h 637920"/>
              <a:gd name="textAreaBottom" fmla="*/ 596880 h 637920"/>
            </a:gdLst>
            <a:ahLst/>
            <a:rect l="textAreaLeft" t="textAreaTop" r="textAreaRight" b="textAreaBottom"/>
            <a:pathLst>
              <a:path w="78067" h="21600">
                <a:moveTo>
                  <a:pt x="0" y="0"/>
                </a:moveTo>
                <a:lnTo>
                  <a:pt x="78067" y="0"/>
                </a:lnTo>
                <a:lnTo>
                  <a:pt x="78067" y="21600"/>
                </a:lnTo>
                <a:lnTo>
                  <a:pt x="0" y="21600"/>
                </a:lnTo>
                <a:close/>
              </a:path>
              <a:path fill="lightenLess" w="78067" h="21600">
                <a:moveTo>
                  <a:pt x="0" y="0"/>
                </a:moveTo>
                <a:lnTo>
                  <a:pt x="78067" y="0"/>
                </a:lnTo>
                <a:lnTo>
                  <a:pt x="76667" y="1400"/>
                </a:lnTo>
                <a:lnTo>
                  <a:pt x="1400" y="1400"/>
                </a:lnTo>
                <a:close/>
              </a:path>
              <a:path fill="darken" w="78067" h="21600">
                <a:moveTo>
                  <a:pt x="78067" y="0"/>
                </a:moveTo>
                <a:lnTo>
                  <a:pt x="78067" y="21600"/>
                </a:lnTo>
                <a:lnTo>
                  <a:pt x="76667" y="20200"/>
                </a:lnTo>
                <a:lnTo>
                  <a:pt x="76667" y="1400"/>
                </a:lnTo>
                <a:close/>
              </a:path>
              <a:path fill="darkenLess" w="78067" h="21600">
                <a:moveTo>
                  <a:pt x="780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67" y="20200"/>
                </a:lnTo>
                <a:close/>
              </a:path>
              <a:path fill="lighten" w="780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7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>
            <a:hlinkClick r:id="rId4" action="ppaction://hlinksldjump"/>
          </p:cNvPr>
          <p:cNvSpPr/>
          <p:nvPr/>
        </p:nvSpPr>
        <p:spPr>
          <a:xfrm>
            <a:off x="3321000" y="3328920"/>
            <a:ext cx="23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Perp. Line through a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rId5" action="ppaction://hlinksldjump"/>
          </p:cNvPr>
          <p:cNvSpPr/>
          <p:nvPr/>
        </p:nvSpPr>
        <p:spPr>
          <a:xfrm>
            <a:off x="3341520" y="5194440"/>
            <a:ext cx="2306880" cy="423720"/>
          </a:xfrm>
          <a:custGeom>
            <a:avLst/>
            <a:gdLst>
              <a:gd name="textAreaLeft" fmla="*/ 27360 w 2306880"/>
              <a:gd name="textAreaRight" fmla="*/ 2279520 w 2306880"/>
              <a:gd name="textAreaTop" fmla="*/ 27360 h 423720"/>
              <a:gd name="textAreaBottom" fmla="*/ 396360 h 423720"/>
            </a:gdLst>
            <a:ahLst/>
            <a:rect l="textAreaLeft" t="textAreaTop" r="textAreaRight" b="textAreaBottom"/>
            <a:pathLst>
              <a:path w="117516" h="21600">
                <a:moveTo>
                  <a:pt x="0" y="0"/>
                </a:moveTo>
                <a:lnTo>
                  <a:pt x="117516" y="0"/>
                </a:lnTo>
                <a:lnTo>
                  <a:pt x="117516" y="21600"/>
                </a:lnTo>
                <a:lnTo>
                  <a:pt x="0" y="21600"/>
                </a:lnTo>
                <a:close/>
              </a:path>
              <a:path fill="lightenLess" w="117516" h="21600">
                <a:moveTo>
                  <a:pt x="0" y="0"/>
                </a:moveTo>
                <a:lnTo>
                  <a:pt x="117516" y="0"/>
                </a:lnTo>
                <a:lnTo>
                  <a:pt x="116117" y="1400"/>
                </a:lnTo>
                <a:lnTo>
                  <a:pt x="1400" y="1400"/>
                </a:lnTo>
                <a:close/>
              </a:path>
              <a:path fill="darken" w="117516" h="21600">
                <a:moveTo>
                  <a:pt x="117516" y="0"/>
                </a:moveTo>
                <a:lnTo>
                  <a:pt x="117516" y="21600"/>
                </a:lnTo>
                <a:lnTo>
                  <a:pt x="116117" y="20200"/>
                </a:lnTo>
                <a:lnTo>
                  <a:pt x="116117" y="1400"/>
                </a:lnTo>
                <a:close/>
              </a:path>
              <a:path fill="darkenLess" w="117516" h="21600">
                <a:moveTo>
                  <a:pt x="1175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6117" y="20200"/>
                </a:lnTo>
                <a:close/>
              </a:path>
              <a:path fill="lighten" w="1175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7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>
            <a:hlinkClick r:id="rId6" action="ppaction://hlinksldjump"/>
          </p:cNvPr>
          <p:cNvSpPr/>
          <p:nvPr/>
        </p:nvSpPr>
        <p:spPr>
          <a:xfrm>
            <a:off x="3341520" y="5210280"/>
            <a:ext cx="231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Parallel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rId7" action="ppaction://hlinksldjump"/>
          </p:cNvPr>
          <p:cNvSpPr/>
          <p:nvPr/>
        </p:nvSpPr>
        <p:spPr>
          <a:xfrm>
            <a:off x="3325680" y="4103640"/>
            <a:ext cx="2306880" cy="424080"/>
          </a:xfrm>
          <a:custGeom>
            <a:avLst/>
            <a:gdLst>
              <a:gd name="textAreaLeft" fmla="*/ 27360 w 2306880"/>
              <a:gd name="textAreaRight" fmla="*/ 2279520 w 2306880"/>
              <a:gd name="textAreaTop" fmla="*/ 27360 h 424080"/>
              <a:gd name="textAreaBottom" fmla="*/ 396720 h 424080"/>
            </a:gdLst>
            <a:ahLst/>
            <a:rect l="textAreaLeft" t="textAreaTop" r="textAreaRight" b="textAreaBottom"/>
            <a:pathLst>
              <a:path w="117417" h="21600">
                <a:moveTo>
                  <a:pt x="0" y="0"/>
                </a:moveTo>
                <a:lnTo>
                  <a:pt x="117417" y="0"/>
                </a:lnTo>
                <a:lnTo>
                  <a:pt x="117417" y="21600"/>
                </a:lnTo>
                <a:lnTo>
                  <a:pt x="0" y="21600"/>
                </a:lnTo>
                <a:close/>
              </a:path>
              <a:path fill="lightenLess" w="117417" h="21600">
                <a:moveTo>
                  <a:pt x="0" y="0"/>
                </a:moveTo>
                <a:lnTo>
                  <a:pt x="117417" y="0"/>
                </a:lnTo>
                <a:lnTo>
                  <a:pt x="116017" y="1400"/>
                </a:lnTo>
                <a:lnTo>
                  <a:pt x="1400" y="1400"/>
                </a:lnTo>
                <a:close/>
              </a:path>
              <a:path fill="darken" w="117417" h="21600">
                <a:moveTo>
                  <a:pt x="117417" y="0"/>
                </a:moveTo>
                <a:lnTo>
                  <a:pt x="117417" y="21600"/>
                </a:lnTo>
                <a:lnTo>
                  <a:pt x="116017" y="20200"/>
                </a:lnTo>
                <a:lnTo>
                  <a:pt x="116017" y="1400"/>
                </a:lnTo>
                <a:close/>
              </a:path>
              <a:path fill="darkenLess" w="117417" h="21600">
                <a:moveTo>
                  <a:pt x="117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6017" y="20200"/>
                </a:lnTo>
                <a:close/>
              </a:path>
              <a:path fill="lighten" w="117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7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rId8" action="ppaction://hlinksldjump"/>
          </p:cNvPr>
          <p:cNvSpPr/>
          <p:nvPr/>
        </p:nvSpPr>
        <p:spPr>
          <a:xfrm>
            <a:off x="3327480" y="409104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ngle Bis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87680" y="2244600"/>
            <a:ext cx="22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76320" y="2241720"/>
            <a:ext cx="23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ansform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9" action="ppaction://hlinksldjump"/>
          </p:cNvPr>
          <p:cNvSpPr/>
          <p:nvPr/>
        </p:nvSpPr>
        <p:spPr>
          <a:xfrm>
            <a:off x="887400" y="2614680"/>
            <a:ext cx="2306520" cy="638280"/>
          </a:xfrm>
          <a:custGeom>
            <a:avLst/>
            <a:gdLst>
              <a:gd name="textAreaLeft" fmla="*/ 41040 w 2306520"/>
              <a:gd name="textAreaRight" fmla="*/ 2265480 w 230652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78023" h="21600">
                <a:moveTo>
                  <a:pt x="0" y="0"/>
                </a:moveTo>
                <a:lnTo>
                  <a:pt x="78023" y="0"/>
                </a:lnTo>
                <a:lnTo>
                  <a:pt x="78023" y="21600"/>
                </a:lnTo>
                <a:lnTo>
                  <a:pt x="0" y="21600"/>
                </a:lnTo>
                <a:close/>
              </a:path>
              <a:path fill="lightenLess" w="78023" h="21600">
                <a:moveTo>
                  <a:pt x="0" y="0"/>
                </a:moveTo>
                <a:lnTo>
                  <a:pt x="78023" y="0"/>
                </a:lnTo>
                <a:lnTo>
                  <a:pt x="76623" y="1400"/>
                </a:lnTo>
                <a:lnTo>
                  <a:pt x="1400" y="1400"/>
                </a:lnTo>
                <a:close/>
              </a:path>
              <a:path fill="darken" w="78023" h="21600">
                <a:moveTo>
                  <a:pt x="78023" y="0"/>
                </a:moveTo>
                <a:lnTo>
                  <a:pt x="78023" y="21600"/>
                </a:lnTo>
                <a:lnTo>
                  <a:pt x="76623" y="20200"/>
                </a:lnTo>
                <a:lnTo>
                  <a:pt x="76623" y="1400"/>
                </a:lnTo>
                <a:close/>
              </a:path>
              <a:path fill="darkenLess" w="78023" h="21600">
                <a:moveTo>
                  <a:pt x="780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23" y="20200"/>
                </a:lnTo>
                <a:close/>
              </a:path>
              <a:path fill="lighten" w="780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rId10" action="ppaction://hlinksldjump"/>
          </p:cNvPr>
          <p:cNvSpPr/>
          <p:nvPr/>
        </p:nvSpPr>
        <p:spPr>
          <a:xfrm>
            <a:off x="873000" y="260028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Ref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88840" y="3341520"/>
            <a:ext cx="2306880" cy="638280"/>
          </a:xfrm>
          <a:custGeom>
            <a:avLst/>
            <a:gdLst>
              <a:gd name="textAreaLeft" fmla="*/ 41040 w 2306880"/>
              <a:gd name="textAreaRight" fmla="*/ 2265840 w 230688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78035" h="21600">
                <a:moveTo>
                  <a:pt x="0" y="0"/>
                </a:moveTo>
                <a:lnTo>
                  <a:pt x="78035" y="0"/>
                </a:lnTo>
                <a:lnTo>
                  <a:pt x="78035" y="21600"/>
                </a:lnTo>
                <a:lnTo>
                  <a:pt x="0" y="21600"/>
                </a:lnTo>
                <a:close/>
              </a:path>
              <a:path fill="lightenLess" w="78035" h="21600">
                <a:moveTo>
                  <a:pt x="0" y="0"/>
                </a:moveTo>
                <a:lnTo>
                  <a:pt x="78035" y="0"/>
                </a:lnTo>
                <a:lnTo>
                  <a:pt x="76635" y="1400"/>
                </a:lnTo>
                <a:lnTo>
                  <a:pt x="1400" y="1400"/>
                </a:lnTo>
                <a:close/>
              </a:path>
              <a:path fill="darken" w="78035" h="21600">
                <a:moveTo>
                  <a:pt x="78035" y="0"/>
                </a:moveTo>
                <a:lnTo>
                  <a:pt x="78035" y="21600"/>
                </a:lnTo>
                <a:lnTo>
                  <a:pt x="76635" y="20200"/>
                </a:lnTo>
                <a:lnTo>
                  <a:pt x="76635" y="1400"/>
                </a:lnTo>
                <a:close/>
              </a:path>
              <a:path fill="darkenLess" w="78035" h="21600">
                <a:moveTo>
                  <a:pt x="78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35" y="20200"/>
                </a:lnTo>
                <a:close/>
              </a:path>
              <a:path fill="lighten" w="78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88840" y="3341520"/>
            <a:ext cx="231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rId11" action="ppaction://hlinksldjump"/>
          </p:cNvPr>
          <p:cNvSpPr/>
          <p:nvPr/>
        </p:nvSpPr>
        <p:spPr>
          <a:xfrm>
            <a:off x="887400" y="4097160"/>
            <a:ext cx="2306520" cy="638280"/>
          </a:xfrm>
          <a:custGeom>
            <a:avLst/>
            <a:gdLst>
              <a:gd name="textAreaLeft" fmla="*/ 41040 w 2306520"/>
              <a:gd name="textAreaRight" fmla="*/ 2265480 w 230652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78023" h="21600">
                <a:moveTo>
                  <a:pt x="0" y="0"/>
                </a:moveTo>
                <a:lnTo>
                  <a:pt x="78023" y="0"/>
                </a:lnTo>
                <a:lnTo>
                  <a:pt x="78023" y="21600"/>
                </a:lnTo>
                <a:lnTo>
                  <a:pt x="0" y="21600"/>
                </a:lnTo>
                <a:close/>
              </a:path>
              <a:path fill="lightenLess" w="78023" h="21600">
                <a:moveTo>
                  <a:pt x="0" y="0"/>
                </a:moveTo>
                <a:lnTo>
                  <a:pt x="78023" y="0"/>
                </a:lnTo>
                <a:lnTo>
                  <a:pt x="76623" y="1400"/>
                </a:lnTo>
                <a:lnTo>
                  <a:pt x="1400" y="1400"/>
                </a:lnTo>
                <a:close/>
              </a:path>
              <a:path fill="darken" w="78023" h="21600">
                <a:moveTo>
                  <a:pt x="78023" y="0"/>
                </a:moveTo>
                <a:lnTo>
                  <a:pt x="78023" y="21600"/>
                </a:lnTo>
                <a:lnTo>
                  <a:pt x="76623" y="20200"/>
                </a:lnTo>
                <a:lnTo>
                  <a:pt x="76623" y="1400"/>
                </a:lnTo>
                <a:close/>
              </a:path>
              <a:path fill="darkenLess" w="78023" h="21600">
                <a:moveTo>
                  <a:pt x="780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23" y="20200"/>
                </a:lnTo>
                <a:close/>
              </a:path>
              <a:path fill="lighten" w="780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12" action="ppaction://hlinksldjump"/>
          </p:cNvPr>
          <p:cNvSpPr/>
          <p:nvPr/>
        </p:nvSpPr>
        <p:spPr>
          <a:xfrm>
            <a:off x="860400" y="409716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rId13" action="ppaction://hlinksldjump"/>
          </p:cNvPr>
          <p:cNvSpPr/>
          <p:nvPr/>
        </p:nvSpPr>
        <p:spPr>
          <a:xfrm>
            <a:off x="887400" y="4871880"/>
            <a:ext cx="2306520" cy="638280"/>
          </a:xfrm>
          <a:custGeom>
            <a:avLst/>
            <a:gdLst>
              <a:gd name="textAreaLeft" fmla="*/ 41040 w 2306520"/>
              <a:gd name="textAreaRight" fmla="*/ 2265480 w 230652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78023" h="21600">
                <a:moveTo>
                  <a:pt x="0" y="0"/>
                </a:moveTo>
                <a:lnTo>
                  <a:pt x="78023" y="0"/>
                </a:lnTo>
                <a:lnTo>
                  <a:pt x="78023" y="21600"/>
                </a:lnTo>
                <a:lnTo>
                  <a:pt x="0" y="21600"/>
                </a:lnTo>
                <a:close/>
              </a:path>
              <a:path fill="lightenLess" w="78023" h="21600">
                <a:moveTo>
                  <a:pt x="0" y="0"/>
                </a:moveTo>
                <a:lnTo>
                  <a:pt x="78023" y="0"/>
                </a:lnTo>
                <a:lnTo>
                  <a:pt x="76623" y="1400"/>
                </a:lnTo>
                <a:lnTo>
                  <a:pt x="1400" y="1400"/>
                </a:lnTo>
                <a:close/>
              </a:path>
              <a:path fill="darken" w="78023" h="21600">
                <a:moveTo>
                  <a:pt x="78023" y="0"/>
                </a:moveTo>
                <a:lnTo>
                  <a:pt x="78023" y="21600"/>
                </a:lnTo>
                <a:lnTo>
                  <a:pt x="76623" y="20200"/>
                </a:lnTo>
                <a:lnTo>
                  <a:pt x="76623" y="1400"/>
                </a:lnTo>
                <a:close/>
              </a:path>
              <a:path fill="darkenLess" w="78023" h="21600">
                <a:moveTo>
                  <a:pt x="780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23" y="20200"/>
                </a:lnTo>
                <a:close/>
              </a:path>
              <a:path fill="lighten" w="780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>
            <a:hlinkClick r:id="rId14" action="ppaction://hlinksldjump"/>
          </p:cNvPr>
          <p:cNvSpPr/>
          <p:nvPr/>
        </p:nvSpPr>
        <p:spPr>
          <a:xfrm>
            <a:off x="873000" y="485784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Enlar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rId15" action="ppaction://hlinksldjump"/>
          </p:cNvPr>
          <p:cNvSpPr/>
          <p:nvPr/>
        </p:nvSpPr>
        <p:spPr>
          <a:xfrm>
            <a:off x="3328920" y="4643280"/>
            <a:ext cx="2306880" cy="422280"/>
          </a:xfrm>
          <a:custGeom>
            <a:avLst/>
            <a:gdLst>
              <a:gd name="textAreaLeft" fmla="*/ 27360 w 2306880"/>
              <a:gd name="textAreaRight" fmla="*/ 2279520 w 230688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117917" h="21600">
                <a:moveTo>
                  <a:pt x="0" y="0"/>
                </a:moveTo>
                <a:lnTo>
                  <a:pt x="117917" y="0"/>
                </a:lnTo>
                <a:lnTo>
                  <a:pt x="117917" y="21600"/>
                </a:lnTo>
                <a:lnTo>
                  <a:pt x="0" y="21600"/>
                </a:lnTo>
                <a:close/>
              </a:path>
              <a:path fill="lightenLess" w="117917" h="21600">
                <a:moveTo>
                  <a:pt x="0" y="0"/>
                </a:moveTo>
                <a:lnTo>
                  <a:pt x="117917" y="0"/>
                </a:lnTo>
                <a:lnTo>
                  <a:pt x="116517" y="1400"/>
                </a:lnTo>
                <a:lnTo>
                  <a:pt x="1400" y="1400"/>
                </a:lnTo>
                <a:close/>
              </a:path>
              <a:path fill="darken" w="117917" h="21600">
                <a:moveTo>
                  <a:pt x="117917" y="0"/>
                </a:moveTo>
                <a:lnTo>
                  <a:pt x="117917" y="21600"/>
                </a:lnTo>
                <a:lnTo>
                  <a:pt x="116517" y="20200"/>
                </a:lnTo>
                <a:lnTo>
                  <a:pt x="116517" y="1400"/>
                </a:lnTo>
                <a:close/>
              </a:path>
              <a:path fill="darkenLess" w="117917" h="21600">
                <a:moveTo>
                  <a:pt x="1179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6517" y="20200"/>
                </a:lnTo>
                <a:close/>
              </a:path>
              <a:path fill="lighten" w="1179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7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rId16" action="ppaction://hlinksldjump"/>
          </p:cNvPr>
          <p:cNvSpPr/>
          <p:nvPr/>
        </p:nvSpPr>
        <p:spPr>
          <a:xfrm>
            <a:off x="3328920" y="462924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° 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76920" y="2616120"/>
            <a:ext cx="2306520" cy="638280"/>
          </a:xfrm>
          <a:custGeom>
            <a:avLst/>
            <a:gdLst>
              <a:gd name="textAreaLeft" fmla="*/ 41040 w 2306520"/>
              <a:gd name="textAreaRight" fmla="*/ 2265480 w 230652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78023" h="21600">
                <a:moveTo>
                  <a:pt x="0" y="0"/>
                </a:moveTo>
                <a:lnTo>
                  <a:pt x="78023" y="0"/>
                </a:lnTo>
                <a:lnTo>
                  <a:pt x="78023" y="21600"/>
                </a:lnTo>
                <a:lnTo>
                  <a:pt x="0" y="21600"/>
                </a:lnTo>
                <a:close/>
              </a:path>
              <a:path fill="lightenLess" w="78023" h="21600">
                <a:moveTo>
                  <a:pt x="0" y="0"/>
                </a:moveTo>
                <a:lnTo>
                  <a:pt x="78023" y="0"/>
                </a:lnTo>
                <a:lnTo>
                  <a:pt x="76623" y="1400"/>
                </a:lnTo>
                <a:lnTo>
                  <a:pt x="1400" y="1400"/>
                </a:lnTo>
                <a:close/>
              </a:path>
              <a:path fill="darken" w="78023" h="21600">
                <a:moveTo>
                  <a:pt x="78023" y="0"/>
                </a:moveTo>
                <a:lnTo>
                  <a:pt x="78023" y="21600"/>
                </a:lnTo>
                <a:lnTo>
                  <a:pt x="76623" y="20200"/>
                </a:lnTo>
                <a:lnTo>
                  <a:pt x="76623" y="1400"/>
                </a:lnTo>
                <a:close/>
              </a:path>
              <a:path fill="darkenLess" w="78023" h="21600">
                <a:moveTo>
                  <a:pt x="780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23" y="20200"/>
                </a:lnTo>
                <a:close/>
              </a:path>
              <a:path fill="lighten" w="780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5ff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78360" y="3365640"/>
            <a:ext cx="2306880" cy="637920"/>
          </a:xfrm>
          <a:custGeom>
            <a:avLst/>
            <a:gdLst>
              <a:gd name="textAreaLeft" fmla="*/ 41040 w 2306880"/>
              <a:gd name="textAreaRight" fmla="*/ 2265840 w 2306880"/>
              <a:gd name="textAreaTop" fmla="*/ 41040 h 637920"/>
              <a:gd name="textAreaBottom" fmla="*/ 596880 h 637920"/>
            </a:gdLst>
            <a:ahLst/>
            <a:rect l="textAreaLeft" t="textAreaTop" r="textAreaRight" b="textAreaBottom"/>
            <a:pathLst>
              <a:path w="78079" h="21600">
                <a:moveTo>
                  <a:pt x="0" y="0"/>
                </a:moveTo>
                <a:lnTo>
                  <a:pt x="78079" y="0"/>
                </a:lnTo>
                <a:lnTo>
                  <a:pt x="78079" y="21600"/>
                </a:lnTo>
                <a:lnTo>
                  <a:pt x="0" y="21600"/>
                </a:lnTo>
                <a:close/>
              </a:path>
              <a:path fill="lightenLess" w="78079" h="21600">
                <a:moveTo>
                  <a:pt x="0" y="0"/>
                </a:moveTo>
                <a:lnTo>
                  <a:pt x="78079" y="0"/>
                </a:lnTo>
                <a:lnTo>
                  <a:pt x="76679" y="1400"/>
                </a:lnTo>
                <a:lnTo>
                  <a:pt x="1400" y="1400"/>
                </a:lnTo>
                <a:close/>
              </a:path>
              <a:path fill="darken" w="78079" h="21600">
                <a:moveTo>
                  <a:pt x="78079" y="0"/>
                </a:moveTo>
                <a:lnTo>
                  <a:pt x="78079" y="21600"/>
                </a:lnTo>
                <a:lnTo>
                  <a:pt x="76679" y="20200"/>
                </a:lnTo>
                <a:lnTo>
                  <a:pt x="76679" y="1400"/>
                </a:lnTo>
                <a:close/>
              </a:path>
              <a:path fill="darkenLess" w="78079" h="21600">
                <a:moveTo>
                  <a:pt x="780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79" y="20200"/>
                </a:lnTo>
                <a:close/>
              </a:path>
              <a:path fill="lighten" w="780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5ff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7" action="ppaction://hlinksldjump"/>
          </p:cNvPr>
          <p:cNvSpPr/>
          <p:nvPr/>
        </p:nvSpPr>
        <p:spPr>
          <a:xfrm>
            <a:off x="5775480" y="4105440"/>
            <a:ext cx="2306520" cy="637920"/>
          </a:xfrm>
          <a:custGeom>
            <a:avLst/>
            <a:gdLst>
              <a:gd name="textAreaLeft" fmla="*/ 41040 w 2306520"/>
              <a:gd name="textAreaRight" fmla="*/ 2265480 w 2306520"/>
              <a:gd name="textAreaTop" fmla="*/ 41040 h 637920"/>
              <a:gd name="textAreaBottom" fmla="*/ 596880 h 637920"/>
            </a:gdLst>
            <a:ahLst/>
            <a:rect l="textAreaLeft" t="textAreaTop" r="textAreaRight" b="textAreaBottom"/>
            <a:pathLst>
              <a:path w="78067" h="21600">
                <a:moveTo>
                  <a:pt x="0" y="0"/>
                </a:moveTo>
                <a:lnTo>
                  <a:pt x="78067" y="0"/>
                </a:lnTo>
                <a:lnTo>
                  <a:pt x="78067" y="21600"/>
                </a:lnTo>
                <a:lnTo>
                  <a:pt x="0" y="21600"/>
                </a:lnTo>
                <a:close/>
              </a:path>
              <a:path fill="lightenLess" w="78067" h="21600">
                <a:moveTo>
                  <a:pt x="0" y="0"/>
                </a:moveTo>
                <a:lnTo>
                  <a:pt x="78067" y="0"/>
                </a:lnTo>
                <a:lnTo>
                  <a:pt x="76667" y="1400"/>
                </a:lnTo>
                <a:lnTo>
                  <a:pt x="1400" y="1400"/>
                </a:lnTo>
                <a:close/>
              </a:path>
              <a:path fill="darken" w="78067" h="21600">
                <a:moveTo>
                  <a:pt x="78067" y="0"/>
                </a:moveTo>
                <a:lnTo>
                  <a:pt x="78067" y="21600"/>
                </a:lnTo>
                <a:lnTo>
                  <a:pt x="76667" y="20200"/>
                </a:lnTo>
                <a:lnTo>
                  <a:pt x="76667" y="1400"/>
                </a:lnTo>
                <a:close/>
              </a:path>
              <a:path fill="darkenLess" w="78067" h="21600">
                <a:moveTo>
                  <a:pt x="780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67" y="20200"/>
                </a:lnTo>
                <a:close/>
              </a:path>
              <a:path fill="lighten" w="780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5ff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48400" y="2232000"/>
            <a:ext cx="128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340080" y="1816200"/>
            <a:ext cx="2306520" cy="433440"/>
          </a:xfrm>
          <a:custGeom>
            <a:avLst/>
            <a:gdLst>
              <a:gd name="textAreaLeft" fmla="*/ 28080 w 2306520"/>
              <a:gd name="textAreaRight" fmla="*/ 2278440 w 23065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14865" h="21600">
                <a:moveTo>
                  <a:pt x="0" y="0"/>
                </a:moveTo>
                <a:lnTo>
                  <a:pt x="114865" y="0"/>
                </a:lnTo>
                <a:lnTo>
                  <a:pt x="114865" y="21600"/>
                </a:lnTo>
                <a:lnTo>
                  <a:pt x="0" y="21600"/>
                </a:lnTo>
                <a:close/>
              </a:path>
              <a:path fill="lightenLess" w="114865" h="21600">
                <a:moveTo>
                  <a:pt x="0" y="0"/>
                </a:moveTo>
                <a:lnTo>
                  <a:pt x="114865" y="0"/>
                </a:lnTo>
                <a:lnTo>
                  <a:pt x="113465" y="1400"/>
                </a:lnTo>
                <a:lnTo>
                  <a:pt x="1400" y="1400"/>
                </a:lnTo>
                <a:close/>
              </a:path>
              <a:path fill="darken" w="114865" h="21600">
                <a:moveTo>
                  <a:pt x="114865" y="0"/>
                </a:moveTo>
                <a:lnTo>
                  <a:pt x="114865" y="21600"/>
                </a:lnTo>
                <a:lnTo>
                  <a:pt x="113465" y="20200"/>
                </a:lnTo>
                <a:lnTo>
                  <a:pt x="113465" y="1400"/>
                </a:lnTo>
                <a:close/>
              </a:path>
              <a:path fill="darkenLess" w="114865" h="21600">
                <a:moveTo>
                  <a:pt x="1148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465" y="20200"/>
                </a:lnTo>
                <a:close/>
              </a:path>
              <a:path fill="lighten" w="1148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b63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340080" y="1816200"/>
            <a:ext cx="23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91320" y="2616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bout a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791320" y="337824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rom a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91320" y="414036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quidistant between 2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343320" y="5746680"/>
            <a:ext cx="2306520" cy="420840"/>
          </a:xfrm>
          <a:custGeom>
            <a:avLst/>
            <a:gdLst>
              <a:gd name="textAreaLeft" fmla="*/ 27000 w 2306520"/>
              <a:gd name="textAreaRight" fmla="*/ 2279520 w 2306520"/>
              <a:gd name="textAreaTop" fmla="*/ 27000 h 420840"/>
              <a:gd name="textAreaBottom" fmla="*/ 393840 h 420840"/>
            </a:gdLst>
            <a:ahLst/>
            <a:rect l="textAreaLeft" t="textAreaTop" r="textAreaRight" b="textAreaBottom"/>
            <a:pathLst>
              <a:path w="118302" h="21600">
                <a:moveTo>
                  <a:pt x="0" y="0"/>
                </a:moveTo>
                <a:lnTo>
                  <a:pt x="118302" y="0"/>
                </a:lnTo>
                <a:lnTo>
                  <a:pt x="118302" y="21600"/>
                </a:lnTo>
                <a:lnTo>
                  <a:pt x="0" y="21600"/>
                </a:lnTo>
                <a:close/>
              </a:path>
              <a:path fill="lightenLess" w="118302" h="21600">
                <a:moveTo>
                  <a:pt x="0" y="0"/>
                </a:moveTo>
                <a:lnTo>
                  <a:pt x="118302" y="0"/>
                </a:lnTo>
                <a:lnTo>
                  <a:pt x="116902" y="1400"/>
                </a:lnTo>
                <a:lnTo>
                  <a:pt x="1400" y="1400"/>
                </a:lnTo>
                <a:close/>
              </a:path>
              <a:path fill="darken" w="118302" h="21600">
                <a:moveTo>
                  <a:pt x="118302" y="0"/>
                </a:moveTo>
                <a:lnTo>
                  <a:pt x="118302" y="21600"/>
                </a:lnTo>
                <a:lnTo>
                  <a:pt x="116902" y="20200"/>
                </a:lnTo>
                <a:lnTo>
                  <a:pt x="116902" y="1400"/>
                </a:lnTo>
                <a:close/>
              </a:path>
              <a:path fill="darkenLess" w="118302" h="21600">
                <a:moveTo>
                  <a:pt x="1183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6902" y="20200"/>
                </a:lnTo>
                <a:close/>
              </a:path>
              <a:path fill="lighten" w="1183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b63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43320" y="576108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Sha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gle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p 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the Compass at A and Draw 2 arcs that cross each of the arms of the ang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"/>
          <p:cNvSpPr/>
          <p:nvPr/>
        </p:nvSpPr>
        <p:spPr>
          <a:xfrm>
            <a:off x="6008760" y="3193920"/>
            <a:ext cx="2411280" cy="2409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6705720" y="3076560"/>
            <a:ext cx="1596960" cy="6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8026560" y="3513240"/>
            <a:ext cx="449280" cy="23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168960" y="5138640"/>
            <a:ext cx="1886040" cy="5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024600" y="3645000"/>
            <a:ext cx="244440" cy="78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5283360" y="2075040"/>
            <a:ext cx="3163680" cy="3789360"/>
            <a:chOff x="5283360" y="2075040"/>
            <a:chExt cx="3163680" cy="3789360"/>
          </a:xfrm>
        </p:grpSpPr>
        <p:sp>
          <p:nvSpPr>
            <p:cNvPr id="641" name=""/>
            <p:cNvSpPr/>
            <p:nvPr/>
          </p:nvSpPr>
          <p:spPr>
            <a:xfrm>
              <a:off x="5283360" y="2075040"/>
              <a:ext cx="3163680" cy="12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705720" y="2903400"/>
              <a:ext cx="1306440" cy="296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486400" y="4137120"/>
              <a:ext cx="826920" cy="27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067440" y="4340160"/>
              <a:ext cx="711360" cy="20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4917960" y="2583000"/>
            <a:ext cx="2293920" cy="2670120"/>
          </a:xfrm>
          <a:custGeom>
            <a:avLst/>
            <a:gdLst/>
            <a:ahLst/>
            <a:rect l="l" t="t" r="r" b="b"/>
            <a:pathLst>
              <a:path w="2240" h="1682">
                <a:moveTo>
                  <a:pt x="878" y="0"/>
                </a:moveTo>
                <a:lnTo>
                  <a:pt x="2240" y="1161"/>
                </a:lnTo>
                <a:lnTo>
                  <a:pt x="0" y="16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006960" y="3192480"/>
            <a:ext cx="2411640" cy="240984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7077240" y="4284720"/>
            <a:ext cx="287280" cy="288720"/>
            <a:chOff x="7077240" y="4284720"/>
            <a:chExt cx="287280" cy="288720"/>
          </a:xfrm>
        </p:grpSpPr>
        <p:sp>
          <p:nvSpPr>
            <p:cNvPr id="648" name=""/>
            <p:cNvSpPr/>
            <p:nvPr/>
          </p:nvSpPr>
          <p:spPr>
            <a:xfrm>
              <a:off x="7221600" y="428472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077240" y="442908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7147080" y="41274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335560" y="22273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410000" y="50529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742000" y="2514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7155000" y="43848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856040" y="52196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06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09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gle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raw an arc from 1 in the middle of the ang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8" name=""/>
          <p:cNvSpPr/>
          <p:nvPr/>
        </p:nvSpPr>
        <p:spPr>
          <a:xfrm>
            <a:off x="6008760" y="3193920"/>
            <a:ext cx="2411280" cy="2409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705720" y="3076560"/>
            <a:ext cx="1596960" cy="6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8026560" y="3513240"/>
            <a:ext cx="449280" cy="23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168960" y="5138640"/>
            <a:ext cx="1886040" cy="5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024600" y="3645000"/>
            <a:ext cx="244440" cy="78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5283360" y="2075040"/>
            <a:ext cx="3163680" cy="3789360"/>
            <a:chOff x="5283360" y="2075040"/>
            <a:chExt cx="3163680" cy="3789360"/>
          </a:xfrm>
        </p:grpSpPr>
        <p:sp>
          <p:nvSpPr>
            <p:cNvPr id="664" name=""/>
            <p:cNvSpPr/>
            <p:nvPr/>
          </p:nvSpPr>
          <p:spPr>
            <a:xfrm>
              <a:off x="5283360" y="2075040"/>
              <a:ext cx="3163680" cy="12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705720" y="2903400"/>
              <a:ext cx="1306440" cy="296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486400" y="4137120"/>
              <a:ext cx="826920" cy="27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067440" y="4340160"/>
              <a:ext cx="711360" cy="20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4917960" y="2583000"/>
            <a:ext cx="2293920" cy="2670120"/>
          </a:xfrm>
          <a:custGeom>
            <a:avLst/>
            <a:gdLst/>
            <a:ahLst/>
            <a:rect l="l" t="t" r="r" b="b"/>
            <a:pathLst>
              <a:path w="2240" h="1682">
                <a:moveTo>
                  <a:pt x="878" y="0"/>
                </a:moveTo>
                <a:lnTo>
                  <a:pt x="2240" y="1161"/>
                </a:lnTo>
                <a:lnTo>
                  <a:pt x="0" y="16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300720" y="309240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776920" y="4568760"/>
            <a:ext cx="4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7147080" y="41274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5335560" y="22273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410000" y="50529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742000" y="2514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7155000" y="43848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56040" y="52196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gle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raw an arc from 1 in the middle of the ang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6008760" y="3076560"/>
            <a:ext cx="2467080" cy="2773440"/>
            <a:chOff x="6008760" y="3076560"/>
            <a:chExt cx="2467080" cy="2773440"/>
          </a:xfrm>
        </p:grpSpPr>
        <p:sp>
          <p:nvSpPr>
            <p:cNvPr id="680" name=""/>
            <p:cNvSpPr/>
            <p:nvPr/>
          </p:nvSpPr>
          <p:spPr>
            <a:xfrm>
              <a:off x="6008760" y="3193920"/>
              <a:ext cx="2411280" cy="24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705720" y="3076560"/>
              <a:ext cx="1596960" cy="62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26560" y="3513240"/>
              <a:ext cx="449280" cy="233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168960" y="5138640"/>
              <a:ext cx="1886040" cy="53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024600" y="3645000"/>
              <a:ext cx="244440" cy="78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5413320" y="2379600"/>
            <a:ext cx="2124000" cy="2124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5283360" y="2075040"/>
            <a:ext cx="3163680" cy="3789360"/>
            <a:chOff x="5283360" y="2075040"/>
            <a:chExt cx="3163680" cy="3789360"/>
          </a:xfrm>
        </p:grpSpPr>
        <p:sp>
          <p:nvSpPr>
            <p:cNvPr id="687" name=""/>
            <p:cNvSpPr/>
            <p:nvPr/>
          </p:nvSpPr>
          <p:spPr>
            <a:xfrm>
              <a:off x="5283360" y="2075040"/>
              <a:ext cx="3163680" cy="12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705720" y="2903400"/>
              <a:ext cx="1306440" cy="296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486400" y="4137120"/>
              <a:ext cx="826920" cy="27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067440" y="4340160"/>
              <a:ext cx="711360" cy="20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"/>
          <p:cNvSpPr/>
          <p:nvPr/>
        </p:nvSpPr>
        <p:spPr>
          <a:xfrm>
            <a:off x="4917960" y="2583000"/>
            <a:ext cx="2293920" cy="2670120"/>
          </a:xfrm>
          <a:custGeom>
            <a:avLst/>
            <a:gdLst/>
            <a:ahLst/>
            <a:rect l="l" t="t" r="r" b="b"/>
            <a:pathLst>
              <a:path w="2240" h="1682">
                <a:moveTo>
                  <a:pt x="878" y="0"/>
                </a:moveTo>
                <a:lnTo>
                  <a:pt x="2240" y="1161"/>
                </a:lnTo>
                <a:lnTo>
                  <a:pt x="0" y="16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6319800" y="3313080"/>
            <a:ext cx="287280" cy="288720"/>
            <a:chOff x="6319800" y="3313080"/>
            <a:chExt cx="287280" cy="288720"/>
          </a:xfrm>
        </p:grpSpPr>
        <p:sp>
          <p:nvSpPr>
            <p:cNvPr id="693" name=""/>
            <p:cNvSpPr/>
            <p:nvPr/>
          </p:nvSpPr>
          <p:spPr>
            <a:xfrm>
              <a:off x="6464160" y="331308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319800" y="345744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5411880" y="2378160"/>
            <a:ext cx="2124000" cy="212400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300720" y="309240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5776920" y="4568760"/>
            <a:ext cx="4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7147080" y="41274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5335560" y="22273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410000" y="50529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742000" y="2514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7155000" y="43848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4856040" y="52196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2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5" dur="2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" dur="2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gle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out changing the compass, draw an arc from 2 that crosses the arc from 1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6008760" y="3076560"/>
            <a:ext cx="2467080" cy="2773440"/>
            <a:chOff x="6008760" y="3076560"/>
            <a:chExt cx="2467080" cy="2773440"/>
          </a:xfrm>
        </p:grpSpPr>
        <p:sp>
          <p:nvSpPr>
            <p:cNvPr id="707" name=""/>
            <p:cNvSpPr/>
            <p:nvPr/>
          </p:nvSpPr>
          <p:spPr>
            <a:xfrm>
              <a:off x="6008760" y="3193920"/>
              <a:ext cx="2411280" cy="24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705720" y="3076560"/>
              <a:ext cx="1596960" cy="62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026560" y="3513240"/>
              <a:ext cx="449280" cy="233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168960" y="5138640"/>
              <a:ext cx="1886040" cy="53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024600" y="3645000"/>
              <a:ext cx="244440" cy="78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2" name=""/>
          <p:cNvSpPr/>
          <p:nvPr/>
        </p:nvSpPr>
        <p:spPr>
          <a:xfrm>
            <a:off x="5413320" y="2379600"/>
            <a:ext cx="2124000" cy="21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5283360" y="2075040"/>
            <a:ext cx="3163680" cy="3789360"/>
            <a:chOff x="5283360" y="2075040"/>
            <a:chExt cx="3163680" cy="3789360"/>
          </a:xfrm>
        </p:grpSpPr>
        <p:sp>
          <p:nvSpPr>
            <p:cNvPr id="714" name=""/>
            <p:cNvSpPr/>
            <p:nvPr/>
          </p:nvSpPr>
          <p:spPr>
            <a:xfrm>
              <a:off x="5283360" y="2075040"/>
              <a:ext cx="3163680" cy="12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705720" y="2903400"/>
              <a:ext cx="1306440" cy="296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486400" y="4137120"/>
              <a:ext cx="826920" cy="27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067440" y="4340160"/>
              <a:ext cx="711360" cy="20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4917960" y="2583000"/>
            <a:ext cx="2293920" cy="2670120"/>
          </a:xfrm>
          <a:custGeom>
            <a:avLst/>
            <a:gdLst/>
            <a:ahLst/>
            <a:rect l="l" t="t" r="r" b="b"/>
            <a:pathLst>
              <a:path w="2240" h="1682">
                <a:moveTo>
                  <a:pt x="878" y="0"/>
                </a:moveTo>
                <a:lnTo>
                  <a:pt x="2240" y="1161"/>
                </a:lnTo>
                <a:lnTo>
                  <a:pt x="0" y="16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300720" y="309240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776920" y="4568760"/>
            <a:ext cx="4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7147080" y="41274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335560" y="22273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410000" y="50529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742000" y="2514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7155000" y="43848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856040" y="52196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5079960" y="3860640"/>
            <a:ext cx="2124000" cy="2124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614840" y="4267080"/>
            <a:ext cx="1379520" cy="198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850000" y="5153040"/>
            <a:ext cx="1639800" cy="90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6270480" y="3787920"/>
            <a:ext cx="1016280" cy="16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gle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p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out changing the compass, draw an arc from 2 that crosses the arc from 1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6008760" y="3076560"/>
            <a:ext cx="2467080" cy="2773440"/>
            <a:chOff x="6008760" y="3076560"/>
            <a:chExt cx="2467080" cy="2773440"/>
          </a:xfrm>
        </p:grpSpPr>
        <p:sp>
          <p:nvSpPr>
            <p:cNvPr id="734" name=""/>
            <p:cNvSpPr/>
            <p:nvPr/>
          </p:nvSpPr>
          <p:spPr>
            <a:xfrm>
              <a:off x="6008760" y="3193920"/>
              <a:ext cx="2411280" cy="24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705720" y="3076560"/>
              <a:ext cx="1596960" cy="62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026560" y="3513240"/>
              <a:ext cx="449280" cy="233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168960" y="5138640"/>
              <a:ext cx="1886040" cy="53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024600" y="3645000"/>
              <a:ext cx="244440" cy="78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9" name=""/>
          <p:cNvSpPr/>
          <p:nvPr/>
        </p:nvSpPr>
        <p:spPr>
          <a:xfrm>
            <a:off x="5413320" y="2379600"/>
            <a:ext cx="2124000" cy="21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5283360" y="2075040"/>
            <a:ext cx="3163680" cy="3789360"/>
            <a:chOff x="5283360" y="2075040"/>
            <a:chExt cx="3163680" cy="3789360"/>
          </a:xfrm>
        </p:grpSpPr>
        <p:sp>
          <p:nvSpPr>
            <p:cNvPr id="741" name=""/>
            <p:cNvSpPr/>
            <p:nvPr/>
          </p:nvSpPr>
          <p:spPr>
            <a:xfrm>
              <a:off x="5283360" y="2075040"/>
              <a:ext cx="3163680" cy="12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705720" y="2903400"/>
              <a:ext cx="1306440" cy="296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486400" y="4137120"/>
              <a:ext cx="826920" cy="27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67440" y="4340160"/>
              <a:ext cx="711360" cy="20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5" name=""/>
          <p:cNvSpPr/>
          <p:nvPr/>
        </p:nvSpPr>
        <p:spPr>
          <a:xfrm>
            <a:off x="4917960" y="2583000"/>
            <a:ext cx="2293920" cy="2670120"/>
          </a:xfrm>
          <a:custGeom>
            <a:avLst/>
            <a:gdLst/>
            <a:ahLst/>
            <a:rect l="l" t="t" r="r" b="b"/>
            <a:pathLst>
              <a:path w="2240" h="1682">
                <a:moveTo>
                  <a:pt x="878" y="0"/>
                </a:moveTo>
                <a:lnTo>
                  <a:pt x="2240" y="1161"/>
                </a:lnTo>
                <a:lnTo>
                  <a:pt x="0" y="16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6" name=""/>
          <p:cNvGrpSpPr/>
          <p:nvPr/>
        </p:nvGrpSpPr>
        <p:grpSpPr>
          <a:xfrm>
            <a:off x="5958000" y="4692600"/>
            <a:ext cx="287280" cy="288720"/>
            <a:chOff x="5958000" y="4692600"/>
            <a:chExt cx="287280" cy="288720"/>
          </a:xfrm>
        </p:grpSpPr>
        <p:sp>
          <p:nvSpPr>
            <p:cNvPr id="747" name=""/>
            <p:cNvSpPr/>
            <p:nvPr/>
          </p:nvSpPr>
          <p:spPr>
            <a:xfrm>
              <a:off x="6102360" y="469260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958000" y="483696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9" name=""/>
          <p:cNvSpPr/>
          <p:nvPr/>
        </p:nvSpPr>
        <p:spPr>
          <a:xfrm>
            <a:off x="5091120" y="3859200"/>
            <a:ext cx="2124000" cy="212400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6300720" y="309240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776920" y="4568760"/>
            <a:ext cx="4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7147080" y="41274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5335560" y="22273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410000" y="50529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742000" y="2514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155000" y="43848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856040" y="52196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8" dur="2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61" dur="2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2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"/>
          <p:cNvGrpSpPr/>
          <p:nvPr/>
        </p:nvGrpSpPr>
        <p:grpSpPr>
          <a:xfrm>
            <a:off x="4614840" y="3787920"/>
            <a:ext cx="2874960" cy="2468520"/>
            <a:chOff x="4614840" y="3787920"/>
            <a:chExt cx="2874960" cy="2468520"/>
          </a:xfrm>
        </p:grpSpPr>
        <p:sp>
          <p:nvSpPr>
            <p:cNvPr id="759" name=""/>
            <p:cNvSpPr/>
            <p:nvPr/>
          </p:nvSpPr>
          <p:spPr>
            <a:xfrm>
              <a:off x="5079960" y="3860640"/>
              <a:ext cx="2124000" cy="212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614840" y="4267080"/>
              <a:ext cx="1379520" cy="1989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850000" y="5153040"/>
              <a:ext cx="1639800" cy="90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270480" y="3787920"/>
              <a:ext cx="1016280" cy="162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gle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ule a line from the point of the angle to where the arcs from 1 and 2 cro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65" name=""/>
          <p:cNvGrpSpPr/>
          <p:nvPr/>
        </p:nvGrpSpPr>
        <p:grpSpPr>
          <a:xfrm>
            <a:off x="6008760" y="3076560"/>
            <a:ext cx="2467080" cy="2773440"/>
            <a:chOff x="6008760" y="3076560"/>
            <a:chExt cx="2467080" cy="2773440"/>
          </a:xfrm>
        </p:grpSpPr>
        <p:sp>
          <p:nvSpPr>
            <p:cNvPr id="766" name=""/>
            <p:cNvSpPr/>
            <p:nvPr/>
          </p:nvSpPr>
          <p:spPr>
            <a:xfrm>
              <a:off x="6008760" y="3193920"/>
              <a:ext cx="2411280" cy="24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705720" y="3076560"/>
              <a:ext cx="1596960" cy="62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8026560" y="3513240"/>
              <a:ext cx="449280" cy="233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168960" y="5138640"/>
              <a:ext cx="1886040" cy="53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024600" y="3645000"/>
              <a:ext cx="244440" cy="78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1" name=""/>
          <p:cNvSpPr/>
          <p:nvPr/>
        </p:nvSpPr>
        <p:spPr>
          <a:xfrm>
            <a:off x="5413320" y="2379600"/>
            <a:ext cx="2124000" cy="21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5283360" y="2075040"/>
            <a:ext cx="3163680" cy="3789360"/>
            <a:chOff x="5283360" y="2075040"/>
            <a:chExt cx="3163680" cy="3789360"/>
          </a:xfrm>
        </p:grpSpPr>
        <p:sp>
          <p:nvSpPr>
            <p:cNvPr id="773" name=""/>
            <p:cNvSpPr/>
            <p:nvPr/>
          </p:nvSpPr>
          <p:spPr>
            <a:xfrm>
              <a:off x="5283360" y="2075040"/>
              <a:ext cx="3163680" cy="12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705720" y="2903400"/>
              <a:ext cx="1306440" cy="296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486400" y="4137120"/>
              <a:ext cx="826920" cy="27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067440" y="4340160"/>
              <a:ext cx="711360" cy="20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7" name=""/>
          <p:cNvSpPr/>
          <p:nvPr/>
        </p:nvSpPr>
        <p:spPr>
          <a:xfrm>
            <a:off x="4917960" y="2583000"/>
            <a:ext cx="2293920" cy="2670120"/>
          </a:xfrm>
          <a:custGeom>
            <a:avLst/>
            <a:gdLst/>
            <a:ahLst/>
            <a:rect l="l" t="t" r="r" b="b"/>
            <a:pathLst>
              <a:path w="2240" h="1682">
                <a:moveTo>
                  <a:pt x="878" y="0"/>
                </a:moveTo>
                <a:lnTo>
                  <a:pt x="2240" y="1161"/>
                </a:lnTo>
                <a:lnTo>
                  <a:pt x="0" y="16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 flipH="1" flipV="1">
            <a:off x="3568320" y="3511440"/>
            <a:ext cx="363060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6300720" y="309240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776920" y="4568760"/>
            <a:ext cx="4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7147080" y="41274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335560" y="22273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4410000" y="50529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5742000" y="2514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155000" y="43848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4856040" y="52196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452680" y="547200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1" dur="5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2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8" name=""/>
          <p:cNvGrpSpPr/>
          <p:nvPr/>
        </p:nvGrpSpPr>
        <p:grpSpPr>
          <a:xfrm>
            <a:off x="4614840" y="3787920"/>
            <a:ext cx="2874960" cy="2468520"/>
            <a:chOff x="4614840" y="3787920"/>
            <a:chExt cx="2874960" cy="2468520"/>
          </a:xfrm>
        </p:grpSpPr>
        <p:sp>
          <p:nvSpPr>
            <p:cNvPr id="789" name=""/>
            <p:cNvSpPr/>
            <p:nvPr/>
          </p:nvSpPr>
          <p:spPr>
            <a:xfrm>
              <a:off x="5079960" y="3860640"/>
              <a:ext cx="2124000" cy="212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614840" y="4267080"/>
              <a:ext cx="1379520" cy="1989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850000" y="5153040"/>
              <a:ext cx="1639800" cy="90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270480" y="3787920"/>
              <a:ext cx="1016280" cy="162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gle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4" name="">
            <a:hlinkClick r:id="rId1" action="ppaction://hlinksldjump"/>
          </p:cNvPr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>
            <a:hlinkClick r:id="rId2" action="ppaction://hlinksldjump"/>
          </p:cNvPr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gratulations that is an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ngle Bisector of angle BA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6008760" y="3076560"/>
            <a:ext cx="2467080" cy="2773440"/>
            <a:chOff x="6008760" y="3076560"/>
            <a:chExt cx="2467080" cy="2773440"/>
          </a:xfrm>
        </p:grpSpPr>
        <p:sp>
          <p:nvSpPr>
            <p:cNvPr id="798" name=""/>
            <p:cNvSpPr/>
            <p:nvPr/>
          </p:nvSpPr>
          <p:spPr>
            <a:xfrm>
              <a:off x="6008760" y="3193920"/>
              <a:ext cx="2411280" cy="24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705720" y="3076560"/>
              <a:ext cx="1596960" cy="62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8026560" y="3513240"/>
              <a:ext cx="449280" cy="233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168960" y="5138640"/>
              <a:ext cx="1886040" cy="53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024600" y="3645000"/>
              <a:ext cx="244440" cy="78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3" name=""/>
          <p:cNvSpPr/>
          <p:nvPr/>
        </p:nvSpPr>
        <p:spPr>
          <a:xfrm>
            <a:off x="5413320" y="2379600"/>
            <a:ext cx="2124000" cy="21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5283360" y="2075040"/>
            <a:ext cx="3163680" cy="3789360"/>
            <a:chOff x="5283360" y="2075040"/>
            <a:chExt cx="3163680" cy="3789360"/>
          </a:xfrm>
        </p:grpSpPr>
        <p:sp>
          <p:nvSpPr>
            <p:cNvPr id="805" name=""/>
            <p:cNvSpPr/>
            <p:nvPr/>
          </p:nvSpPr>
          <p:spPr>
            <a:xfrm>
              <a:off x="5283360" y="2075040"/>
              <a:ext cx="3163680" cy="12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705720" y="2903400"/>
              <a:ext cx="1306440" cy="296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486400" y="4137120"/>
              <a:ext cx="826920" cy="27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067440" y="4340160"/>
              <a:ext cx="711360" cy="20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9" name=""/>
          <p:cNvSpPr/>
          <p:nvPr/>
        </p:nvSpPr>
        <p:spPr>
          <a:xfrm>
            <a:off x="4917960" y="2583000"/>
            <a:ext cx="2293920" cy="2670120"/>
          </a:xfrm>
          <a:custGeom>
            <a:avLst/>
            <a:gdLst/>
            <a:ahLst/>
            <a:rect l="l" t="t" r="r" b="b"/>
            <a:pathLst>
              <a:path w="2240" h="1682">
                <a:moveTo>
                  <a:pt x="878" y="0"/>
                </a:moveTo>
                <a:lnTo>
                  <a:pt x="2240" y="1161"/>
                </a:lnTo>
                <a:lnTo>
                  <a:pt x="0" y="16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H="1" flipV="1">
            <a:off x="3568320" y="3511440"/>
            <a:ext cx="363060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147080" y="41274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5335560" y="22273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410000" y="50529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5742000" y="2514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7155000" y="43848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856040" y="52196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ruct a line 4cm above and parallel to line AB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5308560" y="2708280"/>
            <a:ext cx="2952720" cy="2814840"/>
            <a:chOff x="5308560" y="2708280"/>
            <a:chExt cx="2952720" cy="2814840"/>
          </a:xfrm>
        </p:grpSpPr>
        <p:sp>
          <p:nvSpPr>
            <p:cNvPr id="820" name=""/>
            <p:cNvSpPr/>
            <p:nvPr/>
          </p:nvSpPr>
          <p:spPr>
            <a:xfrm flipH="1">
              <a:off x="5668920" y="3213000"/>
              <a:ext cx="201600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308560" y="49417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684920" y="27082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t your compass to 4c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5308560" y="2708280"/>
            <a:ext cx="2952720" cy="2814840"/>
            <a:chOff x="5308560" y="2708280"/>
            <a:chExt cx="2952720" cy="2814840"/>
          </a:xfrm>
        </p:grpSpPr>
        <p:sp>
          <p:nvSpPr>
            <p:cNvPr id="826" name=""/>
            <p:cNvSpPr/>
            <p:nvPr/>
          </p:nvSpPr>
          <p:spPr>
            <a:xfrm flipH="1">
              <a:off x="5668920" y="3213000"/>
              <a:ext cx="201600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308560" y="49417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684920" y="27082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an arc above line AB using each end as the cent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1" name=""/>
          <p:cNvSpPr/>
          <p:nvPr/>
        </p:nvSpPr>
        <p:spPr>
          <a:xfrm>
            <a:off x="4952880" y="4356000"/>
            <a:ext cx="1440000" cy="1440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4584600" y="5029200"/>
            <a:ext cx="12826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5626080" y="4292640"/>
            <a:ext cx="1003320" cy="787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946920" y="2489040"/>
            <a:ext cx="1440000" cy="1440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6845400" y="3009960"/>
            <a:ext cx="990360" cy="952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7683480" y="2425680"/>
            <a:ext cx="95256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7" name=""/>
          <p:cNvGrpSpPr/>
          <p:nvPr/>
        </p:nvGrpSpPr>
        <p:grpSpPr>
          <a:xfrm>
            <a:off x="5308560" y="2708280"/>
            <a:ext cx="2952720" cy="2814840"/>
            <a:chOff x="5308560" y="2708280"/>
            <a:chExt cx="2952720" cy="2814840"/>
          </a:xfrm>
        </p:grpSpPr>
        <p:sp>
          <p:nvSpPr>
            <p:cNvPr id="838" name=""/>
            <p:cNvSpPr/>
            <p:nvPr/>
          </p:nvSpPr>
          <p:spPr>
            <a:xfrm flipH="1">
              <a:off x="5668920" y="3213000"/>
              <a:ext cx="201600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308560" y="49417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684920" y="27082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1" name=""/>
          <p:cNvSpPr/>
          <p:nvPr/>
        </p:nvSpPr>
        <p:spPr>
          <a:xfrm>
            <a:off x="5803920" y="507996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6515280" y="447048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162920" y="391176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581960" y="341640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5" name=""/>
          <p:cNvGrpSpPr/>
          <p:nvPr/>
        </p:nvGrpSpPr>
        <p:grpSpPr>
          <a:xfrm>
            <a:off x="7537320" y="3076560"/>
            <a:ext cx="287280" cy="288720"/>
            <a:chOff x="7537320" y="3076560"/>
            <a:chExt cx="287280" cy="288720"/>
          </a:xfrm>
        </p:grpSpPr>
        <p:sp>
          <p:nvSpPr>
            <p:cNvPr id="846" name=""/>
            <p:cNvSpPr/>
            <p:nvPr/>
          </p:nvSpPr>
          <p:spPr>
            <a:xfrm>
              <a:off x="7681680" y="307656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537320" y="322092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5532480" y="4946760"/>
            <a:ext cx="287280" cy="288720"/>
            <a:chOff x="5532480" y="4946760"/>
            <a:chExt cx="287280" cy="288720"/>
          </a:xfrm>
        </p:grpSpPr>
        <p:sp>
          <p:nvSpPr>
            <p:cNvPr id="849" name=""/>
            <p:cNvSpPr/>
            <p:nvPr/>
          </p:nvSpPr>
          <p:spPr>
            <a:xfrm>
              <a:off x="5676840" y="494676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532480" y="509112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1" name=""/>
          <p:cNvSpPr/>
          <p:nvPr/>
        </p:nvSpPr>
        <p:spPr>
          <a:xfrm>
            <a:off x="4965840" y="4354560"/>
            <a:ext cx="1439640" cy="143964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6945480" y="2487600"/>
            <a:ext cx="1439640" cy="144000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452680" y="547200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8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6" dur="5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28" dur="2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1" dur="2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5" dur="1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8" dur="1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51" dur="2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54" dur="2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8" dur="1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173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compass on A and draw and arc above and below the 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08560" y="4941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684920" y="27082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ing at least 2 other centers draw more arcs above AB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6" name=""/>
          <p:cNvSpPr/>
          <p:nvPr/>
        </p:nvSpPr>
        <p:spPr>
          <a:xfrm>
            <a:off x="5778360" y="3581280"/>
            <a:ext cx="1440000" cy="1440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6350040" y="3048120"/>
            <a:ext cx="1440000" cy="1439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6197760" y="3556080"/>
            <a:ext cx="1079280" cy="96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9" name=""/>
          <p:cNvGrpSpPr/>
          <p:nvPr/>
        </p:nvGrpSpPr>
        <p:grpSpPr>
          <a:xfrm>
            <a:off x="4584600" y="4292640"/>
            <a:ext cx="2044800" cy="1562040"/>
            <a:chOff x="4584600" y="4292640"/>
            <a:chExt cx="2044800" cy="1562040"/>
          </a:xfrm>
        </p:grpSpPr>
        <p:sp>
          <p:nvSpPr>
            <p:cNvPr id="860" name=""/>
            <p:cNvSpPr/>
            <p:nvPr/>
          </p:nvSpPr>
          <p:spPr>
            <a:xfrm>
              <a:off x="4952880" y="4356000"/>
              <a:ext cx="1440000" cy="144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584600" y="5029200"/>
              <a:ext cx="128268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626080" y="4292640"/>
              <a:ext cx="1003320" cy="78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3" name=""/>
          <p:cNvGrpSpPr/>
          <p:nvPr/>
        </p:nvGrpSpPr>
        <p:grpSpPr>
          <a:xfrm>
            <a:off x="6845400" y="2425680"/>
            <a:ext cx="1790640" cy="1536840"/>
            <a:chOff x="6845400" y="2425680"/>
            <a:chExt cx="1790640" cy="1536840"/>
          </a:xfrm>
        </p:grpSpPr>
        <p:sp>
          <p:nvSpPr>
            <p:cNvPr id="864" name=""/>
            <p:cNvSpPr/>
            <p:nvPr/>
          </p:nvSpPr>
          <p:spPr>
            <a:xfrm>
              <a:off x="6946920" y="2489040"/>
              <a:ext cx="1440000" cy="144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845400" y="3009960"/>
              <a:ext cx="990360" cy="952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683480" y="2425680"/>
              <a:ext cx="952560" cy="101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7" name=""/>
          <p:cNvGrpSpPr/>
          <p:nvPr/>
        </p:nvGrpSpPr>
        <p:grpSpPr>
          <a:xfrm>
            <a:off x="5308560" y="2708280"/>
            <a:ext cx="2952720" cy="2814840"/>
            <a:chOff x="5308560" y="2708280"/>
            <a:chExt cx="2952720" cy="2814840"/>
          </a:xfrm>
        </p:grpSpPr>
        <p:sp>
          <p:nvSpPr>
            <p:cNvPr id="868" name=""/>
            <p:cNvSpPr/>
            <p:nvPr/>
          </p:nvSpPr>
          <p:spPr>
            <a:xfrm flipH="1">
              <a:off x="5668920" y="3213000"/>
              <a:ext cx="201600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308560" y="49417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684920" y="27082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1" name=""/>
          <p:cNvSpPr/>
          <p:nvPr/>
        </p:nvSpPr>
        <p:spPr>
          <a:xfrm>
            <a:off x="5803920" y="507996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515280" y="447048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7162920" y="391176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7581960" y="341640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5776920" y="3578400"/>
            <a:ext cx="1440000" cy="143964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6364440" y="4168800"/>
            <a:ext cx="287280" cy="288720"/>
            <a:chOff x="6364440" y="4168800"/>
            <a:chExt cx="287280" cy="288720"/>
          </a:xfrm>
        </p:grpSpPr>
        <p:sp>
          <p:nvSpPr>
            <p:cNvPr id="877" name=""/>
            <p:cNvSpPr/>
            <p:nvPr/>
          </p:nvSpPr>
          <p:spPr>
            <a:xfrm>
              <a:off x="6508800" y="416880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364440" y="431316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9" name=""/>
          <p:cNvSpPr/>
          <p:nvPr/>
        </p:nvSpPr>
        <p:spPr>
          <a:xfrm>
            <a:off x="6348240" y="3046320"/>
            <a:ext cx="1440000" cy="144000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0" name=""/>
          <p:cNvGrpSpPr/>
          <p:nvPr/>
        </p:nvGrpSpPr>
        <p:grpSpPr>
          <a:xfrm>
            <a:off x="6942240" y="3629160"/>
            <a:ext cx="287280" cy="288720"/>
            <a:chOff x="6942240" y="3629160"/>
            <a:chExt cx="287280" cy="288720"/>
          </a:xfrm>
        </p:grpSpPr>
        <p:sp>
          <p:nvSpPr>
            <p:cNvPr id="881" name=""/>
            <p:cNvSpPr/>
            <p:nvPr/>
          </p:nvSpPr>
          <p:spPr>
            <a:xfrm>
              <a:off x="7086600" y="362916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942240" y="377352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"/>
          <p:cNvSpPr/>
          <p:nvPr/>
        </p:nvSpPr>
        <p:spPr>
          <a:xfrm>
            <a:off x="2452680" y="547200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7" dur="5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89" dur="2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92" dur="2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9" dur="1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12" dur="2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15" dur="2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2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oin the tops of all of the arc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5778360" y="3048120"/>
            <a:ext cx="2011680" cy="1973160"/>
            <a:chOff x="5778360" y="3048120"/>
            <a:chExt cx="2011680" cy="1973160"/>
          </a:xfrm>
        </p:grpSpPr>
        <p:sp>
          <p:nvSpPr>
            <p:cNvPr id="887" name=""/>
            <p:cNvSpPr/>
            <p:nvPr/>
          </p:nvSpPr>
          <p:spPr>
            <a:xfrm>
              <a:off x="5778360" y="3581280"/>
              <a:ext cx="1440000" cy="144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350040" y="3048120"/>
              <a:ext cx="1440000" cy="1439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197760" y="3556080"/>
              <a:ext cx="1079280" cy="96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0" name=""/>
          <p:cNvGrpSpPr/>
          <p:nvPr/>
        </p:nvGrpSpPr>
        <p:grpSpPr>
          <a:xfrm>
            <a:off x="4584600" y="4292640"/>
            <a:ext cx="2044800" cy="1562040"/>
            <a:chOff x="4584600" y="4292640"/>
            <a:chExt cx="2044800" cy="1562040"/>
          </a:xfrm>
        </p:grpSpPr>
        <p:sp>
          <p:nvSpPr>
            <p:cNvPr id="891" name=""/>
            <p:cNvSpPr/>
            <p:nvPr/>
          </p:nvSpPr>
          <p:spPr>
            <a:xfrm>
              <a:off x="4952880" y="4356000"/>
              <a:ext cx="1440000" cy="144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584600" y="5029200"/>
              <a:ext cx="128268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626080" y="4292640"/>
              <a:ext cx="1003320" cy="78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4" name=""/>
          <p:cNvGrpSpPr/>
          <p:nvPr/>
        </p:nvGrpSpPr>
        <p:grpSpPr>
          <a:xfrm>
            <a:off x="6845400" y="2425680"/>
            <a:ext cx="1790640" cy="1536840"/>
            <a:chOff x="6845400" y="2425680"/>
            <a:chExt cx="1790640" cy="1536840"/>
          </a:xfrm>
        </p:grpSpPr>
        <p:sp>
          <p:nvSpPr>
            <p:cNvPr id="895" name=""/>
            <p:cNvSpPr/>
            <p:nvPr/>
          </p:nvSpPr>
          <p:spPr>
            <a:xfrm>
              <a:off x="6946920" y="2489040"/>
              <a:ext cx="1440000" cy="144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845400" y="3009960"/>
              <a:ext cx="990360" cy="952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683480" y="2425680"/>
              <a:ext cx="952560" cy="101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5308560" y="2708280"/>
            <a:ext cx="2952720" cy="2814840"/>
            <a:chOff x="5308560" y="2708280"/>
            <a:chExt cx="2952720" cy="2814840"/>
          </a:xfrm>
        </p:grpSpPr>
        <p:sp>
          <p:nvSpPr>
            <p:cNvPr id="899" name=""/>
            <p:cNvSpPr/>
            <p:nvPr/>
          </p:nvSpPr>
          <p:spPr>
            <a:xfrm flipH="1">
              <a:off x="5668920" y="3213000"/>
              <a:ext cx="201600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308560" y="49417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684920" y="27082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2" name=""/>
          <p:cNvSpPr/>
          <p:nvPr/>
        </p:nvSpPr>
        <p:spPr>
          <a:xfrm flipV="1">
            <a:off x="4495680" y="2019240"/>
            <a:ext cx="3378240" cy="3175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5803920" y="507996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6515280" y="447048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7162920" y="391176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7581960" y="341640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2452680" y="547200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8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8" dur="5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2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9" name="">
            <a:hlinkClick r:id="rId1" action="ppaction://hlinksldjump"/>
          </p:cNvPr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gratulations that is a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arallel Lin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4cm awa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11" name=""/>
          <p:cNvGrpSpPr/>
          <p:nvPr/>
        </p:nvGrpSpPr>
        <p:grpSpPr>
          <a:xfrm>
            <a:off x="5778360" y="3048120"/>
            <a:ext cx="2011680" cy="1973160"/>
            <a:chOff x="5778360" y="3048120"/>
            <a:chExt cx="2011680" cy="1973160"/>
          </a:xfrm>
        </p:grpSpPr>
        <p:sp>
          <p:nvSpPr>
            <p:cNvPr id="912" name=""/>
            <p:cNvSpPr/>
            <p:nvPr/>
          </p:nvSpPr>
          <p:spPr>
            <a:xfrm>
              <a:off x="5778360" y="3581280"/>
              <a:ext cx="1440000" cy="144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350040" y="3048120"/>
              <a:ext cx="1440000" cy="1439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197760" y="3556080"/>
              <a:ext cx="1079280" cy="96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4584600" y="4292640"/>
            <a:ext cx="2044800" cy="1562040"/>
            <a:chOff x="4584600" y="4292640"/>
            <a:chExt cx="2044800" cy="1562040"/>
          </a:xfrm>
        </p:grpSpPr>
        <p:sp>
          <p:nvSpPr>
            <p:cNvPr id="916" name=""/>
            <p:cNvSpPr/>
            <p:nvPr/>
          </p:nvSpPr>
          <p:spPr>
            <a:xfrm>
              <a:off x="4952880" y="4356000"/>
              <a:ext cx="1440000" cy="144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584600" y="5029200"/>
              <a:ext cx="128268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626080" y="4292640"/>
              <a:ext cx="1003320" cy="78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9" name=""/>
          <p:cNvGrpSpPr/>
          <p:nvPr/>
        </p:nvGrpSpPr>
        <p:grpSpPr>
          <a:xfrm>
            <a:off x="6845400" y="2425680"/>
            <a:ext cx="1790640" cy="1536840"/>
            <a:chOff x="6845400" y="2425680"/>
            <a:chExt cx="1790640" cy="1536840"/>
          </a:xfrm>
        </p:grpSpPr>
        <p:sp>
          <p:nvSpPr>
            <p:cNvPr id="920" name=""/>
            <p:cNvSpPr/>
            <p:nvPr/>
          </p:nvSpPr>
          <p:spPr>
            <a:xfrm>
              <a:off x="6946920" y="2489040"/>
              <a:ext cx="1440000" cy="144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845400" y="3009960"/>
              <a:ext cx="990360" cy="952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683480" y="2425680"/>
              <a:ext cx="952560" cy="101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3" name=""/>
          <p:cNvGrpSpPr/>
          <p:nvPr/>
        </p:nvGrpSpPr>
        <p:grpSpPr>
          <a:xfrm>
            <a:off x="5308560" y="2708280"/>
            <a:ext cx="2952720" cy="2814840"/>
            <a:chOff x="5308560" y="2708280"/>
            <a:chExt cx="2952720" cy="2814840"/>
          </a:xfrm>
        </p:grpSpPr>
        <p:sp>
          <p:nvSpPr>
            <p:cNvPr id="924" name=""/>
            <p:cNvSpPr/>
            <p:nvPr/>
          </p:nvSpPr>
          <p:spPr>
            <a:xfrm flipH="1">
              <a:off x="5668920" y="3213000"/>
              <a:ext cx="201600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308560" y="49417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684920" y="27082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7" name=""/>
          <p:cNvSpPr/>
          <p:nvPr/>
        </p:nvSpPr>
        <p:spPr>
          <a:xfrm flipV="1">
            <a:off x="4495680" y="2019240"/>
            <a:ext cx="3378240" cy="3175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>
            <a:hlinkClick r:id="rId2" action="ppaction://hlinksldjump"/>
          </p:cNvPr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5803920" y="507996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515280" y="447048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7162920" y="391176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7581960" y="341640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60º 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ruct a 60º angle at A, above the li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35" name=""/>
          <p:cNvGrpSpPr/>
          <p:nvPr/>
        </p:nvGrpSpPr>
        <p:grpSpPr>
          <a:xfrm>
            <a:off x="5308560" y="2708280"/>
            <a:ext cx="2952720" cy="2814840"/>
            <a:chOff x="5308560" y="2708280"/>
            <a:chExt cx="2952720" cy="2814840"/>
          </a:xfrm>
        </p:grpSpPr>
        <p:sp>
          <p:nvSpPr>
            <p:cNvPr id="936" name=""/>
            <p:cNvSpPr/>
            <p:nvPr/>
          </p:nvSpPr>
          <p:spPr>
            <a:xfrm flipH="1">
              <a:off x="5668920" y="3213000"/>
              <a:ext cx="201600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308560" y="49417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684920" y="27082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60º 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compass point on A draw an arc that crosses the line, about ¼ of a circ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1" name=""/>
          <p:cNvSpPr/>
          <p:nvPr/>
        </p:nvSpPr>
        <p:spPr>
          <a:xfrm>
            <a:off x="5210280" y="4484520"/>
            <a:ext cx="2293920" cy="12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4308480" y="3732120"/>
            <a:ext cx="2698920" cy="2698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4151160" y="4470480"/>
            <a:ext cx="3468960" cy="2003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4325760" y="3860640"/>
            <a:ext cx="638280" cy="7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"/>
          <p:cNvGrpSpPr/>
          <p:nvPr/>
        </p:nvGrpSpPr>
        <p:grpSpPr>
          <a:xfrm>
            <a:off x="5308560" y="2708280"/>
            <a:ext cx="2952720" cy="2814840"/>
            <a:chOff x="5308560" y="2708280"/>
            <a:chExt cx="2952720" cy="2814840"/>
          </a:xfrm>
        </p:grpSpPr>
        <p:sp>
          <p:nvSpPr>
            <p:cNvPr id="946" name=""/>
            <p:cNvSpPr/>
            <p:nvPr/>
          </p:nvSpPr>
          <p:spPr>
            <a:xfrm flipH="1">
              <a:off x="5668920" y="3213000"/>
              <a:ext cx="201600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308560" y="49417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684920" y="27082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"/>
          <p:cNvGrpSpPr/>
          <p:nvPr/>
        </p:nvGrpSpPr>
        <p:grpSpPr>
          <a:xfrm>
            <a:off x="5518080" y="4951440"/>
            <a:ext cx="287280" cy="288720"/>
            <a:chOff x="5518080" y="4951440"/>
            <a:chExt cx="287280" cy="288720"/>
          </a:xfrm>
        </p:grpSpPr>
        <p:sp>
          <p:nvSpPr>
            <p:cNvPr id="950" name=""/>
            <p:cNvSpPr/>
            <p:nvPr/>
          </p:nvSpPr>
          <p:spPr>
            <a:xfrm>
              <a:off x="5662440" y="495144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518080" y="50958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"/>
          <p:cNvSpPr/>
          <p:nvPr/>
        </p:nvSpPr>
        <p:spPr>
          <a:xfrm>
            <a:off x="4307040" y="3730680"/>
            <a:ext cx="2698560" cy="269856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452680" y="547200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9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8" dur="5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68" dur="2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71" dur="2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5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8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60º 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45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out changing the compass, place point where the arc crosses the line AB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6" name=""/>
          <p:cNvSpPr/>
          <p:nvPr/>
        </p:nvSpPr>
        <p:spPr>
          <a:xfrm>
            <a:off x="5307120" y="2816280"/>
            <a:ext cx="2698560" cy="2698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5486400" y="2598840"/>
            <a:ext cx="2859120" cy="100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7343640" y="3513240"/>
            <a:ext cx="741600" cy="220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210280" y="4484520"/>
            <a:ext cx="2293920" cy="12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4151160" y="3732120"/>
            <a:ext cx="3468960" cy="2741760"/>
            <a:chOff x="4151160" y="3732120"/>
            <a:chExt cx="3468960" cy="2741760"/>
          </a:xfrm>
        </p:grpSpPr>
        <p:sp>
          <p:nvSpPr>
            <p:cNvPr id="961" name=""/>
            <p:cNvSpPr/>
            <p:nvPr/>
          </p:nvSpPr>
          <p:spPr>
            <a:xfrm>
              <a:off x="4308480" y="3732120"/>
              <a:ext cx="2698920" cy="2698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151160" y="4470480"/>
              <a:ext cx="3468960" cy="200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325760" y="3860640"/>
              <a:ext cx="638280" cy="73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4" name=""/>
          <p:cNvGrpSpPr/>
          <p:nvPr/>
        </p:nvGrpSpPr>
        <p:grpSpPr>
          <a:xfrm>
            <a:off x="5308560" y="2708280"/>
            <a:ext cx="2952720" cy="2814840"/>
            <a:chOff x="5308560" y="2708280"/>
            <a:chExt cx="2952720" cy="2814840"/>
          </a:xfrm>
        </p:grpSpPr>
        <p:sp>
          <p:nvSpPr>
            <p:cNvPr id="965" name=""/>
            <p:cNvSpPr/>
            <p:nvPr/>
          </p:nvSpPr>
          <p:spPr>
            <a:xfrm flipH="1">
              <a:off x="5668920" y="3213000"/>
              <a:ext cx="201600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308560" y="49417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684920" y="27082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8" name=""/>
          <p:cNvSpPr/>
          <p:nvPr/>
        </p:nvSpPr>
        <p:spPr>
          <a:xfrm>
            <a:off x="5305320" y="2814480"/>
            <a:ext cx="2698920" cy="269892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9" name=""/>
          <p:cNvGrpSpPr/>
          <p:nvPr/>
        </p:nvGrpSpPr>
        <p:grpSpPr>
          <a:xfrm>
            <a:off x="6519960" y="4037040"/>
            <a:ext cx="287280" cy="288720"/>
            <a:chOff x="6519960" y="4037040"/>
            <a:chExt cx="287280" cy="288720"/>
          </a:xfrm>
        </p:grpSpPr>
        <p:sp>
          <p:nvSpPr>
            <p:cNvPr id="970" name=""/>
            <p:cNvSpPr/>
            <p:nvPr/>
          </p:nvSpPr>
          <p:spPr>
            <a:xfrm>
              <a:off x="6664320" y="403704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519960" y="41814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2" name=""/>
          <p:cNvSpPr/>
          <p:nvPr/>
        </p:nvSpPr>
        <p:spPr>
          <a:xfrm>
            <a:off x="2452680" y="547200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9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000"/>
                            </p:stCondLst>
                            <p:childTnLst>
                              <p:par>
                                <p:cTn id="4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4" dur="5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04" dur="2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07" dur="2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1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2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60º 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ule a line from A to where the 2 arcs cros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75" name=""/>
          <p:cNvGrpSpPr/>
          <p:nvPr/>
        </p:nvGrpSpPr>
        <p:grpSpPr>
          <a:xfrm>
            <a:off x="5307120" y="2598840"/>
            <a:ext cx="3038400" cy="3119400"/>
            <a:chOff x="5307120" y="2598840"/>
            <a:chExt cx="3038400" cy="3119400"/>
          </a:xfrm>
        </p:grpSpPr>
        <p:sp>
          <p:nvSpPr>
            <p:cNvPr id="976" name=""/>
            <p:cNvSpPr/>
            <p:nvPr/>
          </p:nvSpPr>
          <p:spPr>
            <a:xfrm>
              <a:off x="5307120" y="2816280"/>
              <a:ext cx="2698560" cy="2698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486400" y="2598840"/>
              <a:ext cx="2859120" cy="100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343640" y="3513240"/>
              <a:ext cx="741600" cy="220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9" name=""/>
          <p:cNvSpPr/>
          <p:nvPr/>
        </p:nvSpPr>
        <p:spPr>
          <a:xfrm>
            <a:off x="5210280" y="4484520"/>
            <a:ext cx="2293920" cy="12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4151160" y="3732120"/>
            <a:ext cx="3468960" cy="2741760"/>
            <a:chOff x="4151160" y="3732120"/>
            <a:chExt cx="3468960" cy="2741760"/>
          </a:xfrm>
        </p:grpSpPr>
        <p:sp>
          <p:nvSpPr>
            <p:cNvPr id="981" name=""/>
            <p:cNvSpPr/>
            <p:nvPr/>
          </p:nvSpPr>
          <p:spPr>
            <a:xfrm>
              <a:off x="4308480" y="3732120"/>
              <a:ext cx="2698920" cy="2698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151160" y="4470480"/>
              <a:ext cx="3468960" cy="200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325760" y="3860640"/>
              <a:ext cx="638280" cy="73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4" name=""/>
          <p:cNvGrpSpPr/>
          <p:nvPr/>
        </p:nvGrpSpPr>
        <p:grpSpPr>
          <a:xfrm>
            <a:off x="5308560" y="2708280"/>
            <a:ext cx="2952720" cy="2814840"/>
            <a:chOff x="5308560" y="2708280"/>
            <a:chExt cx="2952720" cy="2814840"/>
          </a:xfrm>
        </p:grpSpPr>
        <p:sp>
          <p:nvSpPr>
            <p:cNvPr id="985" name=""/>
            <p:cNvSpPr/>
            <p:nvPr/>
          </p:nvSpPr>
          <p:spPr>
            <a:xfrm flipH="1">
              <a:off x="5668920" y="3213000"/>
              <a:ext cx="201600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308560" y="49417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684920" y="27082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8" name=""/>
          <p:cNvSpPr/>
          <p:nvPr/>
        </p:nvSpPr>
        <p:spPr>
          <a:xfrm flipH="1" flipV="1">
            <a:off x="5181480" y="2960280"/>
            <a:ext cx="479520" cy="213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2452680" y="547200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1" dur="5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2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60º 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1" name="">
            <a:hlinkClick r:id="rId1" action="ppaction://hlinksldjump"/>
          </p:cNvPr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gratulations that is a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60º Angl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93" name=""/>
          <p:cNvGrpSpPr/>
          <p:nvPr/>
        </p:nvGrpSpPr>
        <p:grpSpPr>
          <a:xfrm>
            <a:off x="5307120" y="2598840"/>
            <a:ext cx="3038400" cy="3119400"/>
            <a:chOff x="5307120" y="2598840"/>
            <a:chExt cx="3038400" cy="3119400"/>
          </a:xfrm>
        </p:grpSpPr>
        <p:sp>
          <p:nvSpPr>
            <p:cNvPr id="994" name=""/>
            <p:cNvSpPr/>
            <p:nvPr/>
          </p:nvSpPr>
          <p:spPr>
            <a:xfrm>
              <a:off x="5307120" y="2816280"/>
              <a:ext cx="2698560" cy="2698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486400" y="2598840"/>
              <a:ext cx="2859120" cy="100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343640" y="3513240"/>
              <a:ext cx="741600" cy="220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7" name=""/>
          <p:cNvSpPr/>
          <p:nvPr/>
        </p:nvSpPr>
        <p:spPr>
          <a:xfrm>
            <a:off x="5210280" y="4484520"/>
            <a:ext cx="2293920" cy="12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4151160" y="3732120"/>
            <a:ext cx="3468960" cy="2741760"/>
            <a:chOff x="4151160" y="3732120"/>
            <a:chExt cx="3468960" cy="2741760"/>
          </a:xfrm>
        </p:grpSpPr>
        <p:sp>
          <p:nvSpPr>
            <p:cNvPr id="999" name=""/>
            <p:cNvSpPr/>
            <p:nvPr/>
          </p:nvSpPr>
          <p:spPr>
            <a:xfrm>
              <a:off x="4308480" y="3732120"/>
              <a:ext cx="2698920" cy="2698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151160" y="4470480"/>
              <a:ext cx="3468960" cy="200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325760" y="3860640"/>
              <a:ext cx="638280" cy="73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2" name="">
            <a:hlinkClick r:id="rId2" action="ppaction://hlinksldjump"/>
          </p:cNvPr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3" name=""/>
          <p:cNvGrpSpPr/>
          <p:nvPr/>
        </p:nvGrpSpPr>
        <p:grpSpPr>
          <a:xfrm>
            <a:off x="5308560" y="2708280"/>
            <a:ext cx="2952720" cy="2814840"/>
            <a:chOff x="5308560" y="2708280"/>
            <a:chExt cx="2952720" cy="2814840"/>
          </a:xfrm>
        </p:grpSpPr>
        <p:sp>
          <p:nvSpPr>
            <p:cNvPr id="1004" name=""/>
            <p:cNvSpPr/>
            <p:nvPr/>
          </p:nvSpPr>
          <p:spPr>
            <a:xfrm flipH="1">
              <a:off x="5668920" y="3213000"/>
              <a:ext cx="201600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308560" y="49417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7684920" y="27082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"/>
          <p:cNvSpPr/>
          <p:nvPr/>
        </p:nvSpPr>
        <p:spPr>
          <a:xfrm flipH="1" flipV="1">
            <a:off x="5181480" y="2960280"/>
            <a:ext cx="479520" cy="213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fl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do a reflection you need to state 2 things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Obj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reflect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Mirror lin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0" name=""/>
          <p:cNvSpPr/>
          <p:nvPr/>
        </p:nvSpPr>
        <p:spPr>
          <a:xfrm>
            <a:off x="6642000" y="2030400"/>
            <a:ext cx="0" cy="416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6480000" y="1762200"/>
            <a:ext cx="40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6494400" y="605304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fl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flect Shape ABCD in the mirror line x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5" name=""/>
          <p:cNvSpPr/>
          <p:nvPr/>
        </p:nvSpPr>
        <p:spPr>
          <a:xfrm>
            <a:off x="5041800" y="3065400"/>
            <a:ext cx="1575000" cy="2235240"/>
          </a:xfrm>
          <a:custGeom>
            <a:avLst/>
            <a:gdLst>
              <a:gd name="textAreaLeft" fmla="*/ 346320 w 1575000"/>
              <a:gd name="textAreaRight" fmla="*/ 1228680 w 1575000"/>
              <a:gd name="textAreaTop" fmla="*/ 491400 h 2235240"/>
              <a:gd name="textAreaBottom" fmla="*/ 1743840 h 223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6642000" y="2030400"/>
            <a:ext cx="0" cy="416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6480000" y="1762200"/>
            <a:ext cx="40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6494400" y="605304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4746600" y="2797200"/>
            <a:ext cx="4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6480000" y="2773440"/>
            <a:ext cx="4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5219640" y="529416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6108840" y="528336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5435640" y="2637000"/>
            <a:ext cx="0" cy="3313080"/>
          </a:xfrm>
          <a:prstGeom prst="line">
            <a:avLst/>
          </a:prstGeom>
          <a:ln cap="rnd" w="32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5796000" y="2637000"/>
            <a:ext cx="0" cy="3313080"/>
          </a:xfrm>
          <a:prstGeom prst="line">
            <a:avLst/>
          </a:prstGeom>
          <a:ln cap="rnd" w="32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6227640" y="2637000"/>
            <a:ext cx="0" cy="3313080"/>
          </a:xfrm>
          <a:prstGeom prst="line">
            <a:avLst/>
          </a:prstGeom>
          <a:ln cap="rnd" w="32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6" name=""/>
          <p:cNvGrpSpPr/>
          <p:nvPr/>
        </p:nvGrpSpPr>
        <p:grpSpPr>
          <a:xfrm>
            <a:off x="4643280" y="3068640"/>
            <a:ext cx="2304720" cy="2232000"/>
            <a:chOff x="4643280" y="3068640"/>
            <a:chExt cx="2304720" cy="2232000"/>
          </a:xfrm>
        </p:grpSpPr>
        <p:sp>
          <p:nvSpPr>
            <p:cNvPr id="1027" name=""/>
            <p:cNvSpPr/>
            <p:nvPr/>
          </p:nvSpPr>
          <p:spPr>
            <a:xfrm>
              <a:off x="4643280" y="3068640"/>
              <a:ext cx="2304720" cy="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643280" y="3500280"/>
              <a:ext cx="2304720" cy="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643280" y="3933720"/>
              <a:ext cx="2304720" cy="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643280" y="4437000"/>
              <a:ext cx="2304720" cy="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643280" y="4869000"/>
              <a:ext cx="2304720" cy="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643280" y="5300640"/>
              <a:ext cx="2304720" cy="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3" name=""/>
          <p:cNvSpPr/>
          <p:nvPr/>
        </p:nvSpPr>
        <p:spPr>
          <a:xfrm>
            <a:off x="6659640" y="2565360"/>
            <a:ext cx="0" cy="3313080"/>
          </a:xfrm>
          <a:prstGeom prst="line">
            <a:avLst/>
          </a:prstGeom>
          <a:ln cap="rnd" w="32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5003640" y="2637000"/>
            <a:ext cx="0" cy="3313080"/>
          </a:xfrm>
          <a:prstGeom prst="line">
            <a:avLst/>
          </a:prstGeom>
          <a:ln cap="rnd" w="32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173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p 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compass on A and draw and arc above and below the 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/>
          <p:nvPr/>
        </p:nvSpPr>
        <p:spPr>
          <a:xfrm>
            <a:off x="3868560" y="3284640"/>
            <a:ext cx="3419640" cy="3382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308560" y="4941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684920" y="27082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782880" y="3068640"/>
            <a:ext cx="152568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667480" y="494028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522760" y="508464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950240" y="4395960"/>
            <a:ext cx="6858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461440" y="4121280"/>
            <a:ext cx="452520" cy="479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999640" y="4035600"/>
            <a:ext cx="1443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055080" y="2046240"/>
            <a:ext cx="88920" cy="46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142120" y="1552680"/>
            <a:ext cx="281160" cy="112680"/>
          </a:xfrm>
          <a:custGeom>
            <a:avLst/>
            <a:gdLst/>
            <a:ahLst/>
            <a:rect l="l" t="t" r="r" b="b"/>
            <a:pathLst>
              <a:path w="177" h="71">
                <a:moveTo>
                  <a:pt x="0" y="0"/>
                </a:moveTo>
                <a:cubicBezTo>
                  <a:pt x="36" y="7"/>
                  <a:pt x="66" y="17"/>
                  <a:pt x="101" y="28"/>
                </a:cubicBezTo>
                <a:cubicBezTo>
                  <a:pt x="164" y="69"/>
                  <a:pt x="177" y="71"/>
                  <a:pt x="128" y="55"/>
                </a:cubicBezTo>
                <a:cubicBezTo>
                  <a:pt x="63" y="12"/>
                  <a:pt x="94" y="25"/>
                  <a:pt x="37" y="9"/>
                </a:cubicBezTo>
                <a:cubicBezTo>
                  <a:pt x="28" y="12"/>
                  <a:pt x="2" y="12"/>
                  <a:pt x="9" y="19"/>
                </a:cubicBezTo>
                <a:cubicBezTo>
                  <a:pt x="20" y="30"/>
                  <a:pt x="40" y="24"/>
                  <a:pt x="55" y="28"/>
                </a:cubicBezTo>
                <a:cubicBezTo>
                  <a:pt x="74" y="33"/>
                  <a:pt x="110" y="46"/>
                  <a:pt x="110" y="46"/>
                </a:cubicBezTo>
                <a:cubicBezTo>
                  <a:pt x="119" y="52"/>
                  <a:pt x="137" y="64"/>
                  <a:pt x="137" y="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912160" y="1960560"/>
            <a:ext cx="139680" cy="287280"/>
          </a:xfrm>
          <a:custGeom>
            <a:avLst/>
            <a:gdLst/>
            <a:ahLst/>
            <a:rect l="l" t="t" r="r" b="b"/>
            <a:pathLst>
              <a:path w="88" h="181">
                <a:moveTo>
                  <a:pt x="0" y="36"/>
                </a:moveTo>
                <a:cubicBezTo>
                  <a:pt x="42" y="100"/>
                  <a:pt x="18" y="79"/>
                  <a:pt x="64" y="109"/>
                </a:cubicBezTo>
                <a:cubicBezTo>
                  <a:pt x="88" y="181"/>
                  <a:pt x="30" y="103"/>
                  <a:pt x="18" y="91"/>
                </a:cubicBezTo>
                <a:cubicBezTo>
                  <a:pt x="16" y="83"/>
                  <a:pt x="0" y="0"/>
                  <a:pt x="0" y="36"/>
                </a:cubicBezTo>
                <a:close/>
              </a:path>
            </a:pathLst>
          </a:custGeom>
          <a:solidFill>
            <a:srgbClr val="ffef66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955000" y="4238640"/>
            <a:ext cx="1800" cy="130320"/>
          </a:xfrm>
          <a:custGeom>
            <a:avLst/>
            <a:gdLst/>
            <a:ahLst/>
            <a:rect l="l" t="t" r="r" b="b"/>
            <a:pathLst>
              <a:path w="1" h="82">
                <a:moveTo>
                  <a:pt x="0" y="0"/>
                </a:moveTo>
                <a:cubicBezTo>
                  <a:pt x="0" y="27"/>
                  <a:pt x="0" y="55"/>
                  <a:pt x="0" y="82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621640" y="178596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0"/>
                </a:moveTo>
                <a:cubicBezTo>
                  <a:pt x="33" y="22"/>
                  <a:pt x="17" y="13"/>
                  <a:pt x="46" y="27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142120" y="1552680"/>
            <a:ext cx="281160" cy="112680"/>
          </a:xfrm>
          <a:custGeom>
            <a:avLst/>
            <a:gdLst/>
            <a:ahLst/>
            <a:rect l="l" t="t" r="r" b="b"/>
            <a:pathLst>
              <a:path w="177" h="71">
                <a:moveTo>
                  <a:pt x="0" y="0"/>
                </a:moveTo>
                <a:cubicBezTo>
                  <a:pt x="36" y="7"/>
                  <a:pt x="66" y="17"/>
                  <a:pt x="101" y="28"/>
                </a:cubicBezTo>
                <a:cubicBezTo>
                  <a:pt x="164" y="69"/>
                  <a:pt x="177" y="71"/>
                  <a:pt x="128" y="55"/>
                </a:cubicBezTo>
                <a:cubicBezTo>
                  <a:pt x="63" y="12"/>
                  <a:pt x="94" y="25"/>
                  <a:pt x="37" y="9"/>
                </a:cubicBezTo>
                <a:cubicBezTo>
                  <a:pt x="28" y="12"/>
                  <a:pt x="2" y="12"/>
                  <a:pt x="9" y="19"/>
                </a:cubicBezTo>
                <a:cubicBezTo>
                  <a:pt x="20" y="30"/>
                  <a:pt x="40" y="24"/>
                  <a:pt x="55" y="28"/>
                </a:cubicBezTo>
                <a:cubicBezTo>
                  <a:pt x="74" y="33"/>
                  <a:pt x="110" y="46"/>
                  <a:pt x="110" y="46"/>
                </a:cubicBezTo>
                <a:cubicBezTo>
                  <a:pt x="119" y="52"/>
                  <a:pt x="137" y="64"/>
                  <a:pt x="137" y="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621640" y="178596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0"/>
                </a:moveTo>
                <a:cubicBezTo>
                  <a:pt x="33" y="22"/>
                  <a:pt x="17" y="13"/>
                  <a:pt x="46" y="27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08480" y="5445000"/>
            <a:ext cx="4897440" cy="141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fl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are a number of effective methods to do thi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ou can fold the page along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mirror line and trac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BC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le lines perpendicular to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mirror line that go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rough each of th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rner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7" name=""/>
          <p:cNvSpPr/>
          <p:nvPr/>
        </p:nvSpPr>
        <p:spPr>
          <a:xfrm>
            <a:off x="6642000" y="2030400"/>
            <a:ext cx="0" cy="416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6480000" y="1762200"/>
            <a:ext cx="40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6494400" y="605304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4746600" y="2797200"/>
            <a:ext cx="4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6480000" y="2773440"/>
            <a:ext cx="4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6643800" y="3065400"/>
            <a:ext cx="1574640" cy="2235240"/>
          </a:xfrm>
          <a:custGeom>
            <a:avLst/>
            <a:gdLst>
              <a:gd name="textAreaLeft" fmla="*/ 346320 w 1574640"/>
              <a:gd name="textAreaRight" fmla="*/ 1228320 w 1574640"/>
              <a:gd name="textAreaTop" fmla="*/ 491400 h 2235240"/>
              <a:gd name="textAreaBottom" fmla="*/ 1743840 h 223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5041800" y="3065400"/>
            <a:ext cx="1575000" cy="2235240"/>
          </a:xfrm>
          <a:custGeom>
            <a:avLst/>
            <a:gdLst>
              <a:gd name="textAreaLeft" fmla="*/ 346320 w 1575000"/>
              <a:gd name="textAreaRight" fmla="*/ 1228680 w 1575000"/>
              <a:gd name="textAreaTop" fmla="*/ 491400 h 2235240"/>
              <a:gd name="textAreaBottom" fmla="*/ 1743840 h 223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5219640" y="529416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6108840" y="528336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43" dur="2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fl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ever you get your reflection, the next step is to label its corner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ive the image corner that same letter as the object it came from with a ( ‘ ) adde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8" name=""/>
          <p:cNvSpPr/>
          <p:nvPr/>
        </p:nvSpPr>
        <p:spPr>
          <a:xfrm>
            <a:off x="6642000" y="2030400"/>
            <a:ext cx="0" cy="416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6480000" y="1762200"/>
            <a:ext cx="40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6494400" y="605304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4746600" y="2797200"/>
            <a:ext cx="4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6480000" y="2773440"/>
            <a:ext cx="4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8126280" y="2781360"/>
            <a:ext cx="4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7653240" y="532764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6786720" y="530064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5051520" y="2530440"/>
            <a:ext cx="3257280" cy="285840"/>
          </a:xfrm>
          <a:custGeom>
            <a:avLst/>
            <a:gdLst/>
            <a:ahLst/>
            <a:rect l="l" t="t" r="r" b="b"/>
            <a:pathLst>
              <a:path w="2052" h="180">
                <a:moveTo>
                  <a:pt x="0" y="180"/>
                </a:moveTo>
                <a:cubicBezTo>
                  <a:pt x="148" y="102"/>
                  <a:pt x="308" y="87"/>
                  <a:pt x="475" y="79"/>
                </a:cubicBezTo>
                <a:cubicBezTo>
                  <a:pt x="959" y="0"/>
                  <a:pt x="1454" y="44"/>
                  <a:pt x="1938" y="97"/>
                </a:cubicBezTo>
                <a:cubicBezTo>
                  <a:pt x="1962" y="114"/>
                  <a:pt x="1984" y="139"/>
                  <a:pt x="2011" y="152"/>
                </a:cubicBezTo>
                <a:cubicBezTo>
                  <a:pt x="2052" y="172"/>
                  <a:pt x="2028" y="149"/>
                  <a:pt x="2048" y="17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6342120" y="5589720"/>
            <a:ext cx="685800" cy="115920"/>
          </a:xfrm>
          <a:custGeom>
            <a:avLst/>
            <a:gdLst/>
            <a:ahLst/>
            <a:rect l="l" t="t" r="r" b="b"/>
            <a:pathLst>
              <a:path w="432" h="73">
                <a:moveTo>
                  <a:pt x="0" y="0"/>
                </a:moveTo>
                <a:cubicBezTo>
                  <a:pt x="31" y="29"/>
                  <a:pt x="74" y="31"/>
                  <a:pt x="110" y="55"/>
                </a:cubicBezTo>
                <a:cubicBezTo>
                  <a:pt x="432" y="41"/>
                  <a:pt x="239" y="73"/>
                  <a:pt x="38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5443560" y="5589720"/>
            <a:ext cx="2249640" cy="311040"/>
          </a:xfrm>
          <a:custGeom>
            <a:avLst/>
            <a:gdLst/>
            <a:ahLst/>
            <a:rect l="l" t="t" r="r" b="b"/>
            <a:pathLst>
              <a:path w="1417" h="196">
                <a:moveTo>
                  <a:pt x="0" y="0"/>
                </a:moveTo>
                <a:cubicBezTo>
                  <a:pt x="12" y="3"/>
                  <a:pt x="25" y="4"/>
                  <a:pt x="36" y="9"/>
                </a:cubicBezTo>
                <a:cubicBezTo>
                  <a:pt x="46" y="13"/>
                  <a:pt x="53" y="24"/>
                  <a:pt x="64" y="27"/>
                </a:cubicBezTo>
                <a:cubicBezTo>
                  <a:pt x="91" y="34"/>
                  <a:pt x="119" y="34"/>
                  <a:pt x="146" y="37"/>
                </a:cubicBezTo>
                <a:cubicBezTo>
                  <a:pt x="221" y="62"/>
                  <a:pt x="129" y="27"/>
                  <a:pt x="192" y="64"/>
                </a:cubicBezTo>
                <a:cubicBezTo>
                  <a:pt x="210" y="74"/>
                  <a:pt x="262" y="80"/>
                  <a:pt x="274" y="82"/>
                </a:cubicBezTo>
                <a:cubicBezTo>
                  <a:pt x="292" y="88"/>
                  <a:pt x="310" y="98"/>
                  <a:pt x="329" y="101"/>
                </a:cubicBezTo>
                <a:cubicBezTo>
                  <a:pt x="372" y="107"/>
                  <a:pt x="457" y="119"/>
                  <a:pt x="457" y="119"/>
                </a:cubicBezTo>
                <a:cubicBezTo>
                  <a:pt x="554" y="151"/>
                  <a:pt x="656" y="172"/>
                  <a:pt x="758" y="183"/>
                </a:cubicBezTo>
                <a:cubicBezTo>
                  <a:pt x="908" y="178"/>
                  <a:pt x="982" y="196"/>
                  <a:pt x="1097" y="155"/>
                </a:cubicBezTo>
                <a:cubicBezTo>
                  <a:pt x="1153" y="99"/>
                  <a:pt x="1230" y="107"/>
                  <a:pt x="1298" y="73"/>
                </a:cubicBezTo>
                <a:cubicBezTo>
                  <a:pt x="1310" y="67"/>
                  <a:pt x="1323" y="62"/>
                  <a:pt x="1334" y="55"/>
                </a:cubicBezTo>
                <a:cubicBezTo>
                  <a:pt x="1341" y="50"/>
                  <a:pt x="1346" y="42"/>
                  <a:pt x="1353" y="37"/>
                </a:cubicBezTo>
                <a:cubicBezTo>
                  <a:pt x="1374" y="24"/>
                  <a:pt x="1399" y="27"/>
                  <a:pt x="1417" y="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6643800" y="3065400"/>
            <a:ext cx="1574640" cy="2235240"/>
          </a:xfrm>
          <a:custGeom>
            <a:avLst/>
            <a:gdLst>
              <a:gd name="textAreaLeft" fmla="*/ 346320 w 1574640"/>
              <a:gd name="textAreaRight" fmla="*/ 1228320 w 1574640"/>
              <a:gd name="textAreaTop" fmla="*/ 491400 h 2235240"/>
              <a:gd name="textAreaBottom" fmla="*/ 1743840 h 223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5041800" y="3065400"/>
            <a:ext cx="1575000" cy="2235240"/>
          </a:xfrm>
          <a:custGeom>
            <a:avLst/>
            <a:gdLst>
              <a:gd name="textAreaLeft" fmla="*/ 346320 w 1575000"/>
              <a:gd name="textAreaRight" fmla="*/ 1228680 w 1575000"/>
              <a:gd name="textAreaTop" fmla="*/ 491400 h 2235240"/>
              <a:gd name="textAreaBottom" fmla="*/ 1743840 h 223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5219640" y="529416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6108840" y="528336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52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4000"/>
                            </p:stCondLst>
                            <p:childTnLst>
                              <p:par>
                                <p:cTn id="5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9" dur="2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2000"/>
                            </p:stCondLst>
                            <p:childTnLst>
                              <p:par>
                                <p:cTn id="5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3000"/>
                            </p:stCondLst>
                            <p:childTnLst>
                              <p:par>
                                <p:cTn id="57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4" dur="2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2000"/>
                            </p:stCondLst>
                            <p:childTnLst>
                              <p:par>
                                <p:cTn id="582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9" dur="2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"/>
          <p:cNvSpPr/>
          <p:nvPr/>
        </p:nvSpPr>
        <p:spPr>
          <a:xfrm>
            <a:off x="6643800" y="3065400"/>
            <a:ext cx="1574640" cy="2235240"/>
          </a:xfrm>
          <a:custGeom>
            <a:avLst/>
            <a:gdLst>
              <a:gd name="textAreaLeft" fmla="*/ 346320 w 1574640"/>
              <a:gd name="textAreaRight" fmla="*/ 1228320 w 1574640"/>
              <a:gd name="textAreaTop" fmla="*/ 491400 h 2235240"/>
              <a:gd name="textAreaBottom" fmla="*/ 1743840 h 223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5041800" y="3065400"/>
            <a:ext cx="1575000" cy="2235240"/>
          </a:xfrm>
          <a:custGeom>
            <a:avLst/>
            <a:gdLst>
              <a:gd name="textAreaLeft" fmla="*/ 346320 w 1575000"/>
              <a:gd name="textAreaRight" fmla="*/ 1228680 w 1575000"/>
              <a:gd name="textAreaTop" fmla="*/ 491400 h 2235240"/>
              <a:gd name="textAreaBottom" fmla="*/ 1743840 h 223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5219640" y="529416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"/>
          <p:cNvGrpSpPr/>
          <p:nvPr/>
        </p:nvGrpSpPr>
        <p:grpSpPr>
          <a:xfrm>
            <a:off x="5770440" y="4441680"/>
            <a:ext cx="1719360" cy="1795320"/>
            <a:chOff x="5770440" y="4441680"/>
            <a:chExt cx="1719360" cy="1795320"/>
          </a:xfrm>
        </p:grpSpPr>
        <p:sp>
          <p:nvSpPr>
            <p:cNvPr id="1067" name=""/>
            <p:cNvSpPr/>
            <p:nvPr/>
          </p:nvSpPr>
          <p:spPr>
            <a:xfrm>
              <a:off x="5810400" y="4489200"/>
              <a:ext cx="1655640" cy="165420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770440" y="5322600"/>
              <a:ext cx="171936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808600" y="5322600"/>
              <a:ext cx="1657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645240" y="4490640"/>
              <a:ext cx="0" cy="833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H="1">
              <a:off x="6647760" y="4755240"/>
              <a:ext cx="595800" cy="565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041160" y="4741920"/>
              <a:ext cx="605160" cy="583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6492960" y="4441680"/>
              <a:ext cx="317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800" spc="-1" strike="noStrike">
                  <a:solidFill>
                    <a:srgbClr val="000000"/>
                  </a:solidFill>
                  <a:latin typeface="Comic Sans MS"/>
                </a:rPr>
                <a:t>9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fl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ally a good check is to rule a line from one point to its’ image and check that the mirror line is at right angl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g) D to D’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6" name=""/>
          <p:cNvSpPr/>
          <p:nvPr/>
        </p:nvSpPr>
        <p:spPr>
          <a:xfrm>
            <a:off x="6642000" y="2030400"/>
            <a:ext cx="0" cy="416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6480000" y="1762200"/>
            <a:ext cx="40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6494400" y="605304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4746600" y="2797200"/>
            <a:ext cx="4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6480000" y="2773440"/>
            <a:ext cx="4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8126280" y="2781360"/>
            <a:ext cx="4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7653240" y="532764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6786720" y="530064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6226200" y="5300640"/>
            <a:ext cx="826920" cy="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6108840" y="528336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2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20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20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fl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gratulations that is a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eflecti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BC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irror line x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8" name=""/>
          <p:cNvSpPr/>
          <p:nvPr/>
        </p:nvSpPr>
        <p:spPr>
          <a:xfrm>
            <a:off x="6642000" y="2030400"/>
            <a:ext cx="0" cy="416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6480000" y="1762200"/>
            <a:ext cx="40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6494400" y="605304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4746600" y="2797200"/>
            <a:ext cx="4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6480000" y="2773440"/>
            <a:ext cx="4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8126280" y="2781360"/>
            <a:ext cx="4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7653240" y="532764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6786720" y="530064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>
            <a:hlinkClick r:id="rId1" action="ppaction://hlinksldjump"/>
          </p:cNvPr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>
            <a:hlinkClick r:id="rId2" action="ppaction://hlinksldjump"/>
          </p:cNvPr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6643800" y="3065400"/>
            <a:ext cx="1574640" cy="2235240"/>
          </a:xfrm>
          <a:custGeom>
            <a:avLst/>
            <a:gdLst>
              <a:gd name="textAreaLeft" fmla="*/ 346320 w 1574640"/>
              <a:gd name="textAreaRight" fmla="*/ 1228320 w 1574640"/>
              <a:gd name="textAreaTop" fmla="*/ 491400 h 2235240"/>
              <a:gd name="textAreaBottom" fmla="*/ 1743840 h 223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5041800" y="3065400"/>
            <a:ext cx="1575000" cy="2235240"/>
          </a:xfrm>
          <a:custGeom>
            <a:avLst/>
            <a:gdLst>
              <a:gd name="textAreaLeft" fmla="*/ 346320 w 1575000"/>
              <a:gd name="textAreaRight" fmla="*/ 1228680 w 1575000"/>
              <a:gd name="textAreaTop" fmla="*/ 491400 h 2235240"/>
              <a:gd name="textAreaBottom" fmla="*/ 1743840 h 223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5219640" y="529416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6108840" y="528336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do a rotation you need 3 things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obj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rot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entr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rotate arou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ng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say how far to g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4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tate the triangle ABC, 90° around point 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9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601200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6910560" y="2460600"/>
            <a:ext cx="55440" cy="1319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6332400" y="209700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entre of R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 flipH="1" flipV="1">
            <a:off x="6172200" y="3455640"/>
            <a:ext cx="295200" cy="17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5243400" y="5176800"/>
            <a:ext cx="271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The object to Ro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are a number of methods of rotating shap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e is to trace the shape onto paper, then rotate the paper 90°, with your compass pt through the centre of rotatio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other way is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2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601200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raw a line from one of the corners to the centre, in this case 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1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601200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 flipH="1" flipV="1">
            <a:off x="5688000" y="1304640"/>
            <a:ext cx="1962000" cy="3871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20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9" name=""/>
          <p:cNvGrpSpPr/>
          <p:nvPr/>
        </p:nvGrpSpPr>
        <p:grpSpPr>
          <a:xfrm>
            <a:off x="4716360" y="1727280"/>
            <a:ext cx="4427640" cy="4484520"/>
            <a:chOff x="4716360" y="1727280"/>
            <a:chExt cx="4427640" cy="4484520"/>
          </a:xfrm>
        </p:grpSpPr>
        <p:sp>
          <p:nvSpPr>
            <p:cNvPr id="1140" name=""/>
            <p:cNvSpPr/>
            <p:nvPr/>
          </p:nvSpPr>
          <p:spPr>
            <a:xfrm>
              <a:off x="4835520" y="1727280"/>
              <a:ext cx="4308480" cy="43084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716360" y="2714760"/>
              <a:ext cx="857520" cy="310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384880" y="5311800"/>
              <a:ext cx="3149640" cy="90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8520120" y="5079960"/>
              <a:ext cx="217440" cy="33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8815320" y="4176720"/>
              <a:ext cx="304920" cy="852480"/>
            </a:xfrm>
            <a:custGeom>
              <a:avLst/>
              <a:gdLst/>
              <a:ahLst/>
              <a:rect l="l" t="t" r="r" b="b"/>
              <a:pathLst>
                <a:path w="192" h="537">
                  <a:moveTo>
                    <a:pt x="192" y="0"/>
                  </a:moveTo>
                  <a:cubicBezTo>
                    <a:pt x="188" y="24"/>
                    <a:pt x="188" y="52"/>
                    <a:pt x="180" y="75"/>
                  </a:cubicBezTo>
                  <a:cubicBezTo>
                    <a:pt x="176" y="106"/>
                    <a:pt x="165" y="135"/>
                    <a:pt x="159" y="165"/>
                  </a:cubicBezTo>
                  <a:cubicBezTo>
                    <a:pt x="157" y="177"/>
                    <a:pt x="154" y="189"/>
                    <a:pt x="150" y="201"/>
                  </a:cubicBezTo>
                  <a:cubicBezTo>
                    <a:pt x="148" y="207"/>
                    <a:pt x="144" y="219"/>
                    <a:pt x="144" y="219"/>
                  </a:cubicBezTo>
                  <a:cubicBezTo>
                    <a:pt x="141" y="246"/>
                    <a:pt x="141" y="248"/>
                    <a:pt x="126" y="270"/>
                  </a:cubicBezTo>
                  <a:cubicBezTo>
                    <a:pt x="112" y="291"/>
                    <a:pt x="115" y="317"/>
                    <a:pt x="96" y="336"/>
                  </a:cubicBezTo>
                  <a:cubicBezTo>
                    <a:pt x="91" y="352"/>
                    <a:pt x="87" y="383"/>
                    <a:pt x="78" y="396"/>
                  </a:cubicBezTo>
                  <a:cubicBezTo>
                    <a:pt x="74" y="402"/>
                    <a:pt x="68" y="407"/>
                    <a:pt x="66" y="414"/>
                  </a:cubicBezTo>
                  <a:cubicBezTo>
                    <a:pt x="60" y="431"/>
                    <a:pt x="60" y="437"/>
                    <a:pt x="45" y="447"/>
                  </a:cubicBezTo>
                  <a:cubicBezTo>
                    <a:pt x="37" y="470"/>
                    <a:pt x="23" y="502"/>
                    <a:pt x="6" y="519"/>
                  </a:cubicBezTo>
                  <a:cubicBezTo>
                    <a:pt x="4" y="525"/>
                    <a:pt x="0" y="537"/>
                    <a:pt x="0" y="537"/>
                  </a:cubicBezTo>
                </a:path>
              </a:pathLst>
            </a:custGeom>
            <a:noFill/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n draw an arc with the compass pt at the centre and pencil on the same corn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7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601200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 flipH="1" flipV="1">
            <a:off x="5688000" y="1304640"/>
            <a:ext cx="1962000" cy="387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4848120" y="1725480"/>
            <a:ext cx="4308480" cy="430848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8753400" y="5029200"/>
            <a:ext cx="42840" cy="104760"/>
          </a:xfrm>
          <a:custGeom>
            <a:avLst/>
            <a:gdLst/>
            <a:ahLst/>
            <a:rect l="l" t="t" r="r" b="b"/>
            <a:pathLst>
              <a:path w="27" h="66">
                <a:moveTo>
                  <a:pt x="0" y="0"/>
                </a:moveTo>
                <a:cubicBezTo>
                  <a:pt x="4" y="13"/>
                  <a:pt x="5" y="20"/>
                  <a:pt x="15" y="30"/>
                </a:cubicBezTo>
                <a:cubicBezTo>
                  <a:pt x="19" y="43"/>
                  <a:pt x="27" y="51"/>
                  <a:pt x="27" y="66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8798040" y="500544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8728200" y="509256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16" dur="20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19" dur="20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9" name=""/>
          <p:cNvGrpSpPr/>
          <p:nvPr/>
        </p:nvGrpSpPr>
        <p:grpSpPr>
          <a:xfrm>
            <a:off x="4716360" y="1727280"/>
            <a:ext cx="4427640" cy="4484520"/>
            <a:chOff x="4716360" y="1727280"/>
            <a:chExt cx="4427640" cy="4484520"/>
          </a:xfrm>
        </p:grpSpPr>
        <p:sp>
          <p:nvSpPr>
            <p:cNvPr id="1160" name=""/>
            <p:cNvSpPr/>
            <p:nvPr/>
          </p:nvSpPr>
          <p:spPr>
            <a:xfrm>
              <a:off x="4835520" y="1727280"/>
              <a:ext cx="4308480" cy="43084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716360" y="2714760"/>
              <a:ext cx="857520" cy="310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384880" y="5311800"/>
              <a:ext cx="3149640" cy="90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8520120" y="5079960"/>
              <a:ext cx="217440" cy="33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8815320" y="4176720"/>
              <a:ext cx="304920" cy="852480"/>
            </a:xfrm>
            <a:custGeom>
              <a:avLst/>
              <a:gdLst/>
              <a:ahLst/>
              <a:rect l="l" t="t" r="r" b="b"/>
              <a:pathLst>
                <a:path w="192" h="537">
                  <a:moveTo>
                    <a:pt x="192" y="0"/>
                  </a:moveTo>
                  <a:cubicBezTo>
                    <a:pt x="188" y="24"/>
                    <a:pt x="188" y="52"/>
                    <a:pt x="180" y="75"/>
                  </a:cubicBezTo>
                  <a:cubicBezTo>
                    <a:pt x="176" y="106"/>
                    <a:pt x="165" y="135"/>
                    <a:pt x="159" y="165"/>
                  </a:cubicBezTo>
                  <a:cubicBezTo>
                    <a:pt x="157" y="177"/>
                    <a:pt x="154" y="189"/>
                    <a:pt x="150" y="201"/>
                  </a:cubicBezTo>
                  <a:cubicBezTo>
                    <a:pt x="148" y="207"/>
                    <a:pt x="144" y="219"/>
                    <a:pt x="144" y="219"/>
                  </a:cubicBezTo>
                  <a:cubicBezTo>
                    <a:pt x="141" y="246"/>
                    <a:pt x="141" y="248"/>
                    <a:pt x="126" y="270"/>
                  </a:cubicBezTo>
                  <a:cubicBezTo>
                    <a:pt x="112" y="291"/>
                    <a:pt x="115" y="317"/>
                    <a:pt x="96" y="336"/>
                  </a:cubicBezTo>
                  <a:cubicBezTo>
                    <a:pt x="91" y="352"/>
                    <a:pt x="87" y="383"/>
                    <a:pt x="78" y="396"/>
                  </a:cubicBezTo>
                  <a:cubicBezTo>
                    <a:pt x="74" y="402"/>
                    <a:pt x="68" y="407"/>
                    <a:pt x="66" y="414"/>
                  </a:cubicBezTo>
                  <a:cubicBezTo>
                    <a:pt x="60" y="431"/>
                    <a:pt x="60" y="437"/>
                    <a:pt x="45" y="447"/>
                  </a:cubicBezTo>
                  <a:cubicBezTo>
                    <a:pt x="37" y="470"/>
                    <a:pt x="23" y="502"/>
                    <a:pt x="6" y="519"/>
                  </a:cubicBezTo>
                  <a:cubicBezTo>
                    <a:pt x="4" y="525"/>
                    <a:pt x="0" y="537"/>
                    <a:pt x="0" y="537"/>
                  </a:cubicBezTo>
                </a:path>
              </a:pathLst>
            </a:custGeom>
            <a:noFill/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5" name=""/>
          <p:cNvGrpSpPr/>
          <p:nvPr/>
        </p:nvGrpSpPr>
        <p:grpSpPr>
          <a:xfrm>
            <a:off x="5774400" y="2748240"/>
            <a:ext cx="2324520" cy="2287080"/>
            <a:chOff x="5774400" y="2748240"/>
            <a:chExt cx="2324520" cy="2287080"/>
          </a:xfrm>
        </p:grpSpPr>
        <p:sp>
          <p:nvSpPr>
            <p:cNvPr id="1166" name=""/>
            <p:cNvSpPr/>
            <p:nvPr/>
          </p:nvSpPr>
          <p:spPr>
            <a:xfrm rot="3791400">
              <a:off x="6159600" y="3033000"/>
              <a:ext cx="1655640" cy="165420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 rot="3791400">
              <a:off x="5710320" y="3604680"/>
              <a:ext cx="171936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607800" y="3122640"/>
              <a:ext cx="747360" cy="1479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6983640" y="3493800"/>
              <a:ext cx="744120" cy="376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H="1" flipV="1">
              <a:off x="6987600" y="3870720"/>
              <a:ext cx="773640" cy="27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6983280" y="3068280"/>
              <a:ext cx="247680" cy="803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 rot="3791400">
              <a:off x="7518960" y="3418560"/>
              <a:ext cx="317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800" spc="-1" strike="noStrike">
                  <a:solidFill>
                    <a:srgbClr val="000000"/>
                  </a:solidFill>
                  <a:latin typeface="Comic Sans MS"/>
                </a:rPr>
                <a:t>9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asure the angle of rotation from the line B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5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601200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 flipH="1" flipV="1">
            <a:off x="5688000" y="1304640"/>
            <a:ext cx="1962000" cy="387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8753400" y="5029200"/>
            <a:ext cx="42840" cy="104760"/>
          </a:xfrm>
          <a:custGeom>
            <a:avLst/>
            <a:gdLst/>
            <a:ahLst/>
            <a:rect l="l" t="t" r="r" b="b"/>
            <a:pathLst>
              <a:path w="27" h="66">
                <a:moveTo>
                  <a:pt x="0" y="0"/>
                </a:moveTo>
                <a:cubicBezTo>
                  <a:pt x="4" y="13"/>
                  <a:pt x="5" y="20"/>
                  <a:pt x="15" y="30"/>
                </a:cubicBezTo>
                <a:cubicBezTo>
                  <a:pt x="19" y="43"/>
                  <a:pt x="27" y="51"/>
                  <a:pt x="27" y="66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8798040" y="500544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8728200" y="509256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 flipV="1">
            <a:off x="7013520" y="3452760"/>
            <a:ext cx="77004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20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20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20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173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compass on B and draw and arc above and below the 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"/>
          <p:cNvSpPr/>
          <p:nvPr/>
        </p:nvSpPr>
        <p:spPr>
          <a:xfrm>
            <a:off x="3868560" y="3284640"/>
            <a:ext cx="3419640" cy="3382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08560" y="4941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684920" y="27082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840120" y="3068640"/>
            <a:ext cx="146844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950240" y="4395960"/>
            <a:ext cx="6858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461440" y="4121280"/>
            <a:ext cx="452520" cy="479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999640" y="4035600"/>
            <a:ext cx="1443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9055080" y="2046240"/>
            <a:ext cx="88920" cy="46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142120" y="1552680"/>
            <a:ext cx="281160" cy="112680"/>
          </a:xfrm>
          <a:custGeom>
            <a:avLst/>
            <a:gdLst/>
            <a:ahLst/>
            <a:rect l="l" t="t" r="r" b="b"/>
            <a:pathLst>
              <a:path w="177" h="71">
                <a:moveTo>
                  <a:pt x="0" y="0"/>
                </a:moveTo>
                <a:cubicBezTo>
                  <a:pt x="36" y="7"/>
                  <a:pt x="66" y="17"/>
                  <a:pt x="101" y="28"/>
                </a:cubicBezTo>
                <a:cubicBezTo>
                  <a:pt x="164" y="69"/>
                  <a:pt x="177" y="71"/>
                  <a:pt x="128" y="55"/>
                </a:cubicBezTo>
                <a:cubicBezTo>
                  <a:pt x="63" y="12"/>
                  <a:pt x="94" y="25"/>
                  <a:pt x="37" y="9"/>
                </a:cubicBezTo>
                <a:cubicBezTo>
                  <a:pt x="28" y="12"/>
                  <a:pt x="2" y="12"/>
                  <a:pt x="9" y="19"/>
                </a:cubicBezTo>
                <a:cubicBezTo>
                  <a:pt x="20" y="30"/>
                  <a:pt x="40" y="24"/>
                  <a:pt x="55" y="28"/>
                </a:cubicBezTo>
                <a:cubicBezTo>
                  <a:pt x="74" y="33"/>
                  <a:pt x="110" y="46"/>
                  <a:pt x="110" y="46"/>
                </a:cubicBezTo>
                <a:cubicBezTo>
                  <a:pt x="119" y="52"/>
                  <a:pt x="137" y="64"/>
                  <a:pt x="137" y="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912160" y="1960560"/>
            <a:ext cx="139680" cy="287280"/>
          </a:xfrm>
          <a:custGeom>
            <a:avLst/>
            <a:gdLst/>
            <a:ahLst/>
            <a:rect l="l" t="t" r="r" b="b"/>
            <a:pathLst>
              <a:path w="88" h="181">
                <a:moveTo>
                  <a:pt x="0" y="36"/>
                </a:moveTo>
                <a:cubicBezTo>
                  <a:pt x="42" y="100"/>
                  <a:pt x="18" y="79"/>
                  <a:pt x="64" y="109"/>
                </a:cubicBezTo>
                <a:cubicBezTo>
                  <a:pt x="88" y="181"/>
                  <a:pt x="30" y="103"/>
                  <a:pt x="18" y="91"/>
                </a:cubicBezTo>
                <a:cubicBezTo>
                  <a:pt x="16" y="83"/>
                  <a:pt x="0" y="0"/>
                  <a:pt x="0" y="36"/>
                </a:cubicBezTo>
                <a:close/>
              </a:path>
            </a:pathLst>
          </a:custGeom>
          <a:solidFill>
            <a:srgbClr val="ffef66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955000" y="4238640"/>
            <a:ext cx="1800" cy="130320"/>
          </a:xfrm>
          <a:custGeom>
            <a:avLst/>
            <a:gdLst/>
            <a:ahLst/>
            <a:rect l="l" t="t" r="r" b="b"/>
            <a:pathLst>
              <a:path w="1" h="82">
                <a:moveTo>
                  <a:pt x="0" y="0"/>
                </a:moveTo>
                <a:cubicBezTo>
                  <a:pt x="0" y="27"/>
                  <a:pt x="0" y="55"/>
                  <a:pt x="0" y="82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621640" y="178596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0"/>
                </a:moveTo>
                <a:cubicBezTo>
                  <a:pt x="33" y="22"/>
                  <a:pt x="17" y="13"/>
                  <a:pt x="46" y="27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142120" y="1552680"/>
            <a:ext cx="281160" cy="112680"/>
          </a:xfrm>
          <a:custGeom>
            <a:avLst/>
            <a:gdLst/>
            <a:ahLst/>
            <a:rect l="l" t="t" r="r" b="b"/>
            <a:pathLst>
              <a:path w="177" h="71">
                <a:moveTo>
                  <a:pt x="0" y="0"/>
                </a:moveTo>
                <a:cubicBezTo>
                  <a:pt x="36" y="7"/>
                  <a:pt x="66" y="17"/>
                  <a:pt x="101" y="28"/>
                </a:cubicBezTo>
                <a:cubicBezTo>
                  <a:pt x="164" y="69"/>
                  <a:pt x="177" y="71"/>
                  <a:pt x="128" y="55"/>
                </a:cubicBezTo>
                <a:cubicBezTo>
                  <a:pt x="63" y="12"/>
                  <a:pt x="94" y="25"/>
                  <a:pt x="37" y="9"/>
                </a:cubicBezTo>
                <a:cubicBezTo>
                  <a:pt x="28" y="12"/>
                  <a:pt x="2" y="12"/>
                  <a:pt x="9" y="19"/>
                </a:cubicBezTo>
                <a:cubicBezTo>
                  <a:pt x="20" y="30"/>
                  <a:pt x="40" y="24"/>
                  <a:pt x="55" y="28"/>
                </a:cubicBezTo>
                <a:cubicBezTo>
                  <a:pt x="74" y="33"/>
                  <a:pt x="110" y="46"/>
                  <a:pt x="110" y="46"/>
                </a:cubicBezTo>
                <a:cubicBezTo>
                  <a:pt x="119" y="52"/>
                  <a:pt x="137" y="64"/>
                  <a:pt x="137" y="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621640" y="178596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0"/>
                </a:moveTo>
                <a:cubicBezTo>
                  <a:pt x="33" y="22"/>
                  <a:pt x="17" y="13"/>
                  <a:pt x="46" y="27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408480" y="5445000"/>
            <a:ext cx="4897440" cy="141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7" name=""/>
          <p:cNvGrpSpPr/>
          <p:nvPr/>
        </p:nvGrpSpPr>
        <p:grpSpPr>
          <a:xfrm>
            <a:off x="4716360" y="1727280"/>
            <a:ext cx="4427640" cy="4484520"/>
            <a:chOff x="4716360" y="1727280"/>
            <a:chExt cx="4427640" cy="4484520"/>
          </a:xfrm>
        </p:grpSpPr>
        <p:sp>
          <p:nvSpPr>
            <p:cNvPr id="1188" name=""/>
            <p:cNvSpPr/>
            <p:nvPr/>
          </p:nvSpPr>
          <p:spPr>
            <a:xfrm>
              <a:off x="4835520" y="1727280"/>
              <a:ext cx="4308480" cy="4308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716360" y="2714760"/>
              <a:ext cx="857520" cy="310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384880" y="5311800"/>
              <a:ext cx="3149640" cy="90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8520120" y="5079960"/>
              <a:ext cx="217440" cy="33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8815320" y="4176720"/>
              <a:ext cx="304920" cy="852480"/>
            </a:xfrm>
            <a:custGeom>
              <a:avLst/>
              <a:gdLst/>
              <a:ahLst/>
              <a:rect l="l" t="t" r="r" b="b"/>
              <a:pathLst>
                <a:path w="192" h="537">
                  <a:moveTo>
                    <a:pt x="192" y="0"/>
                  </a:moveTo>
                  <a:cubicBezTo>
                    <a:pt x="188" y="24"/>
                    <a:pt x="188" y="52"/>
                    <a:pt x="180" y="75"/>
                  </a:cubicBezTo>
                  <a:cubicBezTo>
                    <a:pt x="176" y="106"/>
                    <a:pt x="165" y="135"/>
                    <a:pt x="159" y="165"/>
                  </a:cubicBezTo>
                  <a:cubicBezTo>
                    <a:pt x="157" y="177"/>
                    <a:pt x="154" y="189"/>
                    <a:pt x="150" y="201"/>
                  </a:cubicBezTo>
                  <a:cubicBezTo>
                    <a:pt x="148" y="207"/>
                    <a:pt x="144" y="219"/>
                    <a:pt x="144" y="219"/>
                  </a:cubicBezTo>
                  <a:cubicBezTo>
                    <a:pt x="141" y="246"/>
                    <a:pt x="141" y="248"/>
                    <a:pt x="126" y="270"/>
                  </a:cubicBezTo>
                  <a:cubicBezTo>
                    <a:pt x="112" y="291"/>
                    <a:pt x="115" y="317"/>
                    <a:pt x="96" y="336"/>
                  </a:cubicBezTo>
                  <a:cubicBezTo>
                    <a:pt x="91" y="352"/>
                    <a:pt x="87" y="383"/>
                    <a:pt x="78" y="396"/>
                  </a:cubicBezTo>
                  <a:cubicBezTo>
                    <a:pt x="74" y="402"/>
                    <a:pt x="68" y="407"/>
                    <a:pt x="66" y="414"/>
                  </a:cubicBezTo>
                  <a:cubicBezTo>
                    <a:pt x="60" y="431"/>
                    <a:pt x="60" y="437"/>
                    <a:pt x="45" y="447"/>
                  </a:cubicBezTo>
                  <a:cubicBezTo>
                    <a:pt x="37" y="470"/>
                    <a:pt x="23" y="502"/>
                    <a:pt x="6" y="519"/>
                  </a:cubicBezTo>
                  <a:cubicBezTo>
                    <a:pt x="4" y="525"/>
                    <a:pt x="0" y="537"/>
                    <a:pt x="0" y="537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re that line crosses the arc label B’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5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601200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 flipH="1" flipV="1">
            <a:off x="5688000" y="1304640"/>
            <a:ext cx="1962000" cy="387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8753400" y="5029200"/>
            <a:ext cx="42840" cy="104760"/>
          </a:xfrm>
          <a:custGeom>
            <a:avLst/>
            <a:gdLst/>
            <a:ahLst/>
            <a:rect l="l" t="t" r="r" b="b"/>
            <a:pathLst>
              <a:path w="27" h="66">
                <a:moveTo>
                  <a:pt x="0" y="0"/>
                </a:moveTo>
                <a:cubicBezTo>
                  <a:pt x="4" y="13"/>
                  <a:pt x="5" y="20"/>
                  <a:pt x="15" y="30"/>
                </a:cubicBezTo>
                <a:cubicBezTo>
                  <a:pt x="19" y="43"/>
                  <a:pt x="27" y="51"/>
                  <a:pt x="27" y="66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8798040" y="500544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8728200" y="509256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 flipV="1">
            <a:off x="7738920" y="3452400"/>
            <a:ext cx="446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 flipV="1">
            <a:off x="6997680" y="2711160"/>
            <a:ext cx="2146320" cy="1176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8454960" y="260028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9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3" dur="10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9" name=""/>
          <p:cNvGrpSpPr/>
          <p:nvPr/>
        </p:nvGrpSpPr>
        <p:grpSpPr>
          <a:xfrm>
            <a:off x="4716360" y="1727280"/>
            <a:ext cx="4427640" cy="4484520"/>
            <a:chOff x="4716360" y="1727280"/>
            <a:chExt cx="4427640" cy="4484520"/>
          </a:xfrm>
        </p:grpSpPr>
        <p:sp>
          <p:nvSpPr>
            <p:cNvPr id="1210" name=""/>
            <p:cNvSpPr/>
            <p:nvPr/>
          </p:nvSpPr>
          <p:spPr>
            <a:xfrm>
              <a:off x="4835520" y="1727280"/>
              <a:ext cx="4308480" cy="430848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716360" y="2714760"/>
              <a:ext cx="857520" cy="31050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384880" y="5311800"/>
              <a:ext cx="3149640" cy="9000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8520120" y="5079960"/>
              <a:ext cx="217440" cy="333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8815320" y="4176720"/>
              <a:ext cx="304920" cy="852480"/>
            </a:xfrm>
            <a:custGeom>
              <a:avLst/>
              <a:gdLst/>
              <a:ahLst/>
              <a:rect l="l" t="t" r="r" b="b"/>
              <a:pathLst>
                <a:path w="192" h="537">
                  <a:moveTo>
                    <a:pt x="192" y="0"/>
                  </a:moveTo>
                  <a:cubicBezTo>
                    <a:pt x="188" y="24"/>
                    <a:pt x="188" y="52"/>
                    <a:pt x="180" y="75"/>
                  </a:cubicBezTo>
                  <a:cubicBezTo>
                    <a:pt x="176" y="106"/>
                    <a:pt x="165" y="135"/>
                    <a:pt x="159" y="165"/>
                  </a:cubicBezTo>
                  <a:cubicBezTo>
                    <a:pt x="157" y="177"/>
                    <a:pt x="154" y="189"/>
                    <a:pt x="150" y="201"/>
                  </a:cubicBezTo>
                  <a:cubicBezTo>
                    <a:pt x="148" y="207"/>
                    <a:pt x="144" y="219"/>
                    <a:pt x="144" y="219"/>
                  </a:cubicBezTo>
                  <a:cubicBezTo>
                    <a:pt x="141" y="246"/>
                    <a:pt x="141" y="248"/>
                    <a:pt x="126" y="270"/>
                  </a:cubicBezTo>
                  <a:cubicBezTo>
                    <a:pt x="112" y="291"/>
                    <a:pt x="115" y="317"/>
                    <a:pt x="96" y="336"/>
                  </a:cubicBezTo>
                  <a:cubicBezTo>
                    <a:pt x="91" y="352"/>
                    <a:pt x="87" y="383"/>
                    <a:pt x="78" y="396"/>
                  </a:cubicBezTo>
                  <a:cubicBezTo>
                    <a:pt x="74" y="402"/>
                    <a:pt x="68" y="407"/>
                    <a:pt x="66" y="414"/>
                  </a:cubicBezTo>
                  <a:cubicBezTo>
                    <a:pt x="60" y="431"/>
                    <a:pt x="60" y="437"/>
                    <a:pt x="45" y="447"/>
                  </a:cubicBezTo>
                  <a:cubicBezTo>
                    <a:pt x="37" y="470"/>
                    <a:pt x="23" y="502"/>
                    <a:pt x="6" y="519"/>
                  </a:cubicBezTo>
                  <a:cubicBezTo>
                    <a:pt x="4" y="525"/>
                    <a:pt x="0" y="537"/>
                    <a:pt x="0" y="537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re that line crosses the arc label B’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7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601200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 flipH="1" flipV="1">
            <a:off x="5688000" y="1304640"/>
            <a:ext cx="1962000" cy="387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8753400" y="5029200"/>
            <a:ext cx="42840" cy="104760"/>
          </a:xfrm>
          <a:custGeom>
            <a:avLst/>
            <a:gdLst/>
            <a:ahLst/>
            <a:rect l="l" t="t" r="r" b="b"/>
            <a:pathLst>
              <a:path w="27" h="66">
                <a:moveTo>
                  <a:pt x="0" y="0"/>
                </a:moveTo>
                <a:cubicBezTo>
                  <a:pt x="4" y="13"/>
                  <a:pt x="5" y="20"/>
                  <a:pt x="15" y="30"/>
                </a:cubicBezTo>
                <a:cubicBezTo>
                  <a:pt x="19" y="43"/>
                  <a:pt x="27" y="51"/>
                  <a:pt x="27" y="66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8798040" y="500544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8728200" y="509256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 flipV="1">
            <a:off x="6997680" y="2711160"/>
            <a:ext cx="2146320" cy="117612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8454960" y="260028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8840880" y="2816280"/>
            <a:ext cx="1015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1" name=""/>
          <p:cNvGrpSpPr/>
          <p:nvPr/>
        </p:nvGrpSpPr>
        <p:grpSpPr>
          <a:xfrm>
            <a:off x="5951520" y="2916360"/>
            <a:ext cx="1987560" cy="1931760"/>
            <a:chOff x="5951520" y="2916360"/>
            <a:chExt cx="1987560" cy="1931760"/>
          </a:xfrm>
        </p:grpSpPr>
        <p:sp>
          <p:nvSpPr>
            <p:cNvPr id="1232" name=""/>
            <p:cNvSpPr/>
            <p:nvPr/>
          </p:nvSpPr>
          <p:spPr>
            <a:xfrm>
              <a:off x="6008760" y="2916360"/>
              <a:ext cx="1900080" cy="19000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678800" y="3251160"/>
              <a:ext cx="260280" cy="129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951520" y="4238640"/>
              <a:ext cx="175572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5" name=""/>
          <p:cNvGrpSpPr/>
          <p:nvPr/>
        </p:nvGrpSpPr>
        <p:grpSpPr>
          <a:xfrm>
            <a:off x="6103800" y="2997360"/>
            <a:ext cx="1719360" cy="1795320"/>
            <a:chOff x="6103800" y="2997360"/>
            <a:chExt cx="1719360" cy="1795320"/>
          </a:xfrm>
        </p:grpSpPr>
        <p:sp>
          <p:nvSpPr>
            <p:cNvPr id="1236" name=""/>
            <p:cNvSpPr/>
            <p:nvPr/>
          </p:nvSpPr>
          <p:spPr>
            <a:xfrm>
              <a:off x="6143760" y="3044880"/>
              <a:ext cx="1655640" cy="165420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103800" y="3878280"/>
              <a:ext cx="171936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141960" y="3878280"/>
              <a:ext cx="1657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978600" y="3046320"/>
              <a:ext cx="0" cy="833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H="1">
              <a:off x="6981120" y="3310920"/>
              <a:ext cx="595800" cy="565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374520" y="3297600"/>
              <a:ext cx="605160" cy="583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826320" y="2997360"/>
              <a:ext cx="317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800" spc="-1" strike="noStrike">
                  <a:solidFill>
                    <a:srgbClr val="000000"/>
                  </a:solidFill>
                  <a:latin typeface="Comic Sans MS"/>
                </a:rPr>
                <a:t>9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"/>
          <p:cNvGrpSpPr/>
          <p:nvPr/>
        </p:nvGrpSpPr>
        <p:grpSpPr>
          <a:xfrm>
            <a:off x="4716360" y="1727280"/>
            <a:ext cx="4427640" cy="4484520"/>
            <a:chOff x="4716360" y="1727280"/>
            <a:chExt cx="4427640" cy="4484520"/>
          </a:xfrm>
        </p:grpSpPr>
        <p:sp>
          <p:nvSpPr>
            <p:cNvPr id="1244" name=""/>
            <p:cNvSpPr/>
            <p:nvPr/>
          </p:nvSpPr>
          <p:spPr>
            <a:xfrm>
              <a:off x="4835520" y="1727280"/>
              <a:ext cx="4308480" cy="430848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716360" y="2714760"/>
              <a:ext cx="857520" cy="31050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384880" y="5311800"/>
              <a:ext cx="3149640" cy="9000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8520120" y="5079960"/>
              <a:ext cx="217440" cy="333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8815320" y="4176720"/>
              <a:ext cx="304920" cy="852480"/>
            </a:xfrm>
            <a:custGeom>
              <a:avLst/>
              <a:gdLst/>
              <a:ahLst/>
              <a:rect l="l" t="t" r="r" b="b"/>
              <a:pathLst>
                <a:path w="192" h="537">
                  <a:moveTo>
                    <a:pt x="192" y="0"/>
                  </a:moveTo>
                  <a:cubicBezTo>
                    <a:pt x="188" y="24"/>
                    <a:pt x="188" y="52"/>
                    <a:pt x="180" y="75"/>
                  </a:cubicBezTo>
                  <a:cubicBezTo>
                    <a:pt x="176" y="106"/>
                    <a:pt x="165" y="135"/>
                    <a:pt x="159" y="165"/>
                  </a:cubicBezTo>
                  <a:cubicBezTo>
                    <a:pt x="157" y="177"/>
                    <a:pt x="154" y="189"/>
                    <a:pt x="150" y="201"/>
                  </a:cubicBezTo>
                  <a:cubicBezTo>
                    <a:pt x="148" y="207"/>
                    <a:pt x="144" y="219"/>
                    <a:pt x="144" y="219"/>
                  </a:cubicBezTo>
                  <a:cubicBezTo>
                    <a:pt x="141" y="246"/>
                    <a:pt x="141" y="248"/>
                    <a:pt x="126" y="270"/>
                  </a:cubicBezTo>
                  <a:cubicBezTo>
                    <a:pt x="112" y="291"/>
                    <a:pt x="115" y="317"/>
                    <a:pt x="96" y="336"/>
                  </a:cubicBezTo>
                  <a:cubicBezTo>
                    <a:pt x="91" y="352"/>
                    <a:pt x="87" y="383"/>
                    <a:pt x="78" y="396"/>
                  </a:cubicBezTo>
                  <a:cubicBezTo>
                    <a:pt x="74" y="402"/>
                    <a:pt x="68" y="407"/>
                    <a:pt x="66" y="414"/>
                  </a:cubicBezTo>
                  <a:cubicBezTo>
                    <a:pt x="60" y="431"/>
                    <a:pt x="60" y="437"/>
                    <a:pt x="45" y="447"/>
                  </a:cubicBezTo>
                  <a:cubicBezTo>
                    <a:pt x="37" y="470"/>
                    <a:pt x="23" y="502"/>
                    <a:pt x="6" y="519"/>
                  </a:cubicBezTo>
                  <a:cubicBezTo>
                    <a:pt x="4" y="525"/>
                    <a:pt x="0" y="537"/>
                    <a:pt x="0" y="537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eat for each of the other poi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rst 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1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601200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 flipH="1" flipV="1">
            <a:off x="5688000" y="1304640"/>
            <a:ext cx="1962000" cy="387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8753400" y="5029200"/>
            <a:ext cx="42840" cy="104760"/>
          </a:xfrm>
          <a:custGeom>
            <a:avLst/>
            <a:gdLst/>
            <a:ahLst/>
            <a:rect l="l" t="t" r="r" b="b"/>
            <a:pathLst>
              <a:path w="27" h="66">
                <a:moveTo>
                  <a:pt x="0" y="0"/>
                </a:moveTo>
                <a:cubicBezTo>
                  <a:pt x="4" y="13"/>
                  <a:pt x="5" y="20"/>
                  <a:pt x="15" y="30"/>
                </a:cubicBezTo>
                <a:cubicBezTo>
                  <a:pt x="19" y="43"/>
                  <a:pt x="27" y="51"/>
                  <a:pt x="27" y="66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8798040" y="500544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8728200" y="509256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 flipV="1">
            <a:off x="6997680" y="2711160"/>
            <a:ext cx="2146320" cy="117612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8454960" y="260028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8840880" y="2816280"/>
            <a:ext cx="1015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 flipH="1">
            <a:off x="5210280" y="3889440"/>
            <a:ext cx="216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6005520" y="2914560"/>
            <a:ext cx="1900080" cy="190044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 flipV="1">
            <a:off x="6967440" y="3004920"/>
            <a:ext cx="0" cy="15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 flipV="1">
            <a:off x="6969240" y="2496600"/>
            <a:ext cx="0" cy="134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6921360" y="2859120"/>
            <a:ext cx="10188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6913440" y="259704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3" dur="20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6" dur="20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9" dur="20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20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70" dur="20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73" dur="2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76" dur="20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20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20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7" dur="20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1" dur="1000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1000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20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20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20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0" dur="20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3" dur="20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6" dur="20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9" dur="2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2" dur="20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1" name=""/>
          <p:cNvGrpSpPr/>
          <p:nvPr/>
        </p:nvGrpSpPr>
        <p:grpSpPr>
          <a:xfrm>
            <a:off x="6545160" y="3497400"/>
            <a:ext cx="1190880" cy="1060200"/>
            <a:chOff x="6545160" y="3497400"/>
            <a:chExt cx="1190880" cy="1060200"/>
          </a:xfrm>
        </p:grpSpPr>
        <p:sp>
          <p:nvSpPr>
            <p:cNvPr id="1272" name=""/>
            <p:cNvSpPr/>
            <p:nvPr/>
          </p:nvSpPr>
          <p:spPr>
            <a:xfrm>
              <a:off x="6648480" y="3529080"/>
              <a:ext cx="698400" cy="698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545160" y="4005360"/>
              <a:ext cx="1190880" cy="552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7272360" y="3497400"/>
              <a:ext cx="333360" cy="82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"/>
          <p:cNvGrpSpPr/>
          <p:nvPr/>
        </p:nvGrpSpPr>
        <p:grpSpPr>
          <a:xfrm>
            <a:off x="6105600" y="2998800"/>
            <a:ext cx="1719360" cy="1795320"/>
            <a:chOff x="6105600" y="2998800"/>
            <a:chExt cx="1719360" cy="1795320"/>
          </a:xfrm>
        </p:grpSpPr>
        <p:sp>
          <p:nvSpPr>
            <p:cNvPr id="1276" name=""/>
            <p:cNvSpPr/>
            <p:nvPr/>
          </p:nvSpPr>
          <p:spPr>
            <a:xfrm>
              <a:off x="6145560" y="3046320"/>
              <a:ext cx="1655640" cy="165420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6105600" y="3879720"/>
              <a:ext cx="171936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143760" y="3879720"/>
              <a:ext cx="1657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980400" y="3047760"/>
              <a:ext cx="0" cy="833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 flipH="1">
              <a:off x="6982920" y="3312360"/>
              <a:ext cx="595800" cy="565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6376320" y="3299040"/>
              <a:ext cx="605160" cy="583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6828120" y="2998800"/>
              <a:ext cx="317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800" spc="-1" strike="noStrike">
                  <a:solidFill>
                    <a:srgbClr val="000000"/>
                  </a:solidFill>
                  <a:latin typeface="Comic Sans MS"/>
                </a:rPr>
                <a:t>9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eat for each of the other poi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w 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5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601200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8753400" y="5029200"/>
            <a:ext cx="42840" cy="104760"/>
          </a:xfrm>
          <a:custGeom>
            <a:avLst/>
            <a:gdLst/>
            <a:ahLst/>
            <a:rect l="l" t="t" r="r" b="b"/>
            <a:pathLst>
              <a:path w="27" h="66">
                <a:moveTo>
                  <a:pt x="0" y="0"/>
                </a:moveTo>
                <a:cubicBezTo>
                  <a:pt x="4" y="13"/>
                  <a:pt x="5" y="20"/>
                  <a:pt x="15" y="30"/>
                </a:cubicBezTo>
                <a:cubicBezTo>
                  <a:pt x="19" y="43"/>
                  <a:pt x="27" y="51"/>
                  <a:pt x="27" y="66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8798040" y="500544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8728200" y="509256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8454960" y="260028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8840880" y="2816280"/>
            <a:ext cx="1015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 flipH="1">
            <a:off x="6138360" y="3889440"/>
            <a:ext cx="12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6921360" y="2859120"/>
            <a:ext cx="10188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6913440" y="259704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6645240" y="3527280"/>
            <a:ext cx="698400" cy="6987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 flipV="1">
            <a:off x="6967440" y="3005280"/>
            <a:ext cx="0" cy="8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6967440" y="3440160"/>
            <a:ext cx="0" cy="43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6924600" y="3484440"/>
            <a:ext cx="1015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6886440" y="34671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20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35" dur="20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38" dur="20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20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20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9" dur="20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53" dur="1000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1000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0" dur="20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20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20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2" dur="20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5" dur="20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8" dur="20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1" dur="20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4" dur="20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w join the points of the imag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7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601200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8753400" y="5029200"/>
            <a:ext cx="42840" cy="104760"/>
          </a:xfrm>
          <a:custGeom>
            <a:avLst/>
            <a:gdLst/>
            <a:ahLst/>
            <a:rect l="l" t="t" r="r" b="b"/>
            <a:pathLst>
              <a:path w="27" h="66">
                <a:moveTo>
                  <a:pt x="0" y="0"/>
                </a:moveTo>
                <a:cubicBezTo>
                  <a:pt x="4" y="13"/>
                  <a:pt x="5" y="20"/>
                  <a:pt x="15" y="30"/>
                </a:cubicBezTo>
                <a:cubicBezTo>
                  <a:pt x="19" y="43"/>
                  <a:pt x="27" y="51"/>
                  <a:pt x="27" y="66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8798040" y="500544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8728200" y="509256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8454960" y="260028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8840880" y="2816280"/>
            <a:ext cx="1015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6921360" y="2859120"/>
            <a:ext cx="10188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6913440" y="259704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6924600" y="3484440"/>
            <a:ext cx="1015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6950160" y="287352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6967440" y="2903400"/>
            <a:ext cx="0" cy="6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 flipV="1">
            <a:off x="6967440" y="2859120"/>
            <a:ext cx="1930320" cy="66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20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7" dur="20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2" dur="20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gratulations that is a rotation of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BC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by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90°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round point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7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601200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8753400" y="5029200"/>
            <a:ext cx="42840" cy="104760"/>
          </a:xfrm>
          <a:custGeom>
            <a:avLst/>
            <a:gdLst/>
            <a:ahLst/>
            <a:rect l="l" t="t" r="r" b="b"/>
            <a:pathLst>
              <a:path w="27" h="66">
                <a:moveTo>
                  <a:pt x="0" y="0"/>
                </a:moveTo>
                <a:cubicBezTo>
                  <a:pt x="4" y="13"/>
                  <a:pt x="5" y="20"/>
                  <a:pt x="15" y="30"/>
                </a:cubicBezTo>
                <a:cubicBezTo>
                  <a:pt x="19" y="43"/>
                  <a:pt x="27" y="51"/>
                  <a:pt x="27" y="66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8798040" y="500544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8728200" y="509256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8454960" y="260028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8840880" y="2816280"/>
            <a:ext cx="1015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6921360" y="2859120"/>
            <a:ext cx="10188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6913440" y="259704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6924600" y="3484440"/>
            <a:ext cx="1015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6950160" y="287352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6967440" y="2903400"/>
            <a:ext cx="0" cy="6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 flipV="1">
            <a:off x="6967440" y="2859120"/>
            <a:ext cx="1930320" cy="66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>
            <a:hlinkClick r:id="rId1" action="ppaction://hlinksldjump"/>
          </p:cNvPr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>
            <a:hlinkClick r:id="rId2" action="ppaction://hlinksldjump"/>
          </p:cNvPr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do a translation you need 3 things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obj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transl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irecti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translate 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istanc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say how far to g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9" name=""/>
          <p:cNvGrpSpPr/>
          <p:nvPr/>
        </p:nvGrpSpPr>
        <p:grpSpPr>
          <a:xfrm>
            <a:off x="5364000" y="2637000"/>
            <a:ext cx="1729080" cy="3313080"/>
            <a:chOff x="5364000" y="2637000"/>
            <a:chExt cx="1729080" cy="3313080"/>
          </a:xfrm>
        </p:grpSpPr>
        <p:sp>
          <p:nvSpPr>
            <p:cNvPr id="1350" name=""/>
            <p:cNvSpPr/>
            <p:nvPr/>
          </p:nvSpPr>
          <p:spPr>
            <a:xfrm>
              <a:off x="5796000" y="2637000"/>
              <a:ext cx="0" cy="3313080"/>
            </a:xfrm>
            <a:prstGeom prst="line">
              <a:avLst/>
            </a:prstGeom>
            <a:ln cap="rnd" w="324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6227640" y="2637000"/>
              <a:ext cx="0" cy="3313080"/>
            </a:xfrm>
            <a:prstGeom prst="line">
              <a:avLst/>
            </a:prstGeom>
            <a:ln cap="rnd" w="324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6659640" y="2637000"/>
              <a:ext cx="0" cy="3313080"/>
            </a:xfrm>
            <a:prstGeom prst="line">
              <a:avLst/>
            </a:prstGeom>
            <a:ln cap="rnd" w="324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364000" y="3068640"/>
              <a:ext cx="1729080" cy="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364000" y="3500280"/>
              <a:ext cx="1729080" cy="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364000" y="3933720"/>
              <a:ext cx="1729080" cy="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364000" y="4437000"/>
              <a:ext cx="1729080" cy="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364000" y="4869000"/>
              <a:ext cx="1729080" cy="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364000" y="5300640"/>
              <a:ext cx="1729080" cy="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nslate the shape ABCD 5cm right and 3cm dow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ote</a:t>
            </a:r>
            <a:r>
              <a:rPr b="0" lang="en-US" sz="2400" spc="-1" strike="noStrike">
                <a:solidFill>
                  <a:srgbClr val="ffb800"/>
                </a:solidFill>
                <a:latin typeface="Comic Sans MS"/>
              </a:rPr>
              <a:t> occasionally written as a vector in which case the top number means distance acro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g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1" name=""/>
          <p:cNvSpPr/>
          <p:nvPr/>
        </p:nvSpPr>
        <p:spPr>
          <a:xfrm>
            <a:off x="2422440" y="4776840"/>
            <a:ext cx="492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 flipH="1">
            <a:off x="2974680" y="4964040"/>
            <a:ext cx="6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2452680" y="4761000"/>
            <a:ext cx="392040" cy="79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2554200" y="5500800"/>
            <a:ext cx="217440" cy="1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2538360" y="4714920"/>
            <a:ext cx="217440" cy="1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3584520" y="4803840"/>
            <a:ext cx="100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Right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3454560" y="528156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ow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 flipH="1">
            <a:off x="2873160" y="5443560"/>
            <a:ext cx="63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5819760" y="3033720"/>
            <a:ext cx="812880" cy="2308320"/>
          </a:xfrm>
          <a:custGeom>
            <a:avLst/>
            <a:gdLst/>
            <a:ahLst/>
            <a:rect l="l" t="t" r="r" b="b"/>
            <a:pathLst>
              <a:path w="512" h="1454">
                <a:moveTo>
                  <a:pt x="265" y="0"/>
                </a:moveTo>
                <a:lnTo>
                  <a:pt x="0" y="594"/>
                </a:lnTo>
                <a:lnTo>
                  <a:pt x="0" y="1454"/>
                </a:lnTo>
                <a:lnTo>
                  <a:pt x="512" y="914"/>
                </a:lnTo>
                <a:lnTo>
                  <a:pt x="265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6103800" y="27288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5475240" y="3762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5581800" y="53276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6581880" y="43099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rting with pt A measure 5cm right and 3cm down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bel that A’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6" name=""/>
          <p:cNvSpPr/>
          <p:nvPr/>
        </p:nvSpPr>
        <p:spPr>
          <a:xfrm>
            <a:off x="5819760" y="3033720"/>
            <a:ext cx="812880" cy="2308320"/>
          </a:xfrm>
          <a:custGeom>
            <a:avLst/>
            <a:gdLst/>
            <a:ahLst/>
            <a:rect l="l" t="t" r="r" b="b"/>
            <a:pathLst>
              <a:path w="512" h="1454">
                <a:moveTo>
                  <a:pt x="265" y="0"/>
                </a:moveTo>
                <a:lnTo>
                  <a:pt x="0" y="594"/>
                </a:lnTo>
                <a:lnTo>
                  <a:pt x="0" y="1454"/>
                </a:lnTo>
                <a:lnTo>
                  <a:pt x="512" y="914"/>
                </a:lnTo>
                <a:lnTo>
                  <a:pt x="265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6103800" y="27288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5475240" y="3762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5581800" y="53276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6581880" y="43099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6269040" y="303372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 flipV="1">
            <a:off x="8069400" y="304812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8026560" y="41068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8061480" y="39765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6794640" y="2685960"/>
            <a:ext cx="7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5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8028000" y="3409920"/>
            <a:ext cx="7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20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20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20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2000"/>
                            </p:stCondLst>
                            <p:childTnLst>
                              <p:par>
                                <p:cTn id="8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20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4000"/>
                            </p:stCondLst>
                            <p:childTnLst>
                              <p:par>
                                <p:cTn id="824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20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20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peat for pt B measure 5cm right and 3cm down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bel that B’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9" name=""/>
          <p:cNvSpPr/>
          <p:nvPr/>
        </p:nvSpPr>
        <p:spPr>
          <a:xfrm>
            <a:off x="5819760" y="3033720"/>
            <a:ext cx="812880" cy="2308320"/>
          </a:xfrm>
          <a:custGeom>
            <a:avLst/>
            <a:gdLst/>
            <a:ahLst/>
            <a:rect l="l" t="t" r="r" b="b"/>
            <a:pathLst>
              <a:path w="512" h="1454">
                <a:moveTo>
                  <a:pt x="265" y="0"/>
                </a:moveTo>
                <a:lnTo>
                  <a:pt x="0" y="594"/>
                </a:lnTo>
                <a:lnTo>
                  <a:pt x="0" y="1454"/>
                </a:lnTo>
                <a:lnTo>
                  <a:pt x="512" y="914"/>
                </a:lnTo>
                <a:lnTo>
                  <a:pt x="265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6103800" y="27288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5475240" y="3762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5581800" y="53276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6581880" y="43243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8026560" y="41212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8061480" y="39765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5830920" y="397512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 flipV="1">
            <a:off x="7631280" y="398952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7588080" y="50482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7623000" y="49179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6356520" y="3627360"/>
            <a:ext cx="7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5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7589880" y="4336920"/>
            <a:ext cx="7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6" dur="20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2000"/>
                            </p:stCondLst>
                            <p:childTnLst>
                              <p:par>
                                <p:cTn id="8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20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5" dur="20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2000"/>
                            </p:stCondLst>
                            <p:childTnLst>
                              <p:par>
                                <p:cTn id="8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20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4000"/>
                            </p:stCondLst>
                            <p:childTnLst>
                              <p:par>
                                <p:cTn id="851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20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20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868560" y="3284640"/>
            <a:ext cx="3419640" cy="3382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173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compass on B and draw and arc above and below the 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308560" y="4941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684920" y="27082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825720" y="3068640"/>
            <a:ext cx="148284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684920" y="306864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540560" y="321300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956200" y="1495440"/>
            <a:ext cx="3419640" cy="3382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950240" y="4395960"/>
            <a:ext cx="6858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461440" y="4121280"/>
            <a:ext cx="452520" cy="479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999640" y="4035600"/>
            <a:ext cx="1443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055080" y="2046240"/>
            <a:ext cx="88920" cy="46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142120" y="1552680"/>
            <a:ext cx="281160" cy="112680"/>
          </a:xfrm>
          <a:custGeom>
            <a:avLst/>
            <a:gdLst/>
            <a:ahLst/>
            <a:rect l="l" t="t" r="r" b="b"/>
            <a:pathLst>
              <a:path w="177" h="71">
                <a:moveTo>
                  <a:pt x="0" y="0"/>
                </a:moveTo>
                <a:cubicBezTo>
                  <a:pt x="36" y="7"/>
                  <a:pt x="66" y="17"/>
                  <a:pt x="101" y="28"/>
                </a:cubicBezTo>
                <a:cubicBezTo>
                  <a:pt x="164" y="69"/>
                  <a:pt x="177" y="71"/>
                  <a:pt x="128" y="55"/>
                </a:cubicBezTo>
                <a:cubicBezTo>
                  <a:pt x="63" y="12"/>
                  <a:pt x="94" y="25"/>
                  <a:pt x="37" y="9"/>
                </a:cubicBezTo>
                <a:cubicBezTo>
                  <a:pt x="28" y="12"/>
                  <a:pt x="2" y="12"/>
                  <a:pt x="9" y="19"/>
                </a:cubicBezTo>
                <a:cubicBezTo>
                  <a:pt x="20" y="30"/>
                  <a:pt x="40" y="24"/>
                  <a:pt x="55" y="28"/>
                </a:cubicBezTo>
                <a:cubicBezTo>
                  <a:pt x="74" y="33"/>
                  <a:pt x="110" y="46"/>
                  <a:pt x="110" y="46"/>
                </a:cubicBezTo>
                <a:cubicBezTo>
                  <a:pt x="119" y="52"/>
                  <a:pt x="137" y="64"/>
                  <a:pt x="137" y="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912160" y="1960560"/>
            <a:ext cx="139680" cy="287280"/>
          </a:xfrm>
          <a:custGeom>
            <a:avLst/>
            <a:gdLst/>
            <a:ahLst/>
            <a:rect l="l" t="t" r="r" b="b"/>
            <a:pathLst>
              <a:path w="88" h="181">
                <a:moveTo>
                  <a:pt x="0" y="36"/>
                </a:moveTo>
                <a:cubicBezTo>
                  <a:pt x="42" y="100"/>
                  <a:pt x="18" y="79"/>
                  <a:pt x="64" y="109"/>
                </a:cubicBezTo>
                <a:cubicBezTo>
                  <a:pt x="88" y="181"/>
                  <a:pt x="30" y="103"/>
                  <a:pt x="18" y="91"/>
                </a:cubicBezTo>
                <a:cubicBezTo>
                  <a:pt x="16" y="83"/>
                  <a:pt x="0" y="0"/>
                  <a:pt x="0" y="36"/>
                </a:cubicBezTo>
                <a:close/>
              </a:path>
            </a:pathLst>
          </a:custGeom>
          <a:solidFill>
            <a:srgbClr val="ffef66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955000" y="4238640"/>
            <a:ext cx="1800" cy="130320"/>
          </a:xfrm>
          <a:custGeom>
            <a:avLst/>
            <a:gdLst/>
            <a:ahLst/>
            <a:rect l="l" t="t" r="r" b="b"/>
            <a:pathLst>
              <a:path w="1" h="82">
                <a:moveTo>
                  <a:pt x="0" y="0"/>
                </a:moveTo>
                <a:cubicBezTo>
                  <a:pt x="0" y="27"/>
                  <a:pt x="0" y="55"/>
                  <a:pt x="0" y="82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621640" y="178596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0"/>
                </a:moveTo>
                <a:cubicBezTo>
                  <a:pt x="33" y="22"/>
                  <a:pt x="17" y="13"/>
                  <a:pt x="46" y="27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22760" y="1604880"/>
            <a:ext cx="3519360" cy="10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142120" y="1552680"/>
            <a:ext cx="281160" cy="112680"/>
          </a:xfrm>
          <a:custGeom>
            <a:avLst/>
            <a:gdLst/>
            <a:ahLst/>
            <a:rect l="l" t="t" r="r" b="b"/>
            <a:pathLst>
              <a:path w="177" h="71">
                <a:moveTo>
                  <a:pt x="0" y="0"/>
                </a:moveTo>
                <a:cubicBezTo>
                  <a:pt x="36" y="7"/>
                  <a:pt x="66" y="17"/>
                  <a:pt x="101" y="28"/>
                </a:cubicBezTo>
                <a:cubicBezTo>
                  <a:pt x="164" y="69"/>
                  <a:pt x="177" y="71"/>
                  <a:pt x="128" y="55"/>
                </a:cubicBezTo>
                <a:cubicBezTo>
                  <a:pt x="63" y="12"/>
                  <a:pt x="94" y="25"/>
                  <a:pt x="37" y="9"/>
                </a:cubicBezTo>
                <a:cubicBezTo>
                  <a:pt x="28" y="12"/>
                  <a:pt x="2" y="12"/>
                  <a:pt x="9" y="19"/>
                </a:cubicBezTo>
                <a:cubicBezTo>
                  <a:pt x="20" y="30"/>
                  <a:pt x="40" y="24"/>
                  <a:pt x="55" y="28"/>
                </a:cubicBezTo>
                <a:cubicBezTo>
                  <a:pt x="74" y="33"/>
                  <a:pt x="110" y="46"/>
                  <a:pt x="110" y="46"/>
                </a:cubicBezTo>
                <a:cubicBezTo>
                  <a:pt x="119" y="52"/>
                  <a:pt x="137" y="64"/>
                  <a:pt x="137" y="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621640" y="178596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0"/>
                </a:moveTo>
                <a:cubicBezTo>
                  <a:pt x="33" y="22"/>
                  <a:pt x="17" y="13"/>
                  <a:pt x="46" y="27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464680" y="1692360"/>
            <a:ext cx="44280" cy="28440"/>
          </a:xfrm>
          <a:custGeom>
            <a:avLst/>
            <a:gdLst/>
            <a:ahLst/>
            <a:rect l="l" t="t" r="r" b="b"/>
            <a:pathLst>
              <a:path w="28" h="18">
                <a:moveTo>
                  <a:pt x="0" y="0"/>
                </a:moveTo>
                <a:cubicBezTo>
                  <a:pt x="7" y="2"/>
                  <a:pt x="18" y="10"/>
                  <a:pt x="18" y="10"/>
                </a:cubicBezTo>
                <a:cubicBezTo>
                  <a:pt x="23" y="18"/>
                  <a:pt x="20" y="16"/>
                  <a:pt x="28" y="1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210520" y="1573200"/>
            <a:ext cx="851040" cy="649440"/>
          </a:xfrm>
          <a:custGeom>
            <a:avLst/>
            <a:gdLst/>
            <a:ahLst/>
            <a:rect l="l" t="t" r="r" b="b"/>
            <a:pathLst>
              <a:path w="536" h="409">
                <a:moveTo>
                  <a:pt x="92" y="23"/>
                </a:moveTo>
                <a:cubicBezTo>
                  <a:pt x="96" y="35"/>
                  <a:pt x="98" y="46"/>
                  <a:pt x="104" y="57"/>
                </a:cubicBezTo>
                <a:cubicBezTo>
                  <a:pt x="106" y="61"/>
                  <a:pt x="112" y="69"/>
                  <a:pt x="112" y="69"/>
                </a:cubicBezTo>
                <a:cubicBezTo>
                  <a:pt x="91" y="76"/>
                  <a:pt x="64" y="46"/>
                  <a:pt x="44" y="39"/>
                </a:cubicBezTo>
                <a:cubicBezTo>
                  <a:pt x="30" y="25"/>
                  <a:pt x="37" y="30"/>
                  <a:pt x="26" y="23"/>
                </a:cubicBezTo>
                <a:cubicBezTo>
                  <a:pt x="11" y="0"/>
                  <a:pt x="3" y="35"/>
                  <a:pt x="0" y="49"/>
                </a:cubicBezTo>
                <a:cubicBezTo>
                  <a:pt x="5" y="123"/>
                  <a:pt x="41" y="149"/>
                  <a:pt x="98" y="189"/>
                </a:cubicBezTo>
                <a:cubicBezTo>
                  <a:pt x="118" y="203"/>
                  <a:pt x="136" y="217"/>
                  <a:pt x="158" y="227"/>
                </a:cubicBezTo>
                <a:cubicBezTo>
                  <a:pt x="183" y="238"/>
                  <a:pt x="209" y="246"/>
                  <a:pt x="234" y="257"/>
                </a:cubicBezTo>
                <a:cubicBezTo>
                  <a:pt x="242" y="260"/>
                  <a:pt x="248" y="266"/>
                  <a:pt x="256" y="269"/>
                </a:cubicBezTo>
                <a:cubicBezTo>
                  <a:pt x="260" y="271"/>
                  <a:pt x="268" y="273"/>
                  <a:pt x="268" y="273"/>
                </a:cubicBezTo>
                <a:cubicBezTo>
                  <a:pt x="280" y="285"/>
                  <a:pt x="295" y="294"/>
                  <a:pt x="308" y="303"/>
                </a:cubicBezTo>
                <a:cubicBezTo>
                  <a:pt x="313" y="311"/>
                  <a:pt x="321" y="318"/>
                  <a:pt x="330" y="321"/>
                </a:cubicBezTo>
                <a:cubicBezTo>
                  <a:pt x="340" y="335"/>
                  <a:pt x="391" y="369"/>
                  <a:pt x="408" y="377"/>
                </a:cubicBezTo>
                <a:cubicBezTo>
                  <a:pt x="421" y="397"/>
                  <a:pt x="445" y="397"/>
                  <a:pt x="466" y="401"/>
                </a:cubicBezTo>
                <a:cubicBezTo>
                  <a:pt x="497" y="397"/>
                  <a:pt x="469" y="403"/>
                  <a:pt x="486" y="395"/>
                </a:cubicBezTo>
                <a:cubicBezTo>
                  <a:pt x="490" y="393"/>
                  <a:pt x="498" y="391"/>
                  <a:pt x="498" y="391"/>
                </a:cubicBezTo>
                <a:cubicBezTo>
                  <a:pt x="507" y="405"/>
                  <a:pt x="504" y="398"/>
                  <a:pt x="508" y="409"/>
                </a:cubicBezTo>
                <a:cubicBezTo>
                  <a:pt x="525" y="403"/>
                  <a:pt x="518" y="387"/>
                  <a:pt x="532" y="377"/>
                </a:cubicBezTo>
                <a:cubicBezTo>
                  <a:pt x="534" y="370"/>
                  <a:pt x="532" y="371"/>
                  <a:pt x="536" y="371"/>
                </a:cubicBezTo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267760" y="1333440"/>
            <a:ext cx="168120" cy="371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450280" y="1673280"/>
            <a:ext cx="68400" cy="71280"/>
          </a:xfrm>
          <a:custGeom>
            <a:avLst/>
            <a:gdLst/>
            <a:ahLst/>
            <a:rect l="l" t="t" r="r" b="b"/>
            <a:pathLst>
              <a:path w="43" h="45">
                <a:moveTo>
                  <a:pt x="5" y="0"/>
                </a:moveTo>
                <a:cubicBezTo>
                  <a:pt x="2" y="15"/>
                  <a:pt x="0" y="26"/>
                  <a:pt x="5" y="42"/>
                </a:cubicBezTo>
                <a:cubicBezTo>
                  <a:pt x="16" y="41"/>
                  <a:pt x="29" y="45"/>
                  <a:pt x="39" y="40"/>
                </a:cubicBezTo>
                <a:cubicBezTo>
                  <a:pt x="43" y="38"/>
                  <a:pt x="36" y="32"/>
                  <a:pt x="35" y="28"/>
                </a:cubicBezTo>
                <a:cubicBezTo>
                  <a:pt x="30" y="14"/>
                  <a:pt x="18" y="7"/>
                  <a:pt x="5" y="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572680" y="1760400"/>
            <a:ext cx="172800" cy="111240"/>
          </a:xfrm>
          <a:custGeom>
            <a:avLst/>
            <a:gdLst/>
            <a:ahLst/>
            <a:rect l="l" t="t" r="r" b="b"/>
            <a:pathLst>
              <a:path w="109" h="70">
                <a:moveTo>
                  <a:pt x="0" y="13"/>
                </a:moveTo>
                <a:cubicBezTo>
                  <a:pt x="6" y="3"/>
                  <a:pt x="2" y="8"/>
                  <a:pt x="16" y="3"/>
                </a:cubicBezTo>
                <a:cubicBezTo>
                  <a:pt x="18" y="2"/>
                  <a:pt x="22" y="1"/>
                  <a:pt x="22" y="1"/>
                </a:cubicBezTo>
                <a:cubicBezTo>
                  <a:pt x="29" y="2"/>
                  <a:pt x="38" y="0"/>
                  <a:pt x="44" y="3"/>
                </a:cubicBezTo>
                <a:cubicBezTo>
                  <a:pt x="48" y="5"/>
                  <a:pt x="45" y="12"/>
                  <a:pt x="48" y="15"/>
                </a:cubicBezTo>
                <a:cubicBezTo>
                  <a:pt x="56" y="21"/>
                  <a:pt x="60" y="25"/>
                  <a:pt x="70" y="27"/>
                </a:cubicBezTo>
                <a:cubicBezTo>
                  <a:pt x="79" y="33"/>
                  <a:pt x="80" y="38"/>
                  <a:pt x="84" y="49"/>
                </a:cubicBezTo>
                <a:cubicBezTo>
                  <a:pt x="85" y="52"/>
                  <a:pt x="99" y="57"/>
                  <a:pt x="102" y="59"/>
                </a:cubicBezTo>
                <a:cubicBezTo>
                  <a:pt x="109" y="70"/>
                  <a:pt x="96" y="68"/>
                  <a:pt x="86" y="69"/>
                </a:cubicBezTo>
                <a:cubicBezTo>
                  <a:pt x="58" y="66"/>
                  <a:pt x="63" y="55"/>
                  <a:pt x="40" y="47"/>
                </a:cubicBezTo>
                <a:cubicBezTo>
                  <a:pt x="32" y="39"/>
                  <a:pt x="25" y="30"/>
                  <a:pt x="18" y="23"/>
                </a:cubicBezTo>
                <a:cubicBezTo>
                  <a:pt x="13" y="18"/>
                  <a:pt x="0" y="13"/>
                  <a:pt x="0" y="13"/>
                </a:cubicBezTo>
                <a:close/>
              </a:path>
            </a:pathLst>
          </a:custGeom>
          <a:solidFill>
            <a:srgbClr val="703dff"/>
          </a:solidFill>
          <a:ln w="936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858160" y="1930320"/>
            <a:ext cx="60480" cy="20016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peat for pts C and D measure 5cm right and 3cm down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beling them C’ and D’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4" name=""/>
          <p:cNvSpPr/>
          <p:nvPr/>
        </p:nvSpPr>
        <p:spPr>
          <a:xfrm>
            <a:off x="5819760" y="3033720"/>
            <a:ext cx="812880" cy="2308320"/>
          </a:xfrm>
          <a:custGeom>
            <a:avLst/>
            <a:gdLst/>
            <a:ahLst/>
            <a:rect l="l" t="t" r="r" b="b"/>
            <a:pathLst>
              <a:path w="512" h="1454">
                <a:moveTo>
                  <a:pt x="265" y="0"/>
                </a:moveTo>
                <a:lnTo>
                  <a:pt x="0" y="594"/>
                </a:lnTo>
                <a:lnTo>
                  <a:pt x="0" y="1454"/>
                </a:lnTo>
                <a:lnTo>
                  <a:pt x="512" y="914"/>
                </a:lnTo>
                <a:lnTo>
                  <a:pt x="265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6103800" y="27288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5475240" y="3762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5581800" y="53276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6581880" y="43243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8026560" y="41212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8061480" y="39765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7588080" y="50482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7623000" y="49179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5829480" y="532296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 flipV="1">
            <a:off x="7629480" y="533664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7586640" y="63961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7621560" y="6265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6354720" y="4975200"/>
            <a:ext cx="7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5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6627960" y="446724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 flipV="1">
            <a:off x="8427960" y="448164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8385120" y="55404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8420040" y="541008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7153200" y="4119480"/>
            <a:ext cx="7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5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7591320" y="5672160"/>
            <a:ext cx="7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8373960" y="4757760"/>
            <a:ext cx="7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20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2000"/>
                            </p:stCondLst>
                            <p:childTnLst>
                              <p:par>
                                <p:cTn id="8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20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2" dur="20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2000"/>
                            </p:stCondLst>
                            <p:childTnLst>
                              <p:par>
                                <p:cTn id="8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20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4000"/>
                            </p:stCondLst>
                            <p:childTnLst>
                              <p:par>
                                <p:cTn id="878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20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20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7" dur="20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0" dur="20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3" dur="20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6" dur="20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20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2000"/>
                            </p:stCondLst>
                            <p:childTnLst>
                              <p:par>
                                <p:cTn id="9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20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4000"/>
                            </p:stCondLst>
                            <p:childTnLst>
                              <p:par>
                                <p:cTn id="908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0" dur="20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9000"/>
                            </p:stCondLst>
                            <p:childTnLst>
                              <p:par>
                                <p:cTn id="9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20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11000"/>
                            </p:stCondLst>
                            <p:childTnLst>
                              <p:par>
                                <p:cTn id="916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8" dur="20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20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oin up the points A’ B’ C’ and D’ in ord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7" name=""/>
          <p:cNvSpPr/>
          <p:nvPr/>
        </p:nvSpPr>
        <p:spPr>
          <a:xfrm>
            <a:off x="5819760" y="3033720"/>
            <a:ext cx="812880" cy="2308320"/>
          </a:xfrm>
          <a:custGeom>
            <a:avLst/>
            <a:gdLst/>
            <a:ahLst/>
            <a:rect l="l" t="t" r="r" b="b"/>
            <a:pathLst>
              <a:path w="512" h="1454">
                <a:moveTo>
                  <a:pt x="265" y="0"/>
                </a:moveTo>
                <a:lnTo>
                  <a:pt x="0" y="594"/>
                </a:lnTo>
                <a:lnTo>
                  <a:pt x="0" y="1454"/>
                </a:lnTo>
                <a:lnTo>
                  <a:pt x="512" y="914"/>
                </a:lnTo>
                <a:lnTo>
                  <a:pt x="265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6103800" y="27288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5475240" y="3762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5581800" y="53276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6581880" y="43243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8026560" y="41212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8061480" y="39765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7588080" y="50482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7623000" y="49179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7586640" y="63961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7621560" y="6265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8385120" y="55404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8420040" y="541008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7659720" y="4149720"/>
            <a:ext cx="812880" cy="2308320"/>
          </a:xfrm>
          <a:custGeom>
            <a:avLst/>
            <a:gdLst/>
            <a:ahLst/>
            <a:rect l="l" t="t" r="r" b="b"/>
            <a:pathLst>
              <a:path w="512" h="1454">
                <a:moveTo>
                  <a:pt x="265" y="0"/>
                </a:moveTo>
                <a:lnTo>
                  <a:pt x="0" y="594"/>
                </a:lnTo>
                <a:lnTo>
                  <a:pt x="0" y="1454"/>
                </a:lnTo>
                <a:lnTo>
                  <a:pt x="512" y="914"/>
                </a:lnTo>
                <a:lnTo>
                  <a:pt x="265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28" dur="2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802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gratulations that is a translation of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BC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by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[ ]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3" name=""/>
          <p:cNvSpPr/>
          <p:nvPr/>
        </p:nvSpPr>
        <p:spPr>
          <a:xfrm>
            <a:off x="5819760" y="3033720"/>
            <a:ext cx="812880" cy="2308320"/>
          </a:xfrm>
          <a:custGeom>
            <a:avLst/>
            <a:gdLst/>
            <a:ahLst/>
            <a:rect l="l" t="t" r="r" b="b"/>
            <a:pathLst>
              <a:path w="512" h="1454">
                <a:moveTo>
                  <a:pt x="265" y="0"/>
                </a:moveTo>
                <a:lnTo>
                  <a:pt x="0" y="594"/>
                </a:lnTo>
                <a:lnTo>
                  <a:pt x="0" y="1454"/>
                </a:lnTo>
                <a:lnTo>
                  <a:pt x="512" y="914"/>
                </a:lnTo>
                <a:lnTo>
                  <a:pt x="265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6103800" y="27288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5475240" y="3762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5581800" y="53276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6581880" y="43243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8026560" y="41212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8061480" y="39765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7588080" y="50482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7623000" y="49179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7586640" y="63961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7621560" y="6265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8385120" y="55404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8420040" y="541008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7659720" y="4149720"/>
            <a:ext cx="812880" cy="2308320"/>
          </a:xfrm>
          <a:custGeom>
            <a:avLst/>
            <a:gdLst/>
            <a:ahLst/>
            <a:rect l="l" t="t" r="r" b="b"/>
            <a:pathLst>
              <a:path w="512" h="1454">
                <a:moveTo>
                  <a:pt x="265" y="0"/>
                </a:moveTo>
                <a:lnTo>
                  <a:pt x="0" y="594"/>
                </a:lnTo>
                <a:lnTo>
                  <a:pt x="0" y="1454"/>
                </a:lnTo>
                <a:lnTo>
                  <a:pt x="512" y="914"/>
                </a:lnTo>
                <a:lnTo>
                  <a:pt x="265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>
            <a:hlinkClick r:id="rId1" action="ppaction://hlinksldjump"/>
          </p:cNvPr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>
            <a:hlinkClick r:id="rId2" action="ppaction://hlinksldjump"/>
          </p:cNvPr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3051000" y="2800440"/>
            <a:ext cx="58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14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ff00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lar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1" name=""/>
          <p:cNvSpPr/>
          <p:nvPr/>
        </p:nvSpPr>
        <p:spPr>
          <a:xfrm>
            <a:off x="6211800" y="38847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6175440" y="4635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6831000" y="51404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7429680" y="38671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6481800" y="4060800"/>
            <a:ext cx="954000" cy="1089000"/>
          </a:xfrm>
          <a:custGeom>
            <a:avLst/>
            <a:gdLst/>
            <a:ahLst/>
            <a:rect l="l" t="t" r="r" b="b"/>
            <a:pathLst>
              <a:path w="601" h="686">
                <a:moveTo>
                  <a:pt x="34" y="0"/>
                </a:moveTo>
                <a:lnTo>
                  <a:pt x="601" y="0"/>
                </a:lnTo>
                <a:lnTo>
                  <a:pt x="322" y="686"/>
                </a:lnTo>
                <a:lnTo>
                  <a:pt x="0" y="449"/>
                </a:lnTo>
                <a:lnTo>
                  <a:pt x="3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do an Enlargement you need 3 things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obj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enlar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entre of enlarge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cale fact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say how big to make 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67" name=""/>
          <p:cNvGrpSpPr/>
          <p:nvPr/>
        </p:nvGrpSpPr>
        <p:grpSpPr>
          <a:xfrm>
            <a:off x="6473880" y="3645000"/>
            <a:ext cx="963720" cy="2016000"/>
            <a:chOff x="6473880" y="3645000"/>
            <a:chExt cx="963720" cy="2016000"/>
          </a:xfrm>
        </p:grpSpPr>
        <p:sp>
          <p:nvSpPr>
            <p:cNvPr id="1468" name=""/>
            <p:cNvSpPr/>
            <p:nvPr/>
          </p:nvSpPr>
          <p:spPr>
            <a:xfrm>
              <a:off x="6473880" y="3645000"/>
              <a:ext cx="0" cy="2016000"/>
            </a:xfrm>
            <a:prstGeom prst="line">
              <a:avLst/>
            </a:prstGeom>
            <a:ln cap="rnd" w="324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977160" y="3645000"/>
              <a:ext cx="0" cy="2016000"/>
            </a:xfrm>
            <a:prstGeom prst="line">
              <a:avLst/>
            </a:prstGeom>
            <a:ln cap="rnd" w="324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7437600" y="3645000"/>
              <a:ext cx="0" cy="2016000"/>
            </a:xfrm>
            <a:prstGeom prst="line">
              <a:avLst/>
            </a:prstGeom>
            <a:ln cap="rnd" w="324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1" name=""/>
          <p:cNvSpPr/>
          <p:nvPr/>
        </p:nvSpPr>
        <p:spPr>
          <a:xfrm>
            <a:off x="6012000" y="4062240"/>
            <a:ext cx="1728720" cy="0"/>
          </a:xfrm>
          <a:prstGeom prst="line">
            <a:avLst/>
          </a:prstGeom>
          <a:ln cap="rnd" w="93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6012000" y="4408560"/>
            <a:ext cx="1728720" cy="0"/>
          </a:xfrm>
          <a:prstGeom prst="line">
            <a:avLst/>
          </a:prstGeom>
          <a:ln cap="rnd" w="93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6012000" y="4768920"/>
            <a:ext cx="1728720" cy="0"/>
          </a:xfrm>
          <a:prstGeom prst="line">
            <a:avLst/>
          </a:prstGeom>
          <a:ln cap="rnd" w="93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6012000" y="5157720"/>
            <a:ext cx="1728720" cy="0"/>
          </a:xfrm>
          <a:prstGeom prst="line">
            <a:avLst/>
          </a:prstGeom>
          <a:ln cap="rnd" w="93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lar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6" name=""/>
          <p:cNvSpPr/>
          <p:nvPr/>
        </p:nvSpPr>
        <p:spPr>
          <a:xfrm>
            <a:off x="6211800" y="38847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6175440" y="4635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6831000" y="51404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7429680" y="38671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6481800" y="4060800"/>
            <a:ext cx="954000" cy="1089000"/>
          </a:xfrm>
          <a:custGeom>
            <a:avLst/>
            <a:gdLst/>
            <a:ahLst/>
            <a:rect l="l" t="t" r="r" b="b"/>
            <a:pathLst>
              <a:path w="601" h="686">
                <a:moveTo>
                  <a:pt x="34" y="0"/>
                </a:moveTo>
                <a:lnTo>
                  <a:pt x="601" y="0"/>
                </a:lnTo>
                <a:lnTo>
                  <a:pt x="322" y="686"/>
                </a:lnTo>
                <a:lnTo>
                  <a:pt x="0" y="449"/>
                </a:lnTo>
                <a:lnTo>
                  <a:pt x="3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nlarge the shape ABCD by a scale factor of 3 about the point C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lar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3" name=""/>
          <p:cNvSpPr/>
          <p:nvPr/>
        </p:nvSpPr>
        <p:spPr>
          <a:xfrm>
            <a:off x="6211800" y="38847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6175440" y="4635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6831000" y="51404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7429680" y="38671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6481800" y="4060800"/>
            <a:ext cx="954000" cy="1089000"/>
          </a:xfrm>
          <a:custGeom>
            <a:avLst/>
            <a:gdLst/>
            <a:ahLst/>
            <a:rect l="l" t="t" r="r" b="b"/>
            <a:pathLst>
              <a:path w="601" h="686">
                <a:moveTo>
                  <a:pt x="34" y="0"/>
                </a:moveTo>
                <a:lnTo>
                  <a:pt x="601" y="0"/>
                </a:lnTo>
                <a:lnTo>
                  <a:pt x="322" y="686"/>
                </a:lnTo>
                <a:lnTo>
                  <a:pt x="0" y="449"/>
                </a:lnTo>
                <a:lnTo>
                  <a:pt x="3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ule a line from the centre of enlargement trough each of the points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In this case C is centr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9" name=""/>
          <p:cNvSpPr/>
          <p:nvPr/>
        </p:nvSpPr>
        <p:spPr>
          <a:xfrm flipH="1" flipV="1">
            <a:off x="5551200" y="1707840"/>
            <a:ext cx="1452600" cy="3443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 flipH="1" flipV="1">
            <a:off x="5136840" y="3792600"/>
            <a:ext cx="2273400" cy="1668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 flipV="1">
            <a:off x="6953400" y="1654200"/>
            <a:ext cx="1465200" cy="3603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5" dur="2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0" dur="20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5" dur="2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lar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3" name=""/>
          <p:cNvSpPr/>
          <p:nvPr/>
        </p:nvSpPr>
        <p:spPr>
          <a:xfrm>
            <a:off x="6211800" y="38847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6175440" y="4635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6831000" y="51404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7429680" y="38671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6481800" y="4060800"/>
            <a:ext cx="954000" cy="1089000"/>
          </a:xfrm>
          <a:custGeom>
            <a:avLst/>
            <a:gdLst/>
            <a:ahLst/>
            <a:rect l="l" t="t" r="r" b="b"/>
            <a:pathLst>
              <a:path w="601" h="686">
                <a:moveTo>
                  <a:pt x="34" y="0"/>
                </a:moveTo>
                <a:lnTo>
                  <a:pt x="601" y="0"/>
                </a:lnTo>
                <a:lnTo>
                  <a:pt x="322" y="686"/>
                </a:lnTo>
                <a:lnTo>
                  <a:pt x="0" y="449"/>
                </a:lnTo>
                <a:lnTo>
                  <a:pt x="3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easure the distance from the centre to each of the point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In this case C is centr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9" name=""/>
          <p:cNvSpPr/>
          <p:nvPr/>
        </p:nvSpPr>
        <p:spPr>
          <a:xfrm flipH="1" flipV="1">
            <a:off x="5551200" y="1707840"/>
            <a:ext cx="1452600" cy="3443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 flipH="1" flipV="1">
            <a:off x="5136840" y="3792600"/>
            <a:ext cx="2273400" cy="1668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 flipV="1">
            <a:off x="6953400" y="1654200"/>
            <a:ext cx="1465200" cy="3603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6477120" y="4400640"/>
            <a:ext cx="8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.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7207200" y="4302000"/>
            <a:ext cx="8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.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6222960" y="4994280"/>
            <a:ext cx="8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.8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20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20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20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lar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6" name=""/>
          <p:cNvSpPr/>
          <p:nvPr/>
        </p:nvSpPr>
        <p:spPr>
          <a:xfrm>
            <a:off x="6211800" y="38847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6175440" y="4635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6831000" y="51404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7429680" y="38671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6481800" y="4060800"/>
            <a:ext cx="954000" cy="1089000"/>
          </a:xfrm>
          <a:custGeom>
            <a:avLst/>
            <a:gdLst/>
            <a:ahLst/>
            <a:rect l="l" t="t" r="r" b="b"/>
            <a:pathLst>
              <a:path w="601" h="686">
                <a:moveTo>
                  <a:pt x="34" y="0"/>
                </a:moveTo>
                <a:lnTo>
                  <a:pt x="601" y="0"/>
                </a:lnTo>
                <a:lnTo>
                  <a:pt x="322" y="686"/>
                </a:lnTo>
                <a:lnTo>
                  <a:pt x="0" y="449"/>
                </a:lnTo>
                <a:lnTo>
                  <a:pt x="3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ultiply each of the distances by the scale facto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In this case 3 is Scale facto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2" name=""/>
          <p:cNvSpPr/>
          <p:nvPr/>
        </p:nvSpPr>
        <p:spPr>
          <a:xfrm flipH="1" flipV="1">
            <a:off x="5551200" y="1707840"/>
            <a:ext cx="1452600" cy="3443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 flipH="1" flipV="1">
            <a:off x="5136840" y="3792600"/>
            <a:ext cx="2273400" cy="1668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 flipV="1">
            <a:off x="6953400" y="1654200"/>
            <a:ext cx="1465200" cy="3603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6477120" y="4400640"/>
            <a:ext cx="8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.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7207200" y="4302000"/>
            <a:ext cx="8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.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6222960" y="4994280"/>
            <a:ext cx="8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.8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5630760" y="25239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.3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× 3 = 9.9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7415280" y="2610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.3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× 3 = 9.9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5207040" y="4116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.8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× 3 = 5.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lar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2" name=""/>
          <p:cNvSpPr/>
          <p:nvPr/>
        </p:nvSpPr>
        <p:spPr>
          <a:xfrm>
            <a:off x="6211800" y="38847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6175440" y="4635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6831000" y="51404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7429680" y="38671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6481800" y="4060800"/>
            <a:ext cx="954000" cy="1089000"/>
          </a:xfrm>
          <a:custGeom>
            <a:avLst/>
            <a:gdLst/>
            <a:ahLst/>
            <a:rect l="l" t="t" r="r" b="b"/>
            <a:pathLst>
              <a:path w="601" h="686">
                <a:moveTo>
                  <a:pt x="34" y="0"/>
                </a:moveTo>
                <a:lnTo>
                  <a:pt x="601" y="0"/>
                </a:lnTo>
                <a:lnTo>
                  <a:pt x="322" y="686"/>
                </a:lnTo>
                <a:lnTo>
                  <a:pt x="0" y="449"/>
                </a:lnTo>
                <a:lnTo>
                  <a:pt x="3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asure that far along each of the lines from the centre and mark A’, B’ and D’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Point C doesn’t move as it’s the centre of enlargemen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8" name=""/>
          <p:cNvSpPr/>
          <p:nvPr/>
        </p:nvSpPr>
        <p:spPr>
          <a:xfrm flipH="1" flipV="1">
            <a:off x="5551200" y="1707840"/>
            <a:ext cx="1452600" cy="3443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 flipH="1" flipV="1">
            <a:off x="5136840" y="3792600"/>
            <a:ext cx="2273400" cy="1668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 flipV="1">
            <a:off x="6953400" y="1654200"/>
            <a:ext cx="1465200" cy="3603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6477120" y="4400640"/>
            <a:ext cx="8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.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7207200" y="4302000"/>
            <a:ext cx="8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.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6222960" y="4994280"/>
            <a:ext cx="8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.8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5243400" y="16128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5108400" y="39402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8020080" y="15685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5587920" y="18432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8272440" y="18414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5410080" y="39877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5630760" y="25239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.9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7415280" y="26100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.9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5467320" y="41608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.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5630760" y="1887480"/>
            <a:ext cx="1351080" cy="32353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 flipV="1">
            <a:off x="6996240" y="1915920"/>
            <a:ext cx="1306440" cy="32511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 flipH="1" flipV="1">
            <a:off x="5486400" y="4063680"/>
            <a:ext cx="1495440" cy="10746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6" dur="20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4" dur="20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20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4" dur="20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20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2" dur="20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6" dur="20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2" dur="20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20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4" dur="20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lar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7" name=""/>
          <p:cNvSpPr/>
          <p:nvPr/>
        </p:nvSpPr>
        <p:spPr>
          <a:xfrm>
            <a:off x="6211800" y="38847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6175440" y="4635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6831000" y="51404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7429680" y="38671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6481800" y="4060800"/>
            <a:ext cx="954000" cy="1089000"/>
          </a:xfrm>
          <a:custGeom>
            <a:avLst/>
            <a:gdLst/>
            <a:ahLst/>
            <a:rect l="l" t="t" r="r" b="b"/>
            <a:pathLst>
              <a:path w="601" h="686">
                <a:moveTo>
                  <a:pt x="34" y="0"/>
                </a:moveTo>
                <a:lnTo>
                  <a:pt x="601" y="0"/>
                </a:lnTo>
                <a:lnTo>
                  <a:pt x="322" y="686"/>
                </a:lnTo>
                <a:lnTo>
                  <a:pt x="0" y="449"/>
                </a:lnTo>
                <a:lnTo>
                  <a:pt x="3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Join the points of the image A’, B’ C and D’ with a rul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Point C doesn’t move as it’s the centre of enlargement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3" name=""/>
          <p:cNvSpPr/>
          <p:nvPr/>
        </p:nvSpPr>
        <p:spPr>
          <a:xfrm flipH="1" flipV="1">
            <a:off x="5551200" y="1707840"/>
            <a:ext cx="1452600" cy="3443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 flipH="1" flipV="1">
            <a:off x="5136840" y="3792600"/>
            <a:ext cx="2273400" cy="1668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 flipV="1">
            <a:off x="6953400" y="1654200"/>
            <a:ext cx="1465200" cy="3603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6477120" y="4400640"/>
            <a:ext cx="8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.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7207200" y="4302000"/>
            <a:ext cx="8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.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6222960" y="4994280"/>
            <a:ext cx="8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.8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5243400" y="16128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5108400" y="39402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5587920" y="18432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8272440" y="18414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>
            <a:off x="5410080" y="39877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5630760" y="25239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.9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>
            <a:off x="7415280" y="26100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.9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>
            <a:off x="5467320" y="41608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.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5460840" y="1882800"/>
            <a:ext cx="2860920" cy="3267000"/>
          </a:xfrm>
          <a:custGeom>
            <a:avLst/>
            <a:gdLst/>
            <a:ahLst/>
            <a:rect l="l" t="t" r="r" b="b"/>
            <a:pathLst>
              <a:path w="601" h="686">
                <a:moveTo>
                  <a:pt x="34" y="0"/>
                </a:moveTo>
                <a:lnTo>
                  <a:pt x="601" y="0"/>
                </a:lnTo>
                <a:lnTo>
                  <a:pt x="322" y="686"/>
                </a:lnTo>
                <a:lnTo>
                  <a:pt x="0" y="449"/>
                </a:lnTo>
                <a:lnTo>
                  <a:pt x="3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8020080" y="15685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36" dur="indefinite" restart="never" nodeType="tmRoot">
          <p:childTnLst>
            <p:seq>
              <p:cTn id="1037" dur="indefinite" nodeType="mainSeq">
                <p:childTnLst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42" dur="30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6" dur="20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9" dur="20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2" dur="20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7" dur="20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0" dur="20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3" dur="20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8" dur="20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1" dur="20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4" dur="20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173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re the 2 arcs cross join with a Straight 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"/>
          <p:cNvSpPr/>
          <p:nvPr/>
        </p:nvSpPr>
        <p:spPr>
          <a:xfrm>
            <a:off x="3868560" y="3284640"/>
            <a:ext cx="3419640" cy="3382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308560" y="4941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684920" y="27082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13120" y="3068640"/>
            <a:ext cx="149544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956200" y="1495440"/>
            <a:ext cx="3419640" cy="3382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950240" y="4395960"/>
            <a:ext cx="6858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461440" y="4121280"/>
            <a:ext cx="452520" cy="479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999640" y="4035600"/>
            <a:ext cx="1443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9055080" y="2046240"/>
            <a:ext cx="88920" cy="46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142120" y="1552680"/>
            <a:ext cx="281160" cy="112680"/>
          </a:xfrm>
          <a:custGeom>
            <a:avLst/>
            <a:gdLst/>
            <a:ahLst/>
            <a:rect l="l" t="t" r="r" b="b"/>
            <a:pathLst>
              <a:path w="177" h="71">
                <a:moveTo>
                  <a:pt x="0" y="0"/>
                </a:moveTo>
                <a:cubicBezTo>
                  <a:pt x="36" y="7"/>
                  <a:pt x="66" y="17"/>
                  <a:pt x="101" y="28"/>
                </a:cubicBezTo>
                <a:cubicBezTo>
                  <a:pt x="164" y="69"/>
                  <a:pt x="177" y="71"/>
                  <a:pt x="128" y="55"/>
                </a:cubicBezTo>
                <a:cubicBezTo>
                  <a:pt x="63" y="12"/>
                  <a:pt x="94" y="25"/>
                  <a:pt x="37" y="9"/>
                </a:cubicBezTo>
                <a:cubicBezTo>
                  <a:pt x="28" y="12"/>
                  <a:pt x="2" y="12"/>
                  <a:pt x="9" y="19"/>
                </a:cubicBezTo>
                <a:cubicBezTo>
                  <a:pt x="20" y="30"/>
                  <a:pt x="40" y="24"/>
                  <a:pt x="55" y="28"/>
                </a:cubicBezTo>
                <a:cubicBezTo>
                  <a:pt x="74" y="33"/>
                  <a:pt x="110" y="46"/>
                  <a:pt x="110" y="46"/>
                </a:cubicBezTo>
                <a:cubicBezTo>
                  <a:pt x="119" y="52"/>
                  <a:pt x="137" y="64"/>
                  <a:pt x="137" y="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912160" y="1960560"/>
            <a:ext cx="139680" cy="287280"/>
          </a:xfrm>
          <a:custGeom>
            <a:avLst/>
            <a:gdLst/>
            <a:ahLst/>
            <a:rect l="l" t="t" r="r" b="b"/>
            <a:pathLst>
              <a:path w="88" h="181">
                <a:moveTo>
                  <a:pt x="0" y="36"/>
                </a:moveTo>
                <a:cubicBezTo>
                  <a:pt x="42" y="100"/>
                  <a:pt x="18" y="79"/>
                  <a:pt x="64" y="109"/>
                </a:cubicBezTo>
                <a:cubicBezTo>
                  <a:pt x="88" y="181"/>
                  <a:pt x="30" y="103"/>
                  <a:pt x="18" y="91"/>
                </a:cubicBezTo>
                <a:cubicBezTo>
                  <a:pt x="16" y="83"/>
                  <a:pt x="0" y="0"/>
                  <a:pt x="0" y="36"/>
                </a:cubicBezTo>
                <a:close/>
              </a:path>
            </a:pathLst>
          </a:custGeom>
          <a:solidFill>
            <a:srgbClr val="ffef66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955000" y="4238640"/>
            <a:ext cx="1800" cy="130320"/>
          </a:xfrm>
          <a:custGeom>
            <a:avLst/>
            <a:gdLst/>
            <a:ahLst/>
            <a:rect l="l" t="t" r="r" b="b"/>
            <a:pathLst>
              <a:path w="1" h="82">
                <a:moveTo>
                  <a:pt x="0" y="0"/>
                </a:moveTo>
                <a:cubicBezTo>
                  <a:pt x="0" y="27"/>
                  <a:pt x="0" y="55"/>
                  <a:pt x="0" y="82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621640" y="178596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0"/>
                </a:moveTo>
                <a:cubicBezTo>
                  <a:pt x="33" y="22"/>
                  <a:pt x="17" y="13"/>
                  <a:pt x="46" y="27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138640" y="2378160"/>
            <a:ext cx="2914920" cy="3340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9055080" y="2046240"/>
            <a:ext cx="88920" cy="46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142120" y="1552680"/>
            <a:ext cx="281160" cy="112680"/>
          </a:xfrm>
          <a:custGeom>
            <a:avLst/>
            <a:gdLst/>
            <a:ahLst/>
            <a:rect l="l" t="t" r="r" b="b"/>
            <a:pathLst>
              <a:path w="177" h="71">
                <a:moveTo>
                  <a:pt x="0" y="0"/>
                </a:moveTo>
                <a:cubicBezTo>
                  <a:pt x="36" y="7"/>
                  <a:pt x="66" y="17"/>
                  <a:pt x="101" y="28"/>
                </a:cubicBezTo>
                <a:cubicBezTo>
                  <a:pt x="164" y="69"/>
                  <a:pt x="177" y="71"/>
                  <a:pt x="128" y="55"/>
                </a:cubicBezTo>
                <a:cubicBezTo>
                  <a:pt x="63" y="12"/>
                  <a:pt x="94" y="25"/>
                  <a:pt x="37" y="9"/>
                </a:cubicBezTo>
                <a:cubicBezTo>
                  <a:pt x="28" y="12"/>
                  <a:pt x="2" y="12"/>
                  <a:pt x="9" y="19"/>
                </a:cubicBezTo>
                <a:cubicBezTo>
                  <a:pt x="20" y="30"/>
                  <a:pt x="40" y="24"/>
                  <a:pt x="55" y="28"/>
                </a:cubicBezTo>
                <a:cubicBezTo>
                  <a:pt x="74" y="33"/>
                  <a:pt x="110" y="46"/>
                  <a:pt x="110" y="46"/>
                </a:cubicBezTo>
                <a:cubicBezTo>
                  <a:pt x="119" y="52"/>
                  <a:pt x="137" y="64"/>
                  <a:pt x="137" y="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8912160" y="1960560"/>
            <a:ext cx="139680" cy="287280"/>
          </a:xfrm>
          <a:custGeom>
            <a:avLst/>
            <a:gdLst/>
            <a:ahLst/>
            <a:rect l="l" t="t" r="r" b="b"/>
            <a:pathLst>
              <a:path w="88" h="181">
                <a:moveTo>
                  <a:pt x="0" y="36"/>
                </a:moveTo>
                <a:cubicBezTo>
                  <a:pt x="42" y="100"/>
                  <a:pt x="18" y="79"/>
                  <a:pt x="64" y="109"/>
                </a:cubicBezTo>
                <a:cubicBezTo>
                  <a:pt x="88" y="181"/>
                  <a:pt x="30" y="103"/>
                  <a:pt x="18" y="91"/>
                </a:cubicBezTo>
                <a:cubicBezTo>
                  <a:pt x="16" y="83"/>
                  <a:pt x="0" y="0"/>
                  <a:pt x="0" y="36"/>
                </a:cubicBezTo>
                <a:close/>
              </a:path>
            </a:pathLst>
          </a:custGeom>
          <a:solidFill>
            <a:srgbClr val="ffef66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8621640" y="178596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0"/>
                </a:moveTo>
                <a:cubicBezTo>
                  <a:pt x="33" y="22"/>
                  <a:pt x="17" y="13"/>
                  <a:pt x="46" y="27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622760" y="1604880"/>
            <a:ext cx="3519360" cy="10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142120" y="1552680"/>
            <a:ext cx="281160" cy="112680"/>
          </a:xfrm>
          <a:custGeom>
            <a:avLst/>
            <a:gdLst/>
            <a:ahLst/>
            <a:rect l="l" t="t" r="r" b="b"/>
            <a:pathLst>
              <a:path w="177" h="71">
                <a:moveTo>
                  <a:pt x="0" y="0"/>
                </a:moveTo>
                <a:cubicBezTo>
                  <a:pt x="36" y="7"/>
                  <a:pt x="66" y="17"/>
                  <a:pt x="101" y="28"/>
                </a:cubicBezTo>
                <a:cubicBezTo>
                  <a:pt x="164" y="69"/>
                  <a:pt x="177" y="71"/>
                  <a:pt x="128" y="55"/>
                </a:cubicBezTo>
                <a:cubicBezTo>
                  <a:pt x="63" y="12"/>
                  <a:pt x="94" y="25"/>
                  <a:pt x="37" y="9"/>
                </a:cubicBezTo>
                <a:cubicBezTo>
                  <a:pt x="28" y="12"/>
                  <a:pt x="2" y="12"/>
                  <a:pt x="9" y="19"/>
                </a:cubicBezTo>
                <a:cubicBezTo>
                  <a:pt x="20" y="30"/>
                  <a:pt x="40" y="24"/>
                  <a:pt x="55" y="28"/>
                </a:cubicBezTo>
                <a:cubicBezTo>
                  <a:pt x="74" y="33"/>
                  <a:pt x="110" y="46"/>
                  <a:pt x="110" y="46"/>
                </a:cubicBezTo>
                <a:cubicBezTo>
                  <a:pt x="119" y="52"/>
                  <a:pt x="137" y="64"/>
                  <a:pt x="137" y="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621640" y="178596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0"/>
                </a:moveTo>
                <a:cubicBezTo>
                  <a:pt x="33" y="22"/>
                  <a:pt x="17" y="13"/>
                  <a:pt x="46" y="27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464680" y="1692360"/>
            <a:ext cx="44280" cy="28440"/>
          </a:xfrm>
          <a:custGeom>
            <a:avLst/>
            <a:gdLst/>
            <a:ahLst/>
            <a:rect l="l" t="t" r="r" b="b"/>
            <a:pathLst>
              <a:path w="28" h="18">
                <a:moveTo>
                  <a:pt x="0" y="0"/>
                </a:moveTo>
                <a:cubicBezTo>
                  <a:pt x="7" y="2"/>
                  <a:pt x="18" y="10"/>
                  <a:pt x="18" y="10"/>
                </a:cubicBezTo>
                <a:cubicBezTo>
                  <a:pt x="23" y="18"/>
                  <a:pt x="20" y="16"/>
                  <a:pt x="28" y="1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210520" y="1573200"/>
            <a:ext cx="851040" cy="649440"/>
          </a:xfrm>
          <a:custGeom>
            <a:avLst/>
            <a:gdLst/>
            <a:ahLst/>
            <a:rect l="l" t="t" r="r" b="b"/>
            <a:pathLst>
              <a:path w="536" h="409">
                <a:moveTo>
                  <a:pt x="92" y="23"/>
                </a:moveTo>
                <a:cubicBezTo>
                  <a:pt x="96" y="35"/>
                  <a:pt x="98" y="46"/>
                  <a:pt x="104" y="57"/>
                </a:cubicBezTo>
                <a:cubicBezTo>
                  <a:pt x="106" y="61"/>
                  <a:pt x="112" y="69"/>
                  <a:pt x="112" y="69"/>
                </a:cubicBezTo>
                <a:cubicBezTo>
                  <a:pt x="91" y="76"/>
                  <a:pt x="64" y="46"/>
                  <a:pt x="44" y="39"/>
                </a:cubicBezTo>
                <a:cubicBezTo>
                  <a:pt x="30" y="25"/>
                  <a:pt x="37" y="30"/>
                  <a:pt x="26" y="23"/>
                </a:cubicBezTo>
                <a:cubicBezTo>
                  <a:pt x="11" y="0"/>
                  <a:pt x="3" y="35"/>
                  <a:pt x="0" y="49"/>
                </a:cubicBezTo>
                <a:cubicBezTo>
                  <a:pt x="5" y="123"/>
                  <a:pt x="41" y="149"/>
                  <a:pt x="98" y="189"/>
                </a:cubicBezTo>
                <a:cubicBezTo>
                  <a:pt x="118" y="203"/>
                  <a:pt x="136" y="217"/>
                  <a:pt x="158" y="227"/>
                </a:cubicBezTo>
                <a:cubicBezTo>
                  <a:pt x="183" y="238"/>
                  <a:pt x="209" y="246"/>
                  <a:pt x="234" y="257"/>
                </a:cubicBezTo>
                <a:cubicBezTo>
                  <a:pt x="242" y="260"/>
                  <a:pt x="248" y="266"/>
                  <a:pt x="256" y="269"/>
                </a:cubicBezTo>
                <a:cubicBezTo>
                  <a:pt x="260" y="271"/>
                  <a:pt x="268" y="273"/>
                  <a:pt x="268" y="273"/>
                </a:cubicBezTo>
                <a:cubicBezTo>
                  <a:pt x="280" y="285"/>
                  <a:pt x="295" y="294"/>
                  <a:pt x="308" y="303"/>
                </a:cubicBezTo>
                <a:cubicBezTo>
                  <a:pt x="313" y="311"/>
                  <a:pt x="321" y="318"/>
                  <a:pt x="330" y="321"/>
                </a:cubicBezTo>
                <a:cubicBezTo>
                  <a:pt x="340" y="335"/>
                  <a:pt x="391" y="369"/>
                  <a:pt x="408" y="377"/>
                </a:cubicBezTo>
                <a:cubicBezTo>
                  <a:pt x="421" y="397"/>
                  <a:pt x="445" y="397"/>
                  <a:pt x="466" y="401"/>
                </a:cubicBezTo>
                <a:cubicBezTo>
                  <a:pt x="497" y="397"/>
                  <a:pt x="469" y="403"/>
                  <a:pt x="486" y="395"/>
                </a:cubicBezTo>
                <a:cubicBezTo>
                  <a:pt x="490" y="393"/>
                  <a:pt x="498" y="391"/>
                  <a:pt x="498" y="391"/>
                </a:cubicBezTo>
                <a:cubicBezTo>
                  <a:pt x="507" y="405"/>
                  <a:pt x="504" y="398"/>
                  <a:pt x="508" y="409"/>
                </a:cubicBezTo>
                <a:cubicBezTo>
                  <a:pt x="525" y="403"/>
                  <a:pt x="518" y="387"/>
                  <a:pt x="532" y="377"/>
                </a:cubicBezTo>
                <a:cubicBezTo>
                  <a:pt x="534" y="370"/>
                  <a:pt x="532" y="371"/>
                  <a:pt x="536" y="371"/>
                </a:cubicBezTo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267760" y="1333440"/>
            <a:ext cx="168120" cy="371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450280" y="1673280"/>
            <a:ext cx="68400" cy="71280"/>
          </a:xfrm>
          <a:custGeom>
            <a:avLst/>
            <a:gdLst/>
            <a:ahLst/>
            <a:rect l="l" t="t" r="r" b="b"/>
            <a:pathLst>
              <a:path w="43" h="45">
                <a:moveTo>
                  <a:pt x="5" y="0"/>
                </a:moveTo>
                <a:cubicBezTo>
                  <a:pt x="2" y="15"/>
                  <a:pt x="0" y="26"/>
                  <a:pt x="5" y="42"/>
                </a:cubicBezTo>
                <a:cubicBezTo>
                  <a:pt x="16" y="41"/>
                  <a:pt x="29" y="45"/>
                  <a:pt x="39" y="40"/>
                </a:cubicBezTo>
                <a:cubicBezTo>
                  <a:pt x="43" y="38"/>
                  <a:pt x="36" y="32"/>
                  <a:pt x="35" y="28"/>
                </a:cubicBezTo>
                <a:cubicBezTo>
                  <a:pt x="30" y="14"/>
                  <a:pt x="18" y="7"/>
                  <a:pt x="5" y="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572680" y="1760400"/>
            <a:ext cx="172800" cy="111240"/>
          </a:xfrm>
          <a:custGeom>
            <a:avLst/>
            <a:gdLst/>
            <a:ahLst/>
            <a:rect l="l" t="t" r="r" b="b"/>
            <a:pathLst>
              <a:path w="109" h="70">
                <a:moveTo>
                  <a:pt x="0" y="13"/>
                </a:moveTo>
                <a:cubicBezTo>
                  <a:pt x="6" y="3"/>
                  <a:pt x="2" y="8"/>
                  <a:pt x="16" y="3"/>
                </a:cubicBezTo>
                <a:cubicBezTo>
                  <a:pt x="18" y="2"/>
                  <a:pt x="22" y="1"/>
                  <a:pt x="22" y="1"/>
                </a:cubicBezTo>
                <a:cubicBezTo>
                  <a:pt x="29" y="2"/>
                  <a:pt x="38" y="0"/>
                  <a:pt x="44" y="3"/>
                </a:cubicBezTo>
                <a:cubicBezTo>
                  <a:pt x="48" y="5"/>
                  <a:pt x="45" y="12"/>
                  <a:pt x="48" y="15"/>
                </a:cubicBezTo>
                <a:cubicBezTo>
                  <a:pt x="56" y="21"/>
                  <a:pt x="60" y="25"/>
                  <a:pt x="70" y="27"/>
                </a:cubicBezTo>
                <a:cubicBezTo>
                  <a:pt x="79" y="33"/>
                  <a:pt x="80" y="38"/>
                  <a:pt x="84" y="49"/>
                </a:cubicBezTo>
                <a:cubicBezTo>
                  <a:pt x="85" y="52"/>
                  <a:pt x="99" y="57"/>
                  <a:pt x="102" y="59"/>
                </a:cubicBezTo>
                <a:cubicBezTo>
                  <a:pt x="109" y="70"/>
                  <a:pt x="96" y="68"/>
                  <a:pt x="86" y="69"/>
                </a:cubicBezTo>
                <a:cubicBezTo>
                  <a:pt x="58" y="66"/>
                  <a:pt x="63" y="55"/>
                  <a:pt x="40" y="47"/>
                </a:cubicBezTo>
                <a:cubicBezTo>
                  <a:pt x="32" y="39"/>
                  <a:pt x="25" y="30"/>
                  <a:pt x="18" y="23"/>
                </a:cubicBezTo>
                <a:cubicBezTo>
                  <a:pt x="13" y="18"/>
                  <a:pt x="0" y="13"/>
                  <a:pt x="0" y="13"/>
                </a:cubicBezTo>
                <a:close/>
              </a:path>
            </a:pathLst>
          </a:custGeom>
          <a:solidFill>
            <a:srgbClr val="703dff"/>
          </a:solidFill>
          <a:ln w="936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8858160" y="1930320"/>
            <a:ext cx="60480" cy="20016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52680" y="547200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lar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802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gratulations that is an enlargement of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BC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by a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cale factor of 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bout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oint C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1" name=""/>
          <p:cNvSpPr/>
          <p:nvPr/>
        </p:nvSpPr>
        <p:spPr>
          <a:xfrm>
            <a:off x="6211800" y="38847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6175440" y="4635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6831000" y="51404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7429680" y="38671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>
            <a:hlinkClick r:id="rId1" action="ppaction://hlinksldjump"/>
          </p:cNvPr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>
            <a:hlinkClick r:id="rId2" action="ppaction://hlinksldjump"/>
          </p:cNvPr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6481800" y="4060800"/>
            <a:ext cx="954000" cy="1089000"/>
          </a:xfrm>
          <a:custGeom>
            <a:avLst/>
            <a:gdLst/>
            <a:ahLst/>
            <a:rect l="l" t="t" r="r" b="b"/>
            <a:pathLst>
              <a:path w="601" h="686">
                <a:moveTo>
                  <a:pt x="34" y="0"/>
                </a:moveTo>
                <a:lnTo>
                  <a:pt x="601" y="0"/>
                </a:lnTo>
                <a:lnTo>
                  <a:pt x="322" y="686"/>
                </a:lnTo>
                <a:lnTo>
                  <a:pt x="0" y="449"/>
                </a:lnTo>
                <a:lnTo>
                  <a:pt x="3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5460840" y="1882800"/>
            <a:ext cx="2860920" cy="3267000"/>
          </a:xfrm>
          <a:custGeom>
            <a:avLst/>
            <a:gdLst/>
            <a:ahLst/>
            <a:rect l="l" t="t" r="r" b="b"/>
            <a:pathLst>
              <a:path w="601" h="686">
                <a:moveTo>
                  <a:pt x="34" y="0"/>
                </a:moveTo>
                <a:lnTo>
                  <a:pt x="601" y="0"/>
                </a:lnTo>
                <a:lnTo>
                  <a:pt x="322" y="686"/>
                </a:lnTo>
                <a:lnTo>
                  <a:pt x="0" y="449"/>
                </a:lnTo>
                <a:lnTo>
                  <a:pt x="3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5243400" y="16128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8020080" y="15685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5108400" y="39402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cus About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802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ruct the locus of points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ess than 4c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rom point 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4" name=""/>
          <p:cNvSpPr/>
          <p:nvPr/>
        </p:nvSpPr>
        <p:spPr>
          <a:xfrm>
            <a:off x="6211800" y="388476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6545160" y="38750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cus About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802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t your compass to the maximum or minimum distance for the locu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In this case 4 cm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8" name=""/>
          <p:cNvSpPr/>
          <p:nvPr/>
        </p:nvSpPr>
        <p:spPr>
          <a:xfrm>
            <a:off x="6211800" y="388476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6545160" y="38750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cus About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446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aw a full circle with the compass point on 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Note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b800"/>
                </a:solidFill>
                <a:latin typeface="Comic Sans MS"/>
              </a:rPr>
              <a:t>This is the locus of points exactly 4cm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b8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b800"/>
                </a:solidFill>
                <a:latin typeface="Comic Sans MS"/>
              </a:rPr>
              <a:t>from 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2" name=""/>
          <p:cNvSpPr/>
          <p:nvPr/>
        </p:nvSpPr>
        <p:spPr>
          <a:xfrm>
            <a:off x="5149800" y="2467080"/>
            <a:ext cx="287964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6211800" y="388476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6545160" y="38750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5" name=""/>
          <p:cNvGrpSpPr/>
          <p:nvPr/>
        </p:nvGrpSpPr>
        <p:grpSpPr>
          <a:xfrm>
            <a:off x="6448320" y="3776760"/>
            <a:ext cx="287280" cy="288720"/>
            <a:chOff x="6448320" y="3776760"/>
            <a:chExt cx="287280" cy="288720"/>
          </a:xfrm>
        </p:grpSpPr>
        <p:sp>
          <p:nvSpPr>
            <p:cNvPr id="1596" name=""/>
            <p:cNvSpPr/>
            <p:nvPr/>
          </p:nvSpPr>
          <p:spPr>
            <a:xfrm>
              <a:off x="6592680" y="377676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448320" y="392112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87" dur="20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9" dur="20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"/>
          <p:cNvSpPr/>
          <p:nvPr/>
        </p:nvSpPr>
        <p:spPr>
          <a:xfrm>
            <a:off x="5149800" y="2467080"/>
            <a:ext cx="287964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cus About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3959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ade inside the circ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Note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b800"/>
                </a:solidFill>
                <a:latin typeface="Comic Sans MS"/>
              </a:rPr>
              <a:t>This is to represent the locus of points less than  4cm from 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1" name=""/>
          <p:cNvSpPr/>
          <p:nvPr/>
        </p:nvSpPr>
        <p:spPr>
          <a:xfrm>
            <a:off x="5151600" y="2468520"/>
            <a:ext cx="2879640" cy="28796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6211800" y="388476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>
            <a:off x="6545160" y="38750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91" dur="indefinite" restart="never" nodeType="tmRoot">
          <p:childTnLst>
            <p:seq>
              <p:cTn id="1092" dur="indefinite" nodeType="mainSeq">
                <p:childTnLst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7" dur="20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"/>
          <p:cNvSpPr/>
          <p:nvPr/>
        </p:nvSpPr>
        <p:spPr>
          <a:xfrm>
            <a:off x="5151600" y="2468520"/>
            <a:ext cx="2879640" cy="28796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cus About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802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gratulations that is a Locus of points less than 4 cm from point 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7" name=""/>
          <p:cNvSpPr/>
          <p:nvPr/>
        </p:nvSpPr>
        <p:spPr>
          <a:xfrm>
            <a:off x="6211800" y="388476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>
            <a:hlinkClick r:id="rId1" action="ppaction://hlinksldjump"/>
          </p:cNvPr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>
            <a:hlinkClick r:id="rId2" action="ppaction://hlinksldjump"/>
          </p:cNvPr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6545160" y="38750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cus From a 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04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ruct the locus of points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2 c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rom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ine A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3" name=""/>
          <p:cNvSpPr/>
          <p:nvPr/>
        </p:nvSpPr>
        <p:spPr>
          <a:xfrm>
            <a:off x="5450040" y="2678040"/>
            <a:ext cx="4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6808680" y="398628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5740560" y="2743200"/>
            <a:ext cx="134604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cus From a 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2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t your compass to the maximum or minimum distance requir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In this Case 2cm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8" name=""/>
          <p:cNvSpPr/>
          <p:nvPr/>
        </p:nvSpPr>
        <p:spPr>
          <a:xfrm>
            <a:off x="5740560" y="2743200"/>
            <a:ext cx="134604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5450040" y="2678040"/>
            <a:ext cx="4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>
            <a:off x="6808680" y="398628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"/>
          <p:cNvSpPr/>
          <p:nvPr/>
        </p:nvSpPr>
        <p:spPr>
          <a:xfrm>
            <a:off x="5689440" y="2679840"/>
            <a:ext cx="1440000" cy="143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cus From a 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04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struct a line parallel to AB above and below the lin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4" name=""/>
          <p:cNvSpPr/>
          <p:nvPr/>
        </p:nvSpPr>
        <p:spPr>
          <a:xfrm>
            <a:off x="5664240" y="1689120"/>
            <a:ext cx="2832120" cy="271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5003640" y="2019240"/>
            <a:ext cx="1440000" cy="1440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6350040" y="3314880"/>
            <a:ext cx="1440000" cy="143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4978440" y="1930320"/>
            <a:ext cx="888840" cy="105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>
            <a:off x="5600880" y="2540160"/>
            <a:ext cx="888840" cy="105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6248520" y="3137040"/>
            <a:ext cx="888840" cy="105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7061040" y="3949560"/>
            <a:ext cx="889200" cy="105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5740560" y="2743200"/>
            <a:ext cx="134604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2" name=""/>
          <p:cNvGrpSpPr/>
          <p:nvPr/>
        </p:nvGrpSpPr>
        <p:grpSpPr>
          <a:xfrm>
            <a:off x="5597640" y="2595600"/>
            <a:ext cx="287280" cy="288720"/>
            <a:chOff x="5597640" y="2595600"/>
            <a:chExt cx="287280" cy="288720"/>
          </a:xfrm>
        </p:grpSpPr>
        <p:sp>
          <p:nvSpPr>
            <p:cNvPr id="1633" name=""/>
            <p:cNvSpPr/>
            <p:nvPr/>
          </p:nvSpPr>
          <p:spPr>
            <a:xfrm>
              <a:off x="5742000" y="259560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5597640" y="273996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5" name=""/>
          <p:cNvGrpSpPr/>
          <p:nvPr/>
        </p:nvGrpSpPr>
        <p:grpSpPr>
          <a:xfrm>
            <a:off x="6943680" y="3903840"/>
            <a:ext cx="287280" cy="288720"/>
            <a:chOff x="6943680" y="3903840"/>
            <a:chExt cx="287280" cy="288720"/>
          </a:xfrm>
        </p:grpSpPr>
        <p:sp>
          <p:nvSpPr>
            <p:cNvPr id="1636" name=""/>
            <p:cNvSpPr/>
            <p:nvPr/>
          </p:nvSpPr>
          <p:spPr>
            <a:xfrm>
              <a:off x="7088040" y="390384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6943680" y="40482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8" name=""/>
          <p:cNvGrpSpPr/>
          <p:nvPr/>
        </p:nvGrpSpPr>
        <p:grpSpPr>
          <a:xfrm>
            <a:off x="6232680" y="3218040"/>
            <a:ext cx="287280" cy="288720"/>
            <a:chOff x="6232680" y="3218040"/>
            <a:chExt cx="287280" cy="288720"/>
          </a:xfrm>
        </p:grpSpPr>
        <p:sp>
          <p:nvSpPr>
            <p:cNvPr id="1639" name=""/>
            <p:cNvSpPr/>
            <p:nvPr/>
          </p:nvSpPr>
          <p:spPr>
            <a:xfrm>
              <a:off x="6377040" y="321804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6232680" y="33624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1" name=""/>
          <p:cNvSpPr/>
          <p:nvPr/>
        </p:nvSpPr>
        <p:spPr>
          <a:xfrm>
            <a:off x="4330800" y="2400480"/>
            <a:ext cx="309888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5450040" y="2678040"/>
            <a:ext cx="4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6808680" y="398628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4" dur="20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08" dur="2000"/>
                                        <p:tgtEl>
                                          <p:spTgt spid="1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1" dur="10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7" dur="20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21" dur="2000"/>
                                        <p:tgtEl>
                                          <p:spTgt spid="1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4" dur="10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0" dur="2000"/>
                                        <p:tgtEl>
                                          <p:spTgt spid="1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34" dur="2000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7" dur="1000"/>
                                        <p:tgtEl>
                                          <p:spTgt spid="16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3" dur="2000"/>
                                        <p:tgtEl>
                                          <p:spTgt spid="1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8" dur="20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cus From a 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04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there were no end points specified then this would be where we stop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6" name=""/>
          <p:cNvSpPr/>
          <p:nvPr/>
        </p:nvSpPr>
        <p:spPr>
          <a:xfrm>
            <a:off x="5664240" y="1689120"/>
            <a:ext cx="2832120" cy="271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>
            <a:off x="5740560" y="2743200"/>
            <a:ext cx="134604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4330800" y="2400480"/>
            <a:ext cx="309888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5450040" y="2678040"/>
            <a:ext cx="4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6808680" y="398628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3868560" y="3284640"/>
            <a:ext cx="3419640" cy="3382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308560" y="4941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684920" y="27082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868560" y="3068640"/>
            <a:ext cx="1440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956200" y="1495440"/>
            <a:ext cx="3419640" cy="3382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950240" y="4395960"/>
            <a:ext cx="6858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461440" y="4121280"/>
            <a:ext cx="452520" cy="479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999640" y="4035600"/>
            <a:ext cx="1443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055080" y="2046240"/>
            <a:ext cx="88920" cy="46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142120" y="1552680"/>
            <a:ext cx="281160" cy="112680"/>
          </a:xfrm>
          <a:custGeom>
            <a:avLst/>
            <a:gdLst/>
            <a:ahLst/>
            <a:rect l="l" t="t" r="r" b="b"/>
            <a:pathLst>
              <a:path w="177" h="71">
                <a:moveTo>
                  <a:pt x="0" y="0"/>
                </a:moveTo>
                <a:cubicBezTo>
                  <a:pt x="36" y="7"/>
                  <a:pt x="66" y="17"/>
                  <a:pt x="101" y="28"/>
                </a:cubicBezTo>
                <a:cubicBezTo>
                  <a:pt x="164" y="69"/>
                  <a:pt x="177" y="71"/>
                  <a:pt x="128" y="55"/>
                </a:cubicBezTo>
                <a:cubicBezTo>
                  <a:pt x="63" y="12"/>
                  <a:pt x="94" y="25"/>
                  <a:pt x="37" y="9"/>
                </a:cubicBezTo>
                <a:cubicBezTo>
                  <a:pt x="28" y="12"/>
                  <a:pt x="2" y="12"/>
                  <a:pt x="9" y="19"/>
                </a:cubicBezTo>
                <a:cubicBezTo>
                  <a:pt x="20" y="30"/>
                  <a:pt x="40" y="24"/>
                  <a:pt x="55" y="28"/>
                </a:cubicBezTo>
                <a:cubicBezTo>
                  <a:pt x="74" y="33"/>
                  <a:pt x="110" y="46"/>
                  <a:pt x="110" y="46"/>
                </a:cubicBezTo>
                <a:cubicBezTo>
                  <a:pt x="119" y="52"/>
                  <a:pt x="137" y="64"/>
                  <a:pt x="137" y="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8912160" y="1960560"/>
            <a:ext cx="139680" cy="287280"/>
          </a:xfrm>
          <a:custGeom>
            <a:avLst/>
            <a:gdLst/>
            <a:ahLst/>
            <a:rect l="l" t="t" r="r" b="b"/>
            <a:pathLst>
              <a:path w="88" h="181">
                <a:moveTo>
                  <a:pt x="0" y="36"/>
                </a:moveTo>
                <a:cubicBezTo>
                  <a:pt x="42" y="100"/>
                  <a:pt x="18" y="79"/>
                  <a:pt x="64" y="109"/>
                </a:cubicBezTo>
                <a:cubicBezTo>
                  <a:pt x="88" y="181"/>
                  <a:pt x="30" y="103"/>
                  <a:pt x="18" y="91"/>
                </a:cubicBezTo>
                <a:cubicBezTo>
                  <a:pt x="16" y="83"/>
                  <a:pt x="0" y="0"/>
                  <a:pt x="0" y="36"/>
                </a:cubicBezTo>
                <a:close/>
              </a:path>
            </a:pathLst>
          </a:custGeom>
          <a:solidFill>
            <a:srgbClr val="ffef66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955000" y="4238640"/>
            <a:ext cx="1800" cy="130320"/>
          </a:xfrm>
          <a:custGeom>
            <a:avLst/>
            <a:gdLst/>
            <a:ahLst/>
            <a:rect l="l" t="t" r="r" b="b"/>
            <a:pathLst>
              <a:path w="1" h="82">
                <a:moveTo>
                  <a:pt x="0" y="0"/>
                </a:moveTo>
                <a:cubicBezTo>
                  <a:pt x="0" y="27"/>
                  <a:pt x="0" y="55"/>
                  <a:pt x="0" y="82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8621640" y="178596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0"/>
                </a:moveTo>
                <a:cubicBezTo>
                  <a:pt x="33" y="22"/>
                  <a:pt x="17" y="13"/>
                  <a:pt x="46" y="27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138640" y="2378160"/>
            <a:ext cx="2914920" cy="3340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54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gratulations that is a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erpendicular Bisecto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line A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"/>
          <p:cNvSpPr/>
          <p:nvPr/>
        </p:nvSpPr>
        <p:spPr>
          <a:xfrm>
            <a:off x="9055080" y="2046240"/>
            <a:ext cx="88920" cy="46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142120" y="1552680"/>
            <a:ext cx="281160" cy="112680"/>
          </a:xfrm>
          <a:custGeom>
            <a:avLst/>
            <a:gdLst/>
            <a:ahLst/>
            <a:rect l="l" t="t" r="r" b="b"/>
            <a:pathLst>
              <a:path w="177" h="71">
                <a:moveTo>
                  <a:pt x="0" y="0"/>
                </a:moveTo>
                <a:cubicBezTo>
                  <a:pt x="36" y="7"/>
                  <a:pt x="66" y="17"/>
                  <a:pt x="101" y="28"/>
                </a:cubicBezTo>
                <a:cubicBezTo>
                  <a:pt x="164" y="69"/>
                  <a:pt x="177" y="71"/>
                  <a:pt x="128" y="55"/>
                </a:cubicBezTo>
                <a:cubicBezTo>
                  <a:pt x="63" y="12"/>
                  <a:pt x="94" y="25"/>
                  <a:pt x="37" y="9"/>
                </a:cubicBezTo>
                <a:cubicBezTo>
                  <a:pt x="28" y="12"/>
                  <a:pt x="2" y="12"/>
                  <a:pt x="9" y="19"/>
                </a:cubicBezTo>
                <a:cubicBezTo>
                  <a:pt x="20" y="30"/>
                  <a:pt x="40" y="24"/>
                  <a:pt x="55" y="28"/>
                </a:cubicBezTo>
                <a:cubicBezTo>
                  <a:pt x="74" y="33"/>
                  <a:pt x="110" y="46"/>
                  <a:pt x="110" y="46"/>
                </a:cubicBezTo>
                <a:cubicBezTo>
                  <a:pt x="119" y="52"/>
                  <a:pt x="137" y="64"/>
                  <a:pt x="137" y="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912160" y="1960560"/>
            <a:ext cx="139680" cy="287280"/>
          </a:xfrm>
          <a:custGeom>
            <a:avLst/>
            <a:gdLst/>
            <a:ahLst/>
            <a:rect l="l" t="t" r="r" b="b"/>
            <a:pathLst>
              <a:path w="88" h="181">
                <a:moveTo>
                  <a:pt x="0" y="36"/>
                </a:moveTo>
                <a:cubicBezTo>
                  <a:pt x="42" y="100"/>
                  <a:pt x="18" y="79"/>
                  <a:pt x="64" y="109"/>
                </a:cubicBezTo>
                <a:cubicBezTo>
                  <a:pt x="88" y="181"/>
                  <a:pt x="30" y="103"/>
                  <a:pt x="18" y="91"/>
                </a:cubicBezTo>
                <a:cubicBezTo>
                  <a:pt x="16" y="83"/>
                  <a:pt x="0" y="0"/>
                  <a:pt x="0" y="36"/>
                </a:cubicBezTo>
                <a:close/>
              </a:path>
            </a:pathLst>
          </a:custGeom>
          <a:solidFill>
            <a:srgbClr val="ffef66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8621640" y="178596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0"/>
                </a:moveTo>
                <a:cubicBezTo>
                  <a:pt x="33" y="22"/>
                  <a:pt x="17" y="13"/>
                  <a:pt x="46" y="27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622760" y="1604880"/>
            <a:ext cx="3519360" cy="10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142120" y="1552680"/>
            <a:ext cx="281160" cy="112680"/>
          </a:xfrm>
          <a:custGeom>
            <a:avLst/>
            <a:gdLst/>
            <a:ahLst/>
            <a:rect l="l" t="t" r="r" b="b"/>
            <a:pathLst>
              <a:path w="177" h="71">
                <a:moveTo>
                  <a:pt x="0" y="0"/>
                </a:moveTo>
                <a:cubicBezTo>
                  <a:pt x="36" y="7"/>
                  <a:pt x="66" y="17"/>
                  <a:pt x="101" y="28"/>
                </a:cubicBezTo>
                <a:cubicBezTo>
                  <a:pt x="164" y="69"/>
                  <a:pt x="177" y="71"/>
                  <a:pt x="128" y="55"/>
                </a:cubicBezTo>
                <a:cubicBezTo>
                  <a:pt x="63" y="12"/>
                  <a:pt x="94" y="25"/>
                  <a:pt x="37" y="9"/>
                </a:cubicBezTo>
                <a:cubicBezTo>
                  <a:pt x="28" y="12"/>
                  <a:pt x="2" y="12"/>
                  <a:pt x="9" y="19"/>
                </a:cubicBezTo>
                <a:cubicBezTo>
                  <a:pt x="20" y="30"/>
                  <a:pt x="40" y="24"/>
                  <a:pt x="55" y="28"/>
                </a:cubicBezTo>
                <a:cubicBezTo>
                  <a:pt x="74" y="33"/>
                  <a:pt x="110" y="46"/>
                  <a:pt x="110" y="46"/>
                </a:cubicBezTo>
                <a:cubicBezTo>
                  <a:pt x="119" y="52"/>
                  <a:pt x="137" y="64"/>
                  <a:pt x="137" y="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621640" y="178596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0"/>
                </a:moveTo>
                <a:cubicBezTo>
                  <a:pt x="33" y="22"/>
                  <a:pt x="17" y="13"/>
                  <a:pt x="46" y="27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464680" y="1692360"/>
            <a:ext cx="44280" cy="28440"/>
          </a:xfrm>
          <a:custGeom>
            <a:avLst/>
            <a:gdLst/>
            <a:ahLst/>
            <a:rect l="l" t="t" r="r" b="b"/>
            <a:pathLst>
              <a:path w="28" h="18">
                <a:moveTo>
                  <a:pt x="0" y="0"/>
                </a:moveTo>
                <a:cubicBezTo>
                  <a:pt x="7" y="2"/>
                  <a:pt x="18" y="10"/>
                  <a:pt x="18" y="10"/>
                </a:cubicBezTo>
                <a:cubicBezTo>
                  <a:pt x="23" y="18"/>
                  <a:pt x="20" y="16"/>
                  <a:pt x="28" y="1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210520" y="1573200"/>
            <a:ext cx="851040" cy="649440"/>
          </a:xfrm>
          <a:custGeom>
            <a:avLst/>
            <a:gdLst/>
            <a:ahLst/>
            <a:rect l="l" t="t" r="r" b="b"/>
            <a:pathLst>
              <a:path w="536" h="409">
                <a:moveTo>
                  <a:pt x="92" y="23"/>
                </a:moveTo>
                <a:cubicBezTo>
                  <a:pt x="96" y="35"/>
                  <a:pt x="98" y="46"/>
                  <a:pt x="104" y="57"/>
                </a:cubicBezTo>
                <a:cubicBezTo>
                  <a:pt x="106" y="61"/>
                  <a:pt x="112" y="69"/>
                  <a:pt x="112" y="69"/>
                </a:cubicBezTo>
                <a:cubicBezTo>
                  <a:pt x="91" y="76"/>
                  <a:pt x="64" y="46"/>
                  <a:pt x="44" y="39"/>
                </a:cubicBezTo>
                <a:cubicBezTo>
                  <a:pt x="30" y="25"/>
                  <a:pt x="37" y="30"/>
                  <a:pt x="26" y="23"/>
                </a:cubicBezTo>
                <a:cubicBezTo>
                  <a:pt x="11" y="0"/>
                  <a:pt x="3" y="35"/>
                  <a:pt x="0" y="49"/>
                </a:cubicBezTo>
                <a:cubicBezTo>
                  <a:pt x="5" y="123"/>
                  <a:pt x="41" y="149"/>
                  <a:pt x="98" y="189"/>
                </a:cubicBezTo>
                <a:cubicBezTo>
                  <a:pt x="118" y="203"/>
                  <a:pt x="136" y="217"/>
                  <a:pt x="158" y="227"/>
                </a:cubicBezTo>
                <a:cubicBezTo>
                  <a:pt x="183" y="238"/>
                  <a:pt x="209" y="246"/>
                  <a:pt x="234" y="257"/>
                </a:cubicBezTo>
                <a:cubicBezTo>
                  <a:pt x="242" y="260"/>
                  <a:pt x="248" y="266"/>
                  <a:pt x="256" y="269"/>
                </a:cubicBezTo>
                <a:cubicBezTo>
                  <a:pt x="260" y="271"/>
                  <a:pt x="268" y="273"/>
                  <a:pt x="268" y="273"/>
                </a:cubicBezTo>
                <a:cubicBezTo>
                  <a:pt x="280" y="285"/>
                  <a:pt x="295" y="294"/>
                  <a:pt x="308" y="303"/>
                </a:cubicBezTo>
                <a:cubicBezTo>
                  <a:pt x="313" y="311"/>
                  <a:pt x="321" y="318"/>
                  <a:pt x="330" y="321"/>
                </a:cubicBezTo>
                <a:cubicBezTo>
                  <a:pt x="340" y="335"/>
                  <a:pt x="391" y="369"/>
                  <a:pt x="408" y="377"/>
                </a:cubicBezTo>
                <a:cubicBezTo>
                  <a:pt x="421" y="397"/>
                  <a:pt x="445" y="397"/>
                  <a:pt x="466" y="401"/>
                </a:cubicBezTo>
                <a:cubicBezTo>
                  <a:pt x="497" y="397"/>
                  <a:pt x="469" y="403"/>
                  <a:pt x="486" y="395"/>
                </a:cubicBezTo>
                <a:cubicBezTo>
                  <a:pt x="490" y="393"/>
                  <a:pt x="498" y="391"/>
                  <a:pt x="498" y="391"/>
                </a:cubicBezTo>
                <a:cubicBezTo>
                  <a:pt x="507" y="405"/>
                  <a:pt x="504" y="398"/>
                  <a:pt x="508" y="409"/>
                </a:cubicBezTo>
                <a:cubicBezTo>
                  <a:pt x="525" y="403"/>
                  <a:pt x="518" y="387"/>
                  <a:pt x="532" y="377"/>
                </a:cubicBezTo>
                <a:cubicBezTo>
                  <a:pt x="534" y="370"/>
                  <a:pt x="532" y="371"/>
                  <a:pt x="536" y="371"/>
                </a:cubicBezTo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267760" y="1333440"/>
            <a:ext cx="168120" cy="371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450280" y="1673280"/>
            <a:ext cx="68400" cy="71280"/>
          </a:xfrm>
          <a:custGeom>
            <a:avLst/>
            <a:gdLst/>
            <a:ahLst/>
            <a:rect l="l" t="t" r="r" b="b"/>
            <a:pathLst>
              <a:path w="43" h="45">
                <a:moveTo>
                  <a:pt x="5" y="0"/>
                </a:moveTo>
                <a:cubicBezTo>
                  <a:pt x="2" y="15"/>
                  <a:pt x="0" y="26"/>
                  <a:pt x="5" y="42"/>
                </a:cubicBezTo>
                <a:cubicBezTo>
                  <a:pt x="16" y="41"/>
                  <a:pt x="29" y="45"/>
                  <a:pt x="39" y="40"/>
                </a:cubicBezTo>
                <a:cubicBezTo>
                  <a:pt x="43" y="38"/>
                  <a:pt x="36" y="32"/>
                  <a:pt x="35" y="28"/>
                </a:cubicBezTo>
                <a:cubicBezTo>
                  <a:pt x="30" y="14"/>
                  <a:pt x="18" y="7"/>
                  <a:pt x="5" y="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572680" y="1760400"/>
            <a:ext cx="172800" cy="111240"/>
          </a:xfrm>
          <a:custGeom>
            <a:avLst/>
            <a:gdLst/>
            <a:ahLst/>
            <a:rect l="l" t="t" r="r" b="b"/>
            <a:pathLst>
              <a:path w="109" h="70">
                <a:moveTo>
                  <a:pt x="0" y="13"/>
                </a:moveTo>
                <a:cubicBezTo>
                  <a:pt x="6" y="3"/>
                  <a:pt x="2" y="8"/>
                  <a:pt x="16" y="3"/>
                </a:cubicBezTo>
                <a:cubicBezTo>
                  <a:pt x="18" y="2"/>
                  <a:pt x="22" y="1"/>
                  <a:pt x="22" y="1"/>
                </a:cubicBezTo>
                <a:cubicBezTo>
                  <a:pt x="29" y="2"/>
                  <a:pt x="38" y="0"/>
                  <a:pt x="44" y="3"/>
                </a:cubicBezTo>
                <a:cubicBezTo>
                  <a:pt x="48" y="5"/>
                  <a:pt x="45" y="12"/>
                  <a:pt x="48" y="15"/>
                </a:cubicBezTo>
                <a:cubicBezTo>
                  <a:pt x="56" y="21"/>
                  <a:pt x="60" y="25"/>
                  <a:pt x="70" y="27"/>
                </a:cubicBezTo>
                <a:cubicBezTo>
                  <a:pt x="79" y="33"/>
                  <a:pt x="80" y="38"/>
                  <a:pt x="84" y="49"/>
                </a:cubicBezTo>
                <a:cubicBezTo>
                  <a:pt x="85" y="52"/>
                  <a:pt x="99" y="57"/>
                  <a:pt x="102" y="59"/>
                </a:cubicBezTo>
                <a:cubicBezTo>
                  <a:pt x="109" y="70"/>
                  <a:pt x="96" y="68"/>
                  <a:pt x="86" y="69"/>
                </a:cubicBezTo>
                <a:cubicBezTo>
                  <a:pt x="58" y="66"/>
                  <a:pt x="63" y="55"/>
                  <a:pt x="40" y="47"/>
                </a:cubicBezTo>
                <a:cubicBezTo>
                  <a:pt x="32" y="39"/>
                  <a:pt x="25" y="30"/>
                  <a:pt x="18" y="23"/>
                </a:cubicBezTo>
                <a:cubicBezTo>
                  <a:pt x="13" y="18"/>
                  <a:pt x="0" y="13"/>
                  <a:pt x="0" y="13"/>
                </a:cubicBezTo>
                <a:close/>
              </a:path>
            </a:pathLst>
          </a:custGeom>
          <a:solidFill>
            <a:srgbClr val="703dff"/>
          </a:solidFill>
          <a:ln w="936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858160" y="1930320"/>
            <a:ext cx="60480" cy="20016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>
            <a:hlinkClick r:id="rId1" action="ppaction://hlinksldjump"/>
          </p:cNvPr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>
            <a:hlinkClick r:id="rId2" action="ppaction://hlinksldjump"/>
          </p:cNvPr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1000" autoRev="1" fill="hold"/>
                                        <p:tgtEl>
                                          <p:spTgt spid="3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" dur="500" autoRev="1" fill="hold"/>
                                        <p:tgtEl>
                                          <p:spTgt spid="3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" dur="250" autoRev="1" fill="hold"/>
                                        <p:tgtEl>
                                          <p:spTgt spid="3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cus From a 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04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ce endpoints are specifi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raw a 2cm semicircle around each of the points A and 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ase the excess lin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3" name=""/>
          <p:cNvSpPr/>
          <p:nvPr/>
        </p:nvSpPr>
        <p:spPr>
          <a:xfrm>
            <a:off x="5003640" y="2019240"/>
            <a:ext cx="1440000" cy="1440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6350040" y="3314880"/>
            <a:ext cx="1440000" cy="143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5270400" y="2260440"/>
            <a:ext cx="2222640" cy="22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6" name=""/>
          <p:cNvGrpSpPr/>
          <p:nvPr/>
        </p:nvGrpSpPr>
        <p:grpSpPr>
          <a:xfrm>
            <a:off x="5232240" y="2235240"/>
            <a:ext cx="2349720" cy="2324160"/>
            <a:chOff x="5232240" y="2235240"/>
            <a:chExt cx="2349720" cy="2324160"/>
          </a:xfrm>
        </p:grpSpPr>
        <p:sp>
          <p:nvSpPr>
            <p:cNvPr id="1657" name=""/>
            <p:cNvSpPr/>
            <p:nvPr/>
          </p:nvSpPr>
          <p:spPr>
            <a:xfrm>
              <a:off x="5740560" y="2743200"/>
              <a:ext cx="134604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6235560" y="2235240"/>
              <a:ext cx="13464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5232240" y="3263760"/>
              <a:ext cx="134640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0" name=""/>
          <p:cNvSpPr/>
          <p:nvPr/>
        </p:nvSpPr>
        <p:spPr>
          <a:xfrm>
            <a:off x="5450040" y="2678040"/>
            <a:ext cx="4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6808680" y="398628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5664240" y="1689120"/>
            <a:ext cx="2832120" cy="271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4330800" y="2400480"/>
            <a:ext cx="309888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6154560" y="551484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5002200" y="2017800"/>
            <a:ext cx="1440000" cy="143964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6353280" y="3309840"/>
            <a:ext cx="1439640" cy="14400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6370560" y="573084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49" dur="indefinite" restart="never" nodeType="tmRoot">
          <p:childTnLst>
            <p:seq>
              <p:cTn id="1150" dur="indefinite" nodeType="mainSeq">
                <p:childTnLst>
                  <p:par>
                    <p:cTn id="1151" fill="hold">
                      <p:stCondLst>
                        <p:cond delay="0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5" dur="5000"/>
                                        <p:tgtEl>
                                          <p:spTgt spid="1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9" dur="5000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64" dur="20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67" dur="2000"/>
                                        <p:tgtEl>
                                          <p:spTgt spid="1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72" dur="20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75" dur="2000"/>
                                        <p:tgtEl>
                                          <p:spTgt spid="1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79" dur="2000"/>
                                        <p:tgtEl>
                                          <p:spTgt spid="16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1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82" dur="2000"/>
                                        <p:tgtEl>
                                          <p:spTgt spid="1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5" dur="2000"/>
                                        <p:tgtEl>
                                          <p:spTgt spid="16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8" dur="2000"/>
                                        <p:tgtEl>
                                          <p:spTgt spid="16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cus From a 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04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gratulations that is the Locus of points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2c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rom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line A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0" name="">
            <a:hlinkClick r:id="rId1" action="ppaction://hlinksldjump"/>
          </p:cNvPr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>
            <a:hlinkClick r:id="rId2" action="ppaction://hlinksldjump"/>
          </p:cNvPr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5003640" y="2019240"/>
            <a:ext cx="1440000" cy="1440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6350040" y="3314880"/>
            <a:ext cx="1440000" cy="143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5270400" y="2260440"/>
            <a:ext cx="2222640" cy="22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5" name=""/>
          <p:cNvGrpSpPr/>
          <p:nvPr/>
        </p:nvGrpSpPr>
        <p:grpSpPr>
          <a:xfrm>
            <a:off x="5232240" y="2235240"/>
            <a:ext cx="2349720" cy="2324160"/>
            <a:chOff x="5232240" y="2235240"/>
            <a:chExt cx="2349720" cy="2324160"/>
          </a:xfrm>
        </p:grpSpPr>
        <p:sp>
          <p:nvSpPr>
            <p:cNvPr id="1676" name=""/>
            <p:cNvSpPr/>
            <p:nvPr/>
          </p:nvSpPr>
          <p:spPr>
            <a:xfrm>
              <a:off x="5740560" y="2743200"/>
              <a:ext cx="134604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235560" y="2235240"/>
              <a:ext cx="13464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5232240" y="3263760"/>
              <a:ext cx="134640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9" name=""/>
          <p:cNvSpPr/>
          <p:nvPr/>
        </p:nvSpPr>
        <p:spPr>
          <a:xfrm>
            <a:off x="5450040" y="2678040"/>
            <a:ext cx="4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6808680" y="398628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quidistant from 2 Po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255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ruct the locus of points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equidistant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om the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points A and 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3" name=""/>
          <p:cNvSpPr/>
          <p:nvPr/>
        </p:nvSpPr>
        <p:spPr>
          <a:xfrm>
            <a:off x="5450040" y="3643200"/>
            <a:ext cx="4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7316640" y="374508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5740560" y="37339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7289640" y="3873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 flipH="1" flipV="1">
            <a:off x="4521240" y="3251160"/>
            <a:ext cx="39384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4889520" y="4584600"/>
            <a:ext cx="21844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800"/>
                </a:solidFill>
                <a:latin typeface="Comic Sans MS"/>
              </a:rPr>
              <a:t>This means in the mid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quidistant from 2 Po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255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 we need to find a set of points that go straight through the middl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ry a perpendicular bisect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1" name=""/>
          <p:cNvSpPr/>
          <p:nvPr/>
        </p:nvSpPr>
        <p:spPr>
          <a:xfrm>
            <a:off x="5740560" y="37339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7289640" y="3873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3" name=""/>
          <p:cNvGrpSpPr/>
          <p:nvPr/>
        </p:nvGrpSpPr>
        <p:grpSpPr>
          <a:xfrm>
            <a:off x="5643720" y="3630600"/>
            <a:ext cx="287280" cy="288720"/>
            <a:chOff x="5643720" y="3630600"/>
            <a:chExt cx="287280" cy="288720"/>
          </a:xfrm>
        </p:grpSpPr>
        <p:sp>
          <p:nvSpPr>
            <p:cNvPr id="1694" name=""/>
            <p:cNvSpPr/>
            <p:nvPr/>
          </p:nvSpPr>
          <p:spPr>
            <a:xfrm>
              <a:off x="5788080" y="363060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5643720" y="377496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6" name=""/>
          <p:cNvGrpSpPr/>
          <p:nvPr/>
        </p:nvGrpSpPr>
        <p:grpSpPr>
          <a:xfrm>
            <a:off x="7192800" y="3770280"/>
            <a:ext cx="287280" cy="288720"/>
            <a:chOff x="7192800" y="3770280"/>
            <a:chExt cx="287280" cy="288720"/>
          </a:xfrm>
        </p:grpSpPr>
        <p:sp>
          <p:nvSpPr>
            <p:cNvPr id="1697" name=""/>
            <p:cNvSpPr/>
            <p:nvPr/>
          </p:nvSpPr>
          <p:spPr>
            <a:xfrm>
              <a:off x="7337160" y="377028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7192800" y="391464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9" name=""/>
          <p:cNvSpPr/>
          <p:nvPr/>
        </p:nvSpPr>
        <p:spPr>
          <a:xfrm>
            <a:off x="4876920" y="2870280"/>
            <a:ext cx="1800000" cy="1800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6426360" y="3009960"/>
            <a:ext cx="1800000" cy="1800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 flipH="1">
            <a:off x="6387840" y="2413080"/>
            <a:ext cx="291960" cy="321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4915080" y="2844720"/>
            <a:ext cx="1485720" cy="482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6819840" y="2984400"/>
            <a:ext cx="1359000" cy="482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6769080" y="4483080"/>
            <a:ext cx="1359000" cy="482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4876920" y="4203720"/>
            <a:ext cx="1358640" cy="482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4826160" y="3276720"/>
            <a:ext cx="241200" cy="107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7988400" y="3429000"/>
            <a:ext cx="24120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5450040" y="3643200"/>
            <a:ext cx="4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7316640" y="374508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90" dur="indefinite" restart="never" nodeType="tmRoot">
          <p:childTnLst>
            <p:seq>
              <p:cTn id="1191" dur="indefinite" nodeType="mainSeq">
                <p:childTnLst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6" dur="20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00" dur="20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3" dur="5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4500"/>
                            </p:stCondLst>
                            <p:childTnLst>
                              <p:par>
                                <p:cTn id="1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20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6500"/>
                            </p:stCondLst>
                            <p:childTnLst>
                              <p:par>
                                <p:cTn id="121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12" dur="20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8500"/>
                            </p:stCondLst>
                            <p:childTnLst>
                              <p:par>
                                <p:cTn id="121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5" dur="5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fill="hold">
                            <p:stCondLst>
                              <p:cond delay="9000"/>
                            </p:stCondLst>
                            <p:childTnLst>
                              <p:par>
                                <p:cTn id="12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0" dur="2000"/>
                                        <p:tgtEl>
                                          <p:spTgt spid="1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quidistant from 2 Po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255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eck that any point on the line is the same distance from A as it is from 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2" name=""/>
          <p:cNvSpPr/>
          <p:nvPr/>
        </p:nvSpPr>
        <p:spPr>
          <a:xfrm>
            <a:off x="5740560" y="37339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7289640" y="3873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5740560" y="37339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7289640" y="3873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 flipH="1">
            <a:off x="6387840" y="2413080"/>
            <a:ext cx="291960" cy="321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6575400" y="30909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 flipV="1">
            <a:off x="5805360" y="3134880"/>
            <a:ext cx="812880" cy="6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6603840" y="3121200"/>
            <a:ext cx="725760" cy="798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5605560" y="3164040"/>
            <a:ext cx="86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6894360" y="3263760"/>
            <a:ext cx="8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5450040" y="3643200"/>
            <a:ext cx="4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7316640" y="374508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21" dur="indefinite" restart="never" nodeType="tmRoot">
          <p:childTnLst>
            <p:seq>
              <p:cTn id="1222" dur="indefinite" nodeType="mainSeq">
                <p:childTnLst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7" dur="20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1" dur="5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5" dur="2000"/>
                                        <p:tgtEl>
                                          <p:spTgt spid="1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4500"/>
                            </p:stCondLst>
                            <p:childTnLst>
                              <p:par>
                                <p:cTn id="1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9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quidistant from 2 Po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255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gratulations that is the Locus of Points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quidistant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oints A and 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6" name="">
            <a:hlinkClick r:id="rId1" action="ppaction://hlinksldjump"/>
          </p:cNvPr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>
            <a:hlinkClick r:id="rId2" action="ppaction://hlinksldjump"/>
          </p:cNvPr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5740560" y="37339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7289640" y="3873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5740560" y="37339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7289640" y="3873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 flipH="1">
            <a:off x="6387840" y="2413080"/>
            <a:ext cx="291960" cy="321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5450040" y="3643200"/>
            <a:ext cx="4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7316640" y="374508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659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ruc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se are drawings done using a compass and a ruler and not measuring distances if possib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nsform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se are operations done to a shape to move it and shift it around the page without changing the shap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c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s a series of points, a line or a shape that fits a certain set of rules (ie is always 2cm from a poin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7" name=""/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6154560" y="551484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40" dur="indefinite" restart="never" nodeType="tmRoot">
          <p:childTnLst>
            <p:seq>
              <p:cTn id="1241" dur="indefinite" nodeType="mainSeq">
                <p:childTnLst>
                  <p:par>
                    <p:cTn id="1242" fill="hold">
                      <p:stCondLst>
                        <p:cond delay="0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6" dur="1000" fill="hold"/>
                                        <p:tgtEl>
                                          <p:spTgt spid="1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7" dur="1000" fill="hold"/>
                                        <p:tgtEl>
                                          <p:spTgt spid="1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1000" fill="hold"/>
                                        <p:tgtEl>
                                          <p:spTgt spid="1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1000" fill="hold"/>
                                        <p:tgtEl>
                                          <p:spTgt spid="1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6" dur="50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7000"/>
                            </p:stCondLst>
                            <p:childTnLst>
                              <p:par>
                                <p:cTn id="12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0" dur="1000" fill="hold"/>
                                        <p:tgtEl>
                                          <p:spTgt spid="1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1" dur="1000" fill="hold"/>
                                        <p:tgtEl>
                                          <p:spTgt spid="1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fill="hold">
                            <p:stCondLst>
                              <p:cond delay="8000"/>
                            </p:stCondLst>
                            <p:childTnLst>
                              <p:par>
                                <p:cTn id="12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1000" fill="hold"/>
                                        <p:tgtEl>
                                          <p:spTgt spid="17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1000" fill="hold"/>
                                        <p:tgtEl>
                                          <p:spTgt spid="17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9000"/>
                            </p:stCondLst>
                            <p:childTnLst>
                              <p:par>
                                <p:cTn id="126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0" dur="50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4" dur="1000" fill="hold"/>
                                        <p:tgtEl>
                                          <p:spTgt spid="1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5" dur="1000" fill="hold"/>
                                        <p:tgtEl>
                                          <p:spTgt spid="1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1000" fill="hold"/>
                                        <p:tgtEl>
                                          <p:spTgt spid="17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1000" fill="hold"/>
                                        <p:tgtEl>
                                          <p:spTgt spid="17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hap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0" name=""/>
          <p:cNvSpPr/>
          <p:nvPr/>
        </p:nvSpPr>
        <p:spPr>
          <a:xfrm>
            <a:off x="37306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6154560" y="551484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2957400" y="2184480"/>
            <a:ext cx="2306880" cy="637920"/>
          </a:xfrm>
          <a:custGeom>
            <a:avLst/>
            <a:gdLst>
              <a:gd name="textAreaLeft" fmla="*/ 41040 w 2306880"/>
              <a:gd name="textAreaRight" fmla="*/ 2265840 w 2306880"/>
              <a:gd name="textAreaTop" fmla="*/ 41040 h 637920"/>
              <a:gd name="textAreaBottom" fmla="*/ 596880 h 637920"/>
            </a:gdLst>
            <a:ahLst/>
            <a:rect l="textAreaLeft" t="textAreaTop" r="textAreaRight" b="textAreaBottom"/>
            <a:pathLst>
              <a:path w="78079" h="21600">
                <a:moveTo>
                  <a:pt x="0" y="0"/>
                </a:moveTo>
                <a:lnTo>
                  <a:pt x="78079" y="0"/>
                </a:lnTo>
                <a:lnTo>
                  <a:pt x="78079" y="21600"/>
                </a:lnTo>
                <a:lnTo>
                  <a:pt x="0" y="21600"/>
                </a:lnTo>
                <a:close/>
              </a:path>
              <a:path fill="lightenLess" w="78079" h="21600">
                <a:moveTo>
                  <a:pt x="0" y="0"/>
                </a:moveTo>
                <a:lnTo>
                  <a:pt x="78079" y="0"/>
                </a:lnTo>
                <a:lnTo>
                  <a:pt x="76679" y="1400"/>
                </a:lnTo>
                <a:lnTo>
                  <a:pt x="1400" y="1400"/>
                </a:lnTo>
                <a:close/>
              </a:path>
              <a:path fill="darken" w="78079" h="21600">
                <a:moveTo>
                  <a:pt x="78079" y="0"/>
                </a:moveTo>
                <a:lnTo>
                  <a:pt x="78079" y="21600"/>
                </a:lnTo>
                <a:lnTo>
                  <a:pt x="76679" y="20200"/>
                </a:lnTo>
                <a:lnTo>
                  <a:pt x="76679" y="1400"/>
                </a:lnTo>
                <a:close/>
              </a:path>
              <a:path fill="darkenLess" w="78079" h="21600">
                <a:moveTo>
                  <a:pt x="780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79" y="20200"/>
                </a:lnTo>
                <a:close/>
              </a:path>
              <a:path fill="lighten" w="780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2943360" y="217008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Equilateral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2959200" y="2911320"/>
            <a:ext cx="2306520" cy="638280"/>
          </a:xfrm>
          <a:custGeom>
            <a:avLst/>
            <a:gdLst>
              <a:gd name="textAreaLeft" fmla="*/ 41040 w 2306520"/>
              <a:gd name="textAreaRight" fmla="*/ 2265480 w 230652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78023" h="21600">
                <a:moveTo>
                  <a:pt x="0" y="0"/>
                </a:moveTo>
                <a:lnTo>
                  <a:pt x="78023" y="0"/>
                </a:lnTo>
                <a:lnTo>
                  <a:pt x="78023" y="21600"/>
                </a:lnTo>
                <a:lnTo>
                  <a:pt x="0" y="21600"/>
                </a:lnTo>
                <a:close/>
              </a:path>
              <a:path fill="lightenLess" w="78023" h="21600">
                <a:moveTo>
                  <a:pt x="0" y="0"/>
                </a:moveTo>
                <a:lnTo>
                  <a:pt x="78023" y="0"/>
                </a:lnTo>
                <a:lnTo>
                  <a:pt x="76623" y="1400"/>
                </a:lnTo>
                <a:lnTo>
                  <a:pt x="1400" y="1400"/>
                </a:lnTo>
                <a:close/>
              </a:path>
              <a:path fill="darken" w="78023" h="21600">
                <a:moveTo>
                  <a:pt x="78023" y="0"/>
                </a:moveTo>
                <a:lnTo>
                  <a:pt x="78023" y="21600"/>
                </a:lnTo>
                <a:lnTo>
                  <a:pt x="76623" y="20200"/>
                </a:lnTo>
                <a:lnTo>
                  <a:pt x="76623" y="1400"/>
                </a:lnTo>
                <a:close/>
              </a:path>
              <a:path fill="darkenLess" w="78023" h="21600">
                <a:moveTo>
                  <a:pt x="780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23" y="20200"/>
                </a:lnTo>
                <a:close/>
              </a:path>
              <a:path fill="lighten" w="780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2959200" y="291132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Iso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2957400" y="3666960"/>
            <a:ext cx="2306880" cy="638280"/>
          </a:xfrm>
          <a:custGeom>
            <a:avLst/>
            <a:gdLst>
              <a:gd name="textAreaLeft" fmla="*/ 41040 w 2306880"/>
              <a:gd name="textAreaRight" fmla="*/ 2265840 w 230688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78035" h="21600">
                <a:moveTo>
                  <a:pt x="0" y="0"/>
                </a:moveTo>
                <a:lnTo>
                  <a:pt x="78035" y="0"/>
                </a:lnTo>
                <a:lnTo>
                  <a:pt x="78035" y="21600"/>
                </a:lnTo>
                <a:lnTo>
                  <a:pt x="0" y="21600"/>
                </a:lnTo>
                <a:close/>
              </a:path>
              <a:path fill="lightenLess" w="78035" h="21600">
                <a:moveTo>
                  <a:pt x="0" y="0"/>
                </a:moveTo>
                <a:lnTo>
                  <a:pt x="78035" y="0"/>
                </a:lnTo>
                <a:lnTo>
                  <a:pt x="76635" y="1400"/>
                </a:lnTo>
                <a:lnTo>
                  <a:pt x="1400" y="1400"/>
                </a:lnTo>
                <a:close/>
              </a:path>
              <a:path fill="darken" w="78035" h="21600">
                <a:moveTo>
                  <a:pt x="78035" y="0"/>
                </a:moveTo>
                <a:lnTo>
                  <a:pt x="78035" y="21600"/>
                </a:lnTo>
                <a:lnTo>
                  <a:pt x="76635" y="20200"/>
                </a:lnTo>
                <a:lnTo>
                  <a:pt x="76635" y="1400"/>
                </a:lnTo>
                <a:close/>
              </a:path>
              <a:path fill="darkenLess" w="78035" h="21600">
                <a:moveTo>
                  <a:pt x="78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35" y="20200"/>
                </a:lnTo>
                <a:close/>
              </a:path>
              <a:path fill="lighten" w="78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2930400" y="366696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Scalene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2957400" y="4441680"/>
            <a:ext cx="2306880" cy="638280"/>
          </a:xfrm>
          <a:custGeom>
            <a:avLst/>
            <a:gdLst>
              <a:gd name="textAreaLeft" fmla="*/ 41040 w 2306880"/>
              <a:gd name="textAreaRight" fmla="*/ 2265840 w 230688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78035" h="21600">
                <a:moveTo>
                  <a:pt x="0" y="0"/>
                </a:moveTo>
                <a:lnTo>
                  <a:pt x="78035" y="0"/>
                </a:lnTo>
                <a:lnTo>
                  <a:pt x="78035" y="21600"/>
                </a:lnTo>
                <a:lnTo>
                  <a:pt x="0" y="21600"/>
                </a:lnTo>
                <a:close/>
              </a:path>
              <a:path fill="lightenLess" w="78035" h="21600">
                <a:moveTo>
                  <a:pt x="0" y="0"/>
                </a:moveTo>
                <a:lnTo>
                  <a:pt x="78035" y="0"/>
                </a:lnTo>
                <a:lnTo>
                  <a:pt x="76635" y="1400"/>
                </a:lnTo>
                <a:lnTo>
                  <a:pt x="1400" y="1400"/>
                </a:lnTo>
                <a:close/>
              </a:path>
              <a:path fill="darken" w="78035" h="21600">
                <a:moveTo>
                  <a:pt x="78035" y="0"/>
                </a:moveTo>
                <a:lnTo>
                  <a:pt x="78035" y="21600"/>
                </a:lnTo>
                <a:lnTo>
                  <a:pt x="76635" y="20200"/>
                </a:lnTo>
                <a:lnTo>
                  <a:pt x="76635" y="1400"/>
                </a:lnTo>
                <a:close/>
              </a:path>
              <a:path fill="darkenLess" w="78035" h="21600">
                <a:moveTo>
                  <a:pt x="78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35" y="20200"/>
                </a:lnTo>
                <a:close/>
              </a:path>
              <a:path fill="lighten" w="78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2943360" y="442764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quilateral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04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ruct an equilateral triangle with bas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2" name=""/>
          <p:cNvSpPr/>
          <p:nvPr/>
        </p:nvSpPr>
        <p:spPr>
          <a:xfrm flipH="1">
            <a:off x="5654160" y="4151160"/>
            <a:ext cx="962280" cy="9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>
            <a:off x="5438880" y="50529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6659640" y="38685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quilateral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compass point on A  draw an arc from B above the line, about ¼ of a circ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7" name=""/>
          <p:cNvSpPr/>
          <p:nvPr/>
        </p:nvSpPr>
        <p:spPr>
          <a:xfrm>
            <a:off x="5210280" y="4484520"/>
            <a:ext cx="2293920" cy="12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4308480" y="3732120"/>
            <a:ext cx="2698920" cy="2698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4151160" y="4470480"/>
            <a:ext cx="3468960" cy="2003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4325760" y="3860640"/>
            <a:ext cx="638280" cy="7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 flipH="1">
            <a:off x="5654160" y="4151160"/>
            <a:ext cx="962280" cy="9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5438880" y="50529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6659640" y="38685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4" name=""/>
          <p:cNvGrpSpPr/>
          <p:nvPr/>
        </p:nvGrpSpPr>
        <p:grpSpPr>
          <a:xfrm>
            <a:off x="5518080" y="4951440"/>
            <a:ext cx="287280" cy="288720"/>
            <a:chOff x="5518080" y="4951440"/>
            <a:chExt cx="287280" cy="288720"/>
          </a:xfrm>
        </p:grpSpPr>
        <p:sp>
          <p:nvSpPr>
            <p:cNvPr id="1765" name=""/>
            <p:cNvSpPr/>
            <p:nvPr/>
          </p:nvSpPr>
          <p:spPr>
            <a:xfrm>
              <a:off x="5662440" y="495144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5518080" y="50958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7" name=""/>
          <p:cNvSpPr/>
          <p:nvPr/>
        </p:nvSpPr>
        <p:spPr>
          <a:xfrm>
            <a:off x="4307040" y="3730680"/>
            <a:ext cx="2698560" cy="269856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81" dur="indefinite" restart="never" nodeType="tmRoot">
          <p:childTnLst>
            <p:seq>
              <p:cTn id="1282" dur="indefinite" nodeType="mainSeq">
                <p:childTnLst>
                  <p:par>
                    <p:cTn id="1283" fill="hold">
                      <p:stCondLst>
                        <p:cond delay="0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7" dur="500"/>
                                        <p:tgtEl>
                                          <p:spTgt spid="1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500"/>
                            </p:stCondLst>
                            <p:childTnLst>
                              <p:par>
                                <p:cTn id="12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1" dur="500"/>
                                        <p:tgtEl>
                                          <p:spTgt spid="1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6" dur="2000"/>
                                        <p:tgtEl>
                                          <p:spTgt spid="1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00" dur="2000"/>
                                        <p:tgtEl>
                                          <p:spTgt spid="1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1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03" dur="2000"/>
                                        <p:tgtEl>
                                          <p:spTgt spid="1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6" dur="1000"/>
                                        <p:tgtEl>
                                          <p:spTgt spid="17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9" dur="1000"/>
                                        <p:tgtEl>
                                          <p:spTgt spid="17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Line Through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572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goal of this construction is to create a line through point A that is perpendicular to the line give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280120" y="307188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"/>
          <p:cNvSpPr/>
          <p:nvPr/>
        </p:nvSpPr>
        <p:spPr>
          <a:xfrm>
            <a:off x="5264280" y="2787480"/>
            <a:ext cx="2698560" cy="2698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quilateral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compass point on B  draw an arc from A above the line,  It must cross the first ar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1" name=""/>
          <p:cNvSpPr/>
          <p:nvPr/>
        </p:nvSpPr>
        <p:spPr>
          <a:xfrm>
            <a:off x="5210280" y="4484520"/>
            <a:ext cx="2293920" cy="12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4308480" y="3732120"/>
            <a:ext cx="2698920" cy="269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4151160" y="4470480"/>
            <a:ext cx="3468960" cy="2003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4325760" y="3860640"/>
            <a:ext cx="638280" cy="7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 flipH="1">
            <a:off x="5654160" y="4151160"/>
            <a:ext cx="962280" cy="9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5438880" y="50529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6659640" y="38685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8" name=""/>
          <p:cNvGrpSpPr/>
          <p:nvPr/>
        </p:nvGrpSpPr>
        <p:grpSpPr>
          <a:xfrm>
            <a:off x="6491160" y="4008600"/>
            <a:ext cx="287280" cy="288720"/>
            <a:chOff x="6491160" y="4008600"/>
            <a:chExt cx="287280" cy="288720"/>
          </a:xfrm>
        </p:grpSpPr>
        <p:sp>
          <p:nvSpPr>
            <p:cNvPr id="1779" name=""/>
            <p:cNvSpPr/>
            <p:nvPr/>
          </p:nvSpPr>
          <p:spPr>
            <a:xfrm>
              <a:off x="6635520" y="400860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6491160" y="415296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1" name=""/>
          <p:cNvSpPr/>
          <p:nvPr/>
        </p:nvSpPr>
        <p:spPr>
          <a:xfrm>
            <a:off x="5486400" y="2598840"/>
            <a:ext cx="2859120" cy="100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7343640" y="3513240"/>
            <a:ext cx="741600" cy="220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5276880" y="2786040"/>
            <a:ext cx="2698560" cy="269892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11" dur="indefinite" restart="never" nodeType="tmRoot">
          <p:childTnLst>
            <p:seq>
              <p:cTn id="1312" dur="indefinite" nodeType="mainSeq">
                <p:childTnLst>
                  <p:par>
                    <p:cTn id="1313" fill="hold">
                      <p:stCondLst>
                        <p:cond delay="0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7" dur="500"/>
                                        <p:tgtEl>
                                          <p:spTgt spid="1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fill="hold">
                            <p:stCondLst>
                              <p:cond delay="500"/>
                            </p:stCondLst>
                            <p:childTnLst>
                              <p:par>
                                <p:cTn id="1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1" dur="500"/>
                                        <p:tgtEl>
                                          <p:spTgt spid="1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6" dur="20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30" dur="2000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33" dur="2000"/>
                                        <p:tgtEl>
                                          <p:spTgt spid="1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4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6" dur="1000"/>
                                        <p:tgtEl>
                                          <p:spTgt spid="17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9" dur="20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"/>
          <p:cNvSpPr/>
          <p:nvPr/>
        </p:nvSpPr>
        <p:spPr>
          <a:xfrm>
            <a:off x="5264280" y="2787480"/>
            <a:ext cx="2698560" cy="269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quilateral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ule a line from A to the intersection of the arcs then from B to the intersection of the arc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7" name=""/>
          <p:cNvSpPr/>
          <p:nvPr/>
        </p:nvSpPr>
        <p:spPr>
          <a:xfrm>
            <a:off x="5210280" y="4484520"/>
            <a:ext cx="2293920" cy="12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4308480" y="3732120"/>
            <a:ext cx="2698920" cy="269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4151160" y="4470480"/>
            <a:ext cx="3468960" cy="2003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4325760" y="3860640"/>
            <a:ext cx="638280" cy="7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 flipH="1">
            <a:off x="5654160" y="4151160"/>
            <a:ext cx="962280" cy="9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5438880" y="50529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6659640" y="38685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5486400" y="2598840"/>
            <a:ext cx="2859120" cy="100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7343640" y="3513240"/>
            <a:ext cx="741600" cy="220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 flipH="1" flipV="1">
            <a:off x="5324400" y="3778200"/>
            <a:ext cx="309600" cy="13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>
            <a:off x="5311800" y="3765600"/>
            <a:ext cx="1317600" cy="38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41" dur="indefinite" restart="never" nodeType="tmRoot">
          <p:childTnLst>
            <p:seq>
              <p:cTn id="1342" dur="indefinite" nodeType="mainSeq">
                <p:childTnLst>
                  <p:par>
                    <p:cTn id="1343" fill="hold">
                      <p:stCondLst>
                        <p:cond delay="0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7" dur="500"/>
                                        <p:tgtEl>
                                          <p:spTgt spid="1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8" fill="hold">
                            <p:stCondLst>
                              <p:cond delay="500"/>
                            </p:stCondLst>
                            <p:childTnLst>
                              <p:par>
                                <p:cTn id="13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1" dur="500"/>
                                        <p:tgtEl>
                                          <p:spTgt spid="1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6" dur="2000"/>
                                        <p:tgtEl>
                                          <p:spTgt spid="1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0" dur="2000"/>
                                        <p:tgtEl>
                                          <p:spTgt spid="1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"/>
          <p:cNvSpPr/>
          <p:nvPr/>
        </p:nvSpPr>
        <p:spPr>
          <a:xfrm>
            <a:off x="5264280" y="2787480"/>
            <a:ext cx="2698560" cy="269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quilateral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ongratul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at is an equilateral triang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1" name=""/>
          <p:cNvSpPr/>
          <p:nvPr/>
        </p:nvSpPr>
        <p:spPr>
          <a:xfrm>
            <a:off x="5210280" y="4484520"/>
            <a:ext cx="2293920" cy="12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4308480" y="3732120"/>
            <a:ext cx="2698920" cy="269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>
            <a:off x="4151160" y="4470480"/>
            <a:ext cx="3468960" cy="2003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4325760" y="3860640"/>
            <a:ext cx="638280" cy="7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 flipH="1">
            <a:off x="5654160" y="4151160"/>
            <a:ext cx="962280" cy="94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5438880" y="50529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6659640" y="38685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5486400" y="2598840"/>
            <a:ext cx="2859120" cy="100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7343640" y="3513240"/>
            <a:ext cx="741600" cy="220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 flipH="1" flipV="1">
            <a:off x="5324400" y="3778200"/>
            <a:ext cx="309600" cy="13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5311800" y="3765600"/>
            <a:ext cx="1317600" cy="38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oceles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04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ruct an isoceles triangle with bas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B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d side length 5 c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6" name=""/>
          <p:cNvSpPr/>
          <p:nvPr/>
        </p:nvSpPr>
        <p:spPr>
          <a:xfrm flipH="1">
            <a:off x="5654160" y="4151160"/>
            <a:ext cx="962280" cy="9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5438880" y="50529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6659640" y="38685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oceles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04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tep 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t your compass to 5 c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1" name=""/>
          <p:cNvSpPr/>
          <p:nvPr/>
        </p:nvSpPr>
        <p:spPr>
          <a:xfrm flipH="1">
            <a:off x="5654160" y="4151160"/>
            <a:ext cx="962280" cy="9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5438880" y="50529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6659640" y="38685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oceles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04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tep 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the point on A and draw an arc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6" name=""/>
          <p:cNvSpPr/>
          <p:nvPr/>
        </p:nvSpPr>
        <p:spPr>
          <a:xfrm flipH="1">
            <a:off x="5654160" y="4151160"/>
            <a:ext cx="962280" cy="9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5438880" y="50529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6659640" y="38685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3848040" y="3287880"/>
            <a:ext cx="3598920" cy="3598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0" name=""/>
          <p:cNvGrpSpPr/>
          <p:nvPr/>
        </p:nvGrpSpPr>
        <p:grpSpPr>
          <a:xfrm>
            <a:off x="5491080" y="4965840"/>
            <a:ext cx="287280" cy="288720"/>
            <a:chOff x="5491080" y="4965840"/>
            <a:chExt cx="287280" cy="288720"/>
          </a:xfrm>
        </p:grpSpPr>
        <p:sp>
          <p:nvSpPr>
            <p:cNvPr id="1831" name=""/>
            <p:cNvSpPr/>
            <p:nvPr/>
          </p:nvSpPr>
          <p:spPr>
            <a:xfrm>
              <a:off x="5635440" y="496584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5491080" y="51102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3" name=""/>
          <p:cNvSpPr/>
          <p:nvPr/>
        </p:nvSpPr>
        <p:spPr>
          <a:xfrm>
            <a:off x="3584520" y="4049640"/>
            <a:ext cx="1843200" cy="28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5079960" y="5545080"/>
            <a:ext cx="2467080" cy="13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7039080" y="3716280"/>
            <a:ext cx="420480" cy="1930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5573880" y="3192480"/>
            <a:ext cx="1596960" cy="7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3849840" y="3289320"/>
            <a:ext cx="3598560" cy="35989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61" dur="indefinite" restart="never" nodeType="tmRoot">
          <p:childTnLst>
            <p:seq>
              <p:cTn id="1362" dur="indefinite" nodeType="mainSeq">
                <p:childTnLst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7" dur="2000"/>
                                        <p:tgtEl>
                                          <p:spTgt spid="1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71" dur="3000"/>
                                        <p:tgtEl>
                                          <p:spTgt spid="1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74" dur="30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fill="hold">
                            <p:stCondLst>
                              <p:cond delay="5000"/>
                            </p:stCondLst>
                            <p:childTnLst>
                              <p:par>
                                <p:cTn id="13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7" dur="2000"/>
                                        <p:tgtEl>
                                          <p:spTgt spid="18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oceles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04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tep 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out changing the compass place the point on B and draw an arc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0" name=""/>
          <p:cNvSpPr/>
          <p:nvPr/>
        </p:nvSpPr>
        <p:spPr>
          <a:xfrm flipH="1">
            <a:off x="5654160" y="4151160"/>
            <a:ext cx="962280" cy="9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5438880" y="50529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3848040" y="3287880"/>
            <a:ext cx="3598920" cy="3598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3" name=""/>
          <p:cNvGrpSpPr/>
          <p:nvPr/>
        </p:nvGrpSpPr>
        <p:grpSpPr>
          <a:xfrm>
            <a:off x="6492960" y="3992400"/>
            <a:ext cx="287280" cy="288720"/>
            <a:chOff x="6492960" y="3992400"/>
            <a:chExt cx="287280" cy="288720"/>
          </a:xfrm>
        </p:grpSpPr>
        <p:sp>
          <p:nvSpPr>
            <p:cNvPr id="1844" name=""/>
            <p:cNvSpPr/>
            <p:nvPr/>
          </p:nvSpPr>
          <p:spPr>
            <a:xfrm>
              <a:off x="6637320" y="399240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6492960" y="413676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6" name=""/>
          <p:cNvSpPr/>
          <p:nvPr/>
        </p:nvSpPr>
        <p:spPr>
          <a:xfrm>
            <a:off x="5573880" y="3192480"/>
            <a:ext cx="1596960" cy="7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4835520" y="2332080"/>
            <a:ext cx="3598920" cy="3598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5138640" y="2278080"/>
            <a:ext cx="3149640" cy="90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6659640" y="38685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5079960" y="5545080"/>
            <a:ext cx="2467080" cy="13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7039080" y="3106800"/>
            <a:ext cx="1479600" cy="262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3584520" y="4049640"/>
            <a:ext cx="1944720" cy="28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4836960" y="2333520"/>
            <a:ext cx="3598920" cy="35989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79" dur="indefinite" restart="never" nodeType="tmRoot">
          <p:childTnLst>
            <p:seq>
              <p:cTn id="1380" dur="indefinite" nodeType="mainSeq">
                <p:childTnLst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5" dur="2000"/>
                                        <p:tgtEl>
                                          <p:spTgt spid="1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89" dur="3000"/>
                                        <p:tgtEl>
                                          <p:spTgt spid="1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92" dur="3000"/>
                                        <p:tgtEl>
                                          <p:spTgt spid="1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5" dur="2000"/>
                                        <p:tgtEl>
                                          <p:spTgt spid="18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oceles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5" name=""/>
          <p:cNvSpPr/>
          <p:nvPr/>
        </p:nvSpPr>
        <p:spPr>
          <a:xfrm flipH="1">
            <a:off x="5654160" y="4151160"/>
            <a:ext cx="962280" cy="9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5438880" y="50529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3848040" y="3287880"/>
            <a:ext cx="3598920" cy="3598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5573880" y="3192480"/>
            <a:ext cx="1596960" cy="7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4835520" y="2332080"/>
            <a:ext cx="3598920" cy="359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5138640" y="2278080"/>
            <a:ext cx="3149640" cy="90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6659640" y="38685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5079960" y="5545080"/>
            <a:ext cx="2467080" cy="13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7039080" y="3106800"/>
            <a:ext cx="1479600" cy="262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3584520" y="4049640"/>
            <a:ext cx="1944720" cy="28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4992840" y="3411360"/>
            <a:ext cx="652320" cy="168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4978440" y="3411360"/>
            <a:ext cx="1625400" cy="75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04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tep 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ule a line from A to the intersection of the arcs then from B to the intersection of the arc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fade/>
  </p:transition>
  <p:timing>
    <p:tnLst>
      <p:par>
        <p:cTn id="1397" dur="indefinite" restart="never" nodeType="tmRoot">
          <p:childTnLst>
            <p:seq>
              <p:cTn id="1398" dur="indefinite" nodeType="mainSeq">
                <p:childTnLst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3" dur="2000"/>
                                        <p:tgtEl>
                                          <p:spTgt spid="1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7" dur="2000"/>
                                        <p:tgtEl>
                                          <p:spTgt spid="1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oceles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9" name=""/>
          <p:cNvSpPr/>
          <p:nvPr/>
        </p:nvSpPr>
        <p:spPr>
          <a:xfrm flipH="1">
            <a:off x="5654160" y="4151160"/>
            <a:ext cx="962280" cy="94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5438880" y="50529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3848040" y="3287880"/>
            <a:ext cx="3598920" cy="3598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>
            <a:off x="5573880" y="3192480"/>
            <a:ext cx="1596960" cy="7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4835520" y="2332080"/>
            <a:ext cx="3598920" cy="359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5138640" y="2278080"/>
            <a:ext cx="3149640" cy="90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6659640" y="38685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5079960" y="5545080"/>
            <a:ext cx="2467080" cy="13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7039080" y="3106800"/>
            <a:ext cx="1479600" cy="262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3584520" y="4049640"/>
            <a:ext cx="1944720" cy="28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>
            <a:off x="4992840" y="3411360"/>
            <a:ext cx="652320" cy="168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>
            <a:off x="4978440" y="3411360"/>
            <a:ext cx="1625400" cy="754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172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Congratulati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is an Isoceles Triang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2" name=""/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"/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calene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172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blem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struct a triangle with sides 3 cm, 4 cm and 5 c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7T20:42:33Z</dcterms:created>
  <dc:creator>sykesr</dc:creator>
  <dc:description/>
  <dc:language>en-US</dc:language>
  <cp:lastModifiedBy>Ministry of Education</cp:lastModifiedBy>
  <dcterms:modified xsi:type="dcterms:W3CDTF">2008-08-05T02:57:43Z</dcterms:modified>
  <cp:revision>24</cp:revision>
  <dc:subject/>
  <dc:title>1.3 Construction Drawing</dc:title>
</cp:coreProperties>
</file>