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10A-20AB-40EE-BE78-0C0676BB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215-E654-484A-A628-98EAF6CE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632-00EF-4B07-AACC-F7D67741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565-46A6-42B5-9E2B-1E3EBFE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11B-0F89-48AB-BC35-57BA6184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81E0-C125-4458-A048-1E31D703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BE70-8CC8-4613-8499-F83AECCD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979-B29B-491C-ACAB-3929BE63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4D1-F849-4A6C-99AD-854000B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453E-7B07-4651-BB64-E0622D4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51F4-6F79-49FF-BBA0-4EAC08D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975-9B9A-492D-8276-18E06CE4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7CE8-B149-4CC7-BD90-2A9696B5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3197-82DB-4D22-9EEF-77C00F8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61B6-01F1-45D8-AC66-334DE0DA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0F0B-C3AF-4D6A-9174-9A330A29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A48F-2239-4CB2-9D51-C206BF8D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F45-E19D-4B49-8607-1FF0A910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F2B-EA82-4FC0-82BB-A39DFEB6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B91-858D-48EE-8901-1B7D2A73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D51-28A6-41E2-B5A6-5FBA5FD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A5D-E21B-4871-AEBF-A2A432F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CFF-1751-4A38-BCAE-FBEFE93B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3B6-BE08-4F00-BE44-8890F1D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E2D1-CA4A-47C3-B191-D52649E14541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D85-8829-4EB4-9870-3B71AC2BBF5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38.xml"/><Relationship Id="rId10" Type="http://schemas.openxmlformats.org/officeDocument/2006/relationships/slide" Target="slide38.xml"/><Relationship Id="rId11" Type="http://schemas.openxmlformats.org/officeDocument/2006/relationships/slide" Target="slide56.xml"/><Relationship Id="rId12" Type="http://schemas.openxmlformats.org/officeDocument/2006/relationships/slide" Target="slide56.xml"/><Relationship Id="rId13" Type="http://schemas.openxmlformats.org/officeDocument/2006/relationships/slide" Target="slide63.xml"/><Relationship Id="rId14" Type="http://schemas.openxmlformats.org/officeDocument/2006/relationships/slide" Target="slide6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82.xml"/><Relationship Id="rId1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1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09760" y="2379600"/>
            <a:ext cx="632448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.3 Construction Draw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5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a line and measure 5 cm alo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5342040" y="4805280"/>
            <a:ext cx="360360" cy="1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0060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05808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42924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786720" y="4807080"/>
            <a:ext cx="360360" cy="1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5342040" y="4976280"/>
            <a:ext cx="25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51520" y="4630680"/>
            <a:ext cx="2408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3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60960" y="3884760"/>
            <a:ext cx="2158920" cy="215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3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5192640" y="4835520"/>
            <a:ext cx="287280" cy="288720"/>
            <a:chOff x="5192640" y="4835520"/>
            <a:chExt cx="287280" cy="288720"/>
          </a:xfrm>
        </p:grpSpPr>
        <p:sp>
          <p:nvSpPr>
            <p:cNvPr id="1905" name=""/>
            <p:cNvSpPr/>
            <p:nvPr/>
          </p:nvSpPr>
          <p:spPr>
            <a:xfrm>
              <a:off x="533700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19264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2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5" dur="2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8" dur="2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compass to 4cm and draw an arc above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6991200" y="4835520"/>
            <a:ext cx="287280" cy="288720"/>
            <a:chOff x="6991200" y="4835520"/>
            <a:chExt cx="287280" cy="288720"/>
          </a:xfrm>
        </p:grpSpPr>
        <p:sp>
          <p:nvSpPr>
            <p:cNvPr id="1913" name=""/>
            <p:cNvSpPr/>
            <p:nvPr/>
          </p:nvSpPr>
          <p:spPr>
            <a:xfrm>
              <a:off x="7135560" y="48355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91200" y="49798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5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684760" y="3543480"/>
            <a:ext cx="2879640" cy="287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1" dur="3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4" dur="3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2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the 2 end points to the intersection of the ar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2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4259160" y="3882960"/>
            <a:ext cx="2159280" cy="21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224240" y="3643200"/>
            <a:ext cx="9302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079960" y="3801960"/>
            <a:ext cx="44928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scalene (3,4,5) triang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5683320" y="3541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021280" y="4630680"/>
            <a:ext cx="1452600" cy="15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340240" y="4975200"/>
            <a:ext cx="180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979960" y="5791320"/>
            <a:ext cx="25257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561440" y="3556080"/>
            <a:ext cx="103176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6440" y="3454560"/>
            <a:ext cx="137772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326200" y="4092120"/>
            <a:ext cx="653760" cy="88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5994360" y="4106520"/>
            <a:ext cx="1146240" cy="8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01200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1512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659640" y="119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64000" y="1916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364000" y="2349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5364000" y="278136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5364000" y="314172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364000" y="386064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364000" y="3500280"/>
            <a:ext cx="172908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otation should look something like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198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602604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081840" y="1930320"/>
            <a:ext cx="2728800" cy="885960"/>
          </a:xfrm>
          <a:custGeom>
            <a:avLst/>
            <a:gdLst/>
            <a:ahLst/>
            <a:rect l="l" t="t" r="r" b="b"/>
            <a:pathLst>
              <a:path w="1719" h="558">
                <a:moveTo>
                  <a:pt x="0" y="0"/>
                </a:moveTo>
                <a:cubicBezTo>
                  <a:pt x="357" y="5"/>
                  <a:pt x="527" y="5"/>
                  <a:pt x="832" y="37"/>
                </a:cubicBezTo>
                <a:cubicBezTo>
                  <a:pt x="928" y="47"/>
                  <a:pt x="1011" y="81"/>
                  <a:pt x="1097" y="119"/>
                </a:cubicBezTo>
                <a:cubicBezTo>
                  <a:pt x="1123" y="131"/>
                  <a:pt x="1152" y="137"/>
                  <a:pt x="1179" y="146"/>
                </a:cubicBezTo>
                <a:cubicBezTo>
                  <a:pt x="1188" y="149"/>
                  <a:pt x="1207" y="155"/>
                  <a:pt x="1207" y="155"/>
                </a:cubicBezTo>
                <a:cubicBezTo>
                  <a:pt x="1250" y="185"/>
                  <a:pt x="1223" y="170"/>
                  <a:pt x="1289" y="192"/>
                </a:cubicBezTo>
                <a:cubicBezTo>
                  <a:pt x="1298" y="195"/>
                  <a:pt x="1307" y="198"/>
                  <a:pt x="1316" y="201"/>
                </a:cubicBezTo>
                <a:cubicBezTo>
                  <a:pt x="1325" y="204"/>
                  <a:pt x="1344" y="210"/>
                  <a:pt x="1344" y="210"/>
                </a:cubicBezTo>
                <a:cubicBezTo>
                  <a:pt x="1389" y="257"/>
                  <a:pt x="1327" y="196"/>
                  <a:pt x="1399" y="247"/>
                </a:cubicBezTo>
                <a:cubicBezTo>
                  <a:pt x="1409" y="254"/>
                  <a:pt x="1416" y="266"/>
                  <a:pt x="1426" y="274"/>
                </a:cubicBezTo>
                <a:cubicBezTo>
                  <a:pt x="1476" y="316"/>
                  <a:pt x="1432" y="275"/>
                  <a:pt x="1481" y="302"/>
                </a:cubicBezTo>
                <a:cubicBezTo>
                  <a:pt x="1518" y="322"/>
                  <a:pt x="1543" y="354"/>
                  <a:pt x="1582" y="366"/>
                </a:cubicBezTo>
                <a:cubicBezTo>
                  <a:pt x="1588" y="375"/>
                  <a:pt x="1592" y="386"/>
                  <a:pt x="1600" y="393"/>
                </a:cubicBezTo>
                <a:cubicBezTo>
                  <a:pt x="1607" y="399"/>
                  <a:pt x="1620" y="395"/>
                  <a:pt x="1627" y="402"/>
                </a:cubicBezTo>
                <a:cubicBezTo>
                  <a:pt x="1643" y="418"/>
                  <a:pt x="1652" y="439"/>
                  <a:pt x="1664" y="457"/>
                </a:cubicBezTo>
                <a:cubicBezTo>
                  <a:pt x="1684" y="488"/>
                  <a:pt x="1719" y="520"/>
                  <a:pt x="1719" y="55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053040" y="2960640"/>
            <a:ext cx="841320" cy="871560"/>
          </a:xfrm>
          <a:custGeom>
            <a:avLst/>
            <a:gdLst/>
            <a:ahLst/>
            <a:rect l="l" t="t" r="r" b="b"/>
            <a:pathLst>
              <a:path w="530" h="549">
                <a:moveTo>
                  <a:pt x="0" y="549"/>
                </a:moveTo>
                <a:cubicBezTo>
                  <a:pt x="8" y="433"/>
                  <a:pt x="8" y="393"/>
                  <a:pt x="54" y="302"/>
                </a:cubicBezTo>
                <a:cubicBezTo>
                  <a:pt x="76" y="260"/>
                  <a:pt x="82" y="226"/>
                  <a:pt x="128" y="210"/>
                </a:cubicBezTo>
                <a:cubicBezTo>
                  <a:pt x="161" y="161"/>
                  <a:pt x="217" y="150"/>
                  <a:pt x="256" y="110"/>
                </a:cubicBezTo>
                <a:cubicBezTo>
                  <a:pt x="318" y="45"/>
                  <a:pt x="439" y="0"/>
                  <a:pt x="53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676920" y="3513240"/>
            <a:ext cx="246240" cy="318960"/>
          </a:xfrm>
          <a:custGeom>
            <a:avLst/>
            <a:gdLst/>
            <a:ahLst/>
            <a:rect l="l" t="t" r="r" b="b"/>
            <a:pathLst>
              <a:path w="155" h="201">
                <a:moveTo>
                  <a:pt x="0" y="201"/>
                </a:moveTo>
                <a:cubicBezTo>
                  <a:pt x="3" y="167"/>
                  <a:pt x="2" y="133"/>
                  <a:pt x="9" y="100"/>
                </a:cubicBezTo>
                <a:cubicBezTo>
                  <a:pt x="15" y="74"/>
                  <a:pt x="38" y="69"/>
                  <a:pt x="55" y="54"/>
                </a:cubicBezTo>
                <a:cubicBezTo>
                  <a:pt x="65" y="46"/>
                  <a:pt x="71" y="33"/>
                  <a:pt x="82" y="27"/>
                </a:cubicBezTo>
                <a:cubicBezTo>
                  <a:pt x="105" y="15"/>
                  <a:pt x="132" y="12"/>
                  <a:pt x="15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8280" y="342576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ow label the co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99" dur="2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2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3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8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 a rotation of triangle ABC 90° around 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994360" y="1930320"/>
            <a:ext cx="1988640" cy="3903840"/>
            <a:chOff x="5994360" y="1930320"/>
            <a:chExt cx="1988640" cy="3903840"/>
          </a:xfrm>
        </p:grpSpPr>
        <p:sp>
          <p:nvSpPr>
            <p:cNvPr id="2006" name=""/>
            <p:cNvSpPr/>
            <p:nvPr/>
          </p:nvSpPr>
          <p:spPr>
            <a:xfrm>
              <a:off x="6012360" y="1936800"/>
              <a:ext cx="650880" cy="19368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994360" y="1930320"/>
              <a:ext cx="198864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"/>
          <p:cNvSpPr/>
          <p:nvPr/>
        </p:nvSpPr>
        <p:spPr>
          <a:xfrm rot="5400000">
            <a:off x="7634160" y="225252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674200" y="29192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740640" y="2611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856560" y="3468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A and draw an arc that crosses the line in 2 pl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549760" y="3198960"/>
            <a:ext cx="287280" cy="288720"/>
            <a:chOff x="5549760" y="3198960"/>
            <a:chExt cx="287280" cy="288720"/>
          </a:xfrm>
        </p:grpSpPr>
        <p:sp>
          <p:nvSpPr>
            <p:cNvPr id="403" name=""/>
            <p:cNvSpPr/>
            <p:nvPr/>
          </p:nvSpPr>
          <p:spPr>
            <a:xfrm>
              <a:off x="5694120" y="31989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49760" y="33433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2320" y="1812960"/>
            <a:ext cx="3059280" cy="305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7688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7680" y="186696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21280" y="2541600"/>
            <a:ext cx="771480" cy="20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8560" y="2662200"/>
            <a:ext cx="177516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9400" y="1604880"/>
            <a:ext cx="3852720" cy="15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2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045200" y="3517920"/>
            <a:ext cx="287280" cy="288720"/>
            <a:chOff x="7045200" y="3517920"/>
            <a:chExt cx="287280" cy="288720"/>
          </a:xfrm>
        </p:grpSpPr>
        <p:sp>
          <p:nvSpPr>
            <p:cNvPr id="481" name=""/>
            <p:cNvSpPr/>
            <p:nvPr/>
          </p:nvSpPr>
          <p:spPr>
            <a:xfrm>
              <a:off x="7189560" y="35179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45200" y="36622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65920" y="2436840"/>
            <a:ext cx="2448000" cy="2448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point on 1 and draw an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992840" y="3541680"/>
            <a:ext cx="219384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50160" y="2509920"/>
            <a:ext cx="6238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21280" y="2714760"/>
            <a:ext cx="77148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844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783400" y="4708440"/>
            <a:ext cx="287280" cy="288720"/>
            <a:chOff x="5783400" y="4708440"/>
            <a:chExt cx="287280" cy="288720"/>
          </a:xfrm>
        </p:grpSpPr>
        <p:sp>
          <p:nvSpPr>
            <p:cNvPr id="549" name=""/>
            <p:cNvSpPr/>
            <p:nvPr/>
          </p:nvSpPr>
          <p:spPr>
            <a:xfrm>
              <a:off x="5927760" y="4708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83400" y="4852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other arc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714920" y="3608280"/>
            <a:ext cx="2448000" cy="2448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169040" y="354168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78000" y="4816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Line Through Point 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165560" y="1814400"/>
            <a:ext cx="3059280" cy="305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02240" y="4035600"/>
            <a:ext cx="1043280" cy="1072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16360" y="359712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1560" y="30718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68560" y="2662200"/>
            <a:ext cx="1440000" cy="29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65920" y="2438280"/>
            <a:ext cx="244800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37560" y="2525760"/>
            <a:ext cx="826920" cy="26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9400" y="1604880"/>
            <a:ext cx="3852720" cy="12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4560" y="2714760"/>
            <a:ext cx="167184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81560" y="3071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21280" y="2641680"/>
            <a:ext cx="2773440" cy="290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1000" autoRev="1" fill="hold"/>
                                        <p:tgtEl>
                                          <p:spTgt spid="6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sect the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3332160" y="262260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3317760" y="26082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3335400" y="335772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4" action="ppaction://hlinksldjump"/>
          </p:cNvPr>
          <p:cNvSpPr/>
          <p:nvPr/>
        </p:nvSpPr>
        <p:spPr>
          <a:xfrm>
            <a:off x="3321000" y="332892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erp. Line through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3341520" y="5194440"/>
            <a:ext cx="2306880" cy="42372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117516" h="21600">
                <a:moveTo>
                  <a:pt x="0" y="0"/>
                </a:moveTo>
                <a:lnTo>
                  <a:pt x="117516" y="0"/>
                </a:lnTo>
                <a:lnTo>
                  <a:pt x="117516" y="21600"/>
                </a:lnTo>
                <a:lnTo>
                  <a:pt x="0" y="21600"/>
                </a:lnTo>
                <a:close/>
              </a:path>
              <a:path fill="lightenLess" w="117516" h="21600">
                <a:moveTo>
                  <a:pt x="0" y="0"/>
                </a:moveTo>
                <a:lnTo>
                  <a:pt x="117516" y="0"/>
                </a:lnTo>
                <a:lnTo>
                  <a:pt x="116117" y="1400"/>
                </a:lnTo>
                <a:lnTo>
                  <a:pt x="1400" y="1400"/>
                </a:lnTo>
                <a:close/>
              </a:path>
              <a:path fill="darken" w="117516" h="21600">
                <a:moveTo>
                  <a:pt x="117516" y="0"/>
                </a:moveTo>
                <a:lnTo>
                  <a:pt x="117516" y="21600"/>
                </a:lnTo>
                <a:lnTo>
                  <a:pt x="116117" y="20200"/>
                </a:lnTo>
                <a:lnTo>
                  <a:pt x="116117" y="1400"/>
                </a:lnTo>
                <a:close/>
              </a:path>
              <a:path fill="darkenLess" w="117516" h="21600">
                <a:moveTo>
                  <a:pt x="11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17" y="20200"/>
                </a:lnTo>
                <a:close/>
              </a:path>
              <a:path fill="lighten" w="11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3341520" y="521028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arall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7" action="ppaction://hlinksldjump"/>
          </p:cNvPr>
          <p:cNvSpPr/>
          <p:nvPr/>
        </p:nvSpPr>
        <p:spPr>
          <a:xfrm>
            <a:off x="3325680" y="4103640"/>
            <a:ext cx="2306880" cy="4240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117417" h="21600">
                <a:moveTo>
                  <a:pt x="0" y="0"/>
                </a:moveTo>
                <a:lnTo>
                  <a:pt x="117417" y="0"/>
                </a:lnTo>
                <a:lnTo>
                  <a:pt x="117417" y="21600"/>
                </a:lnTo>
                <a:lnTo>
                  <a:pt x="0" y="21600"/>
                </a:lnTo>
                <a:close/>
              </a:path>
              <a:path fill="lightenLess" w="117417" h="21600">
                <a:moveTo>
                  <a:pt x="0" y="0"/>
                </a:moveTo>
                <a:lnTo>
                  <a:pt x="117417" y="0"/>
                </a:lnTo>
                <a:lnTo>
                  <a:pt x="116017" y="1400"/>
                </a:lnTo>
                <a:lnTo>
                  <a:pt x="1400" y="1400"/>
                </a:lnTo>
                <a:close/>
              </a:path>
              <a:path fill="darken" w="117417" h="21600">
                <a:moveTo>
                  <a:pt x="117417" y="0"/>
                </a:moveTo>
                <a:lnTo>
                  <a:pt x="117417" y="21600"/>
                </a:lnTo>
                <a:lnTo>
                  <a:pt x="116017" y="20200"/>
                </a:lnTo>
                <a:lnTo>
                  <a:pt x="116017" y="1400"/>
                </a:lnTo>
                <a:close/>
              </a:path>
              <a:path fill="darkenLess" w="117417" h="21600">
                <a:moveTo>
                  <a:pt x="117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7" y="20200"/>
                </a:lnTo>
                <a:close/>
              </a:path>
              <a:path fill="lighten" w="117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3327480" y="40910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87680" y="224460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6320" y="224172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87400" y="26146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873000" y="26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8840" y="334152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88840" y="3341520"/>
            <a:ext cx="23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887400" y="409716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860400" y="40971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3" action="ppaction://hlinksldjump"/>
          </p:cNvPr>
          <p:cNvSpPr/>
          <p:nvPr/>
        </p:nvSpPr>
        <p:spPr>
          <a:xfrm>
            <a:off x="887400" y="487188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4" action="ppaction://hlinksldjump"/>
          </p:cNvPr>
          <p:cNvSpPr/>
          <p:nvPr/>
        </p:nvSpPr>
        <p:spPr>
          <a:xfrm>
            <a:off x="873000" y="48578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5" action="ppaction://hlinksldjump"/>
          </p:cNvPr>
          <p:cNvSpPr/>
          <p:nvPr/>
        </p:nvSpPr>
        <p:spPr>
          <a:xfrm>
            <a:off x="3328920" y="4643280"/>
            <a:ext cx="2306880" cy="422280"/>
          </a:xfrm>
          <a:custGeom>
            <a:avLst/>
            <a:gdLst>
              <a:gd name="textAreaLeft" fmla="*/ 27360 w 2306880"/>
              <a:gd name="textAreaRight" fmla="*/ 2279520 w 23068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117917" h="21600">
                <a:moveTo>
                  <a:pt x="0" y="0"/>
                </a:moveTo>
                <a:lnTo>
                  <a:pt x="117917" y="0"/>
                </a:lnTo>
                <a:lnTo>
                  <a:pt x="117917" y="21600"/>
                </a:lnTo>
                <a:lnTo>
                  <a:pt x="0" y="21600"/>
                </a:lnTo>
                <a:close/>
              </a:path>
              <a:path fill="lightenLess" w="117917" h="21600">
                <a:moveTo>
                  <a:pt x="0" y="0"/>
                </a:moveTo>
                <a:lnTo>
                  <a:pt x="117917" y="0"/>
                </a:lnTo>
                <a:lnTo>
                  <a:pt x="116517" y="1400"/>
                </a:lnTo>
                <a:lnTo>
                  <a:pt x="1400" y="1400"/>
                </a:lnTo>
                <a:close/>
              </a:path>
              <a:path fill="darken" w="117917" h="21600">
                <a:moveTo>
                  <a:pt x="117917" y="0"/>
                </a:moveTo>
                <a:lnTo>
                  <a:pt x="117917" y="21600"/>
                </a:lnTo>
                <a:lnTo>
                  <a:pt x="116517" y="20200"/>
                </a:lnTo>
                <a:lnTo>
                  <a:pt x="116517" y="1400"/>
                </a:lnTo>
                <a:close/>
              </a:path>
              <a:path fill="darkenLess" w="117917" h="21600">
                <a:moveTo>
                  <a:pt x="117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517" y="20200"/>
                </a:lnTo>
                <a:close/>
              </a:path>
              <a:path fill="lighten" w="117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6" action="ppaction://hlinksldjump"/>
          </p:cNvPr>
          <p:cNvSpPr/>
          <p:nvPr/>
        </p:nvSpPr>
        <p:spPr>
          <a:xfrm>
            <a:off x="3328920" y="46292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°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6920" y="26161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78360" y="336564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7" action="ppaction://hlinksldjump"/>
          </p:cNvPr>
          <p:cNvSpPr/>
          <p:nvPr/>
        </p:nvSpPr>
        <p:spPr>
          <a:xfrm>
            <a:off x="5775480" y="4105440"/>
            <a:ext cx="2306520" cy="63792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67" h="21600">
                <a:moveTo>
                  <a:pt x="0" y="0"/>
                </a:moveTo>
                <a:lnTo>
                  <a:pt x="78067" y="0"/>
                </a:lnTo>
                <a:lnTo>
                  <a:pt x="78067" y="21600"/>
                </a:lnTo>
                <a:lnTo>
                  <a:pt x="0" y="21600"/>
                </a:lnTo>
                <a:close/>
              </a:path>
              <a:path fill="lightenLess" w="78067" h="21600">
                <a:moveTo>
                  <a:pt x="0" y="0"/>
                </a:moveTo>
                <a:lnTo>
                  <a:pt x="78067" y="0"/>
                </a:lnTo>
                <a:lnTo>
                  <a:pt x="76667" y="1400"/>
                </a:lnTo>
                <a:lnTo>
                  <a:pt x="1400" y="1400"/>
                </a:lnTo>
                <a:close/>
              </a:path>
              <a:path fill="darken" w="78067" h="21600">
                <a:moveTo>
                  <a:pt x="78067" y="0"/>
                </a:moveTo>
                <a:lnTo>
                  <a:pt x="78067" y="21600"/>
                </a:lnTo>
                <a:lnTo>
                  <a:pt x="76667" y="20200"/>
                </a:lnTo>
                <a:lnTo>
                  <a:pt x="76667" y="1400"/>
                </a:lnTo>
                <a:close/>
              </a:path>
              <a:path fill="darkenLess" w="78067" h="21600">
                <a:moveTo>
                  <a:pt x="78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7" y="20200"/>
                </a:lnTo>
                <a:close/>
              </a:path>
              <a:path fill="lighten" w="78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5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32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0080" y="1816200"/>
            <a:ext cx="2306520" cy="433440"/>
          </a:xfrm>
          <a:custGeom>
            <a:avLst/>
            <a:gdLst>
              <a:gd name="textAreaLeft" fmla="*/ 28080 w 2306520"/>
              <a:gd name="textAreaRight" fmla="*/ 2278440 w 2306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14865" h="21600">
                <a:moveTo>
                  <a:pt x="0" y="0"/>
                </a:moveTo>
                <a:lnTo>
                  <a:pt x="114865" y="0"/>
                </a:lnTo>
                <a:lnTo>
                  <a:pt x="114865" y="21600"/>
                </a:lnTo>
                <a:lnTo>
                  <a:pt x="0" y="21600"/>
                </a:lnTo>
                <a:close/>
              </a:path>
              <a:path fill="lightenLess" w="114865" h="21600">
                <a:moveTo>
                  <a:pt x="0" y="0"/>
                </a:moveTo>
                <a:lnTo>
                  <a:pt x="114865" y="0"/>
                </a:lnTo>
                <a:lnTo>
                  <a:pt x="113465" y="1400"/>
                </a:lnTo>
                <a:lnTo>
                  <a:pt x="1400" y="1400"/>
                </a:lnTo>
                <a:close/>
              </a:path>
              <a:path fill="darken" w="114865" h="21600">
                <a:moveTo>
                  <a:pt x="114865" y="0"/>
                </a:moveTo>
                <a:lnTo>
                  <a:pt x="114865" y="21600"/>
                </a:lnTo>
                <a:lnTo>
                  <a:pt x="113465" y="20200"/>
                </a:lnTo>
                <a:lnTo>
                  <a:pt x="113465" y="1400"/>
                </a:lnTo>
                <a:close/>
              </a:path>
              <a:path fill="darkenLess" w="114865" h="21600">
                <a:moveTo>
                  <a:pt x="114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465" y="20200"/>
                </a:lnTo>
                <a:close/>
              </a:path>
              <a:path fill="lighten" w="114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0080" y="1816200"/>
            <a:ext cx="23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616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ut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3378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om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140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idistant between 2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3320" y="5746680"/>
            <a:ext cx="2306520" cy="420840"/>
          </a:xfrm>
          <a:custGeom>
            <a:avLst/>
            <a:gdLst>
              <a:gd name="textAreaLeft" fmla="*/ 27000 w 2306520"/>
              <a:gd name="textAreaRight" fmla="*/ 2279520 w 2306520"/>
              <a:gd name="textAreaTop" fmla="*/ 27000 h 420840"/>
              <a:gd name="textAreaBottom" fmla="*/ 393840 h 420840"/>
            </a:gdLst>
            <a:ahLst/>
            <a:rect l="textAreaLeft" t="textAreaTop" r="textAreaRight" b="textAreaBottom"/>
            <a:pathLst>
              <a:path w="118302" h="21600">
                <a:moveTo>
                  <a:pt x="0" y="0"/>
                </a:moveTo>
                <a:lnTo>
                  <a:pt x="118302" y="0"/>
                </a:lnTo>
                <a:lnTo>
                  <a:pt x="118302" y="21600"/>
                </a:lnTo>
                <a:lnTo>
                  <a:pt x="0" y="21600"/>
                </a:lnTo>
                <a:close/>
              </a:path>
              <a:path fill="lightenLess" w="118302" h="21600">
                <a:moveTo>
                  <a:pt x="0" y="0"/>
                </a:moveTo>
                <a:lnTo>
                  <a:pt x="118302" y="0"/>
                </a:lnTo>
                <a:lnTo>
                  <a:pt x="116902" y="1400"/>
                </a:lnTo>
                <a:lnTo>
                  <a:pt x="1400" y="1400"/>
                </a:lnTo>
                <a:close/>
              </a:path>
              <a:path fill="darken" w="118302" h="21600">
                <a:moveTo>
                  <a:pt x="118302" y="0"/>
                </a:moveTo>
                <a:lnTo>
                  <a:pt x="118302" y="21600"/>
                </a:lnTo>
                <a:lnTo>
                  <a:pt x="116902" y="20200"/>
                </a:lnTo>
                <a:lnTo>
                  <a:pt x="116902" y="1400"/>
                </a:lnTo>
                <a:close/>
              </a:path>
              <a:path fill="darkenLess" w="118302" h="21600">
                <a:moveTo>
                  <a:pt x="118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902" y="20200"/>
                </a:lnTo>
                <a:close/>
              </a:path>
              <a:path fill="lighten" w="118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b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320" y="5761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mpass at A and Draw 2 arcs that cross each of the arms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06960" y="3192480"/>
            <a:ext cx="2411640" cy="24098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7077240" y="4284720"/>
            <a:ext cx="287280" cy="288720"/>
            <a:chOff x="7077240" y="4284720"/>
            <a:chExt cx="287280" cy="288720"/>
          </a:xfrm>
        </p:grpSpPr>
        <p:sp>
          <p:nvSpPr>
            <p:cNvPr id="648" name=""/>
            <p:cNvSpPr/>
            <p:nvPr/>
          </p:nvSpPr>
          <p:spPr>
            <a:xfrm>
              <a:off x="7221600" y="428472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77240" y="442908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08760" y="3193920"/>
            <a:ext cx="2411280" cy="24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3076560"/>
            <a:ext cx="15969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26560" y="3513240"/>
            <a:ext cx="449280" cy="23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5138640"/>
            <a:ext cx="1886040" cy="5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24600" y="3645000"/>
            <a:ext cx="244440" cy="78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6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n arc from 1 in the middle of the 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680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687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319800" y="3313080"/>
            <a:ext cx="287280" cy="288720"/>
            <a:chOff x="6319800" y="3313080"/>
            <a:chExt cx="287280" cy="288720"/>
          </a:xfrm>
        </p:grpSpPr>
        <p:sp>
          <p:nvSpPr>
            <p:cNvPr id="693" name=""/>
            <p:cNvSpPr/>
            <p:nvPr/>
          </p:nvSpPr>
          <p:spPr>
            <a:xfrm>
              <a:off x="6464160" y="33130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19800" y="34574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411880" y="237816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07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14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5079960" y="3860640"/>
            <a:ext cx="2124000" cy="21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14840" y="4267080"/>
            <a:ext cx="1379520" cy="198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0000" y="5153040"/>
            <a:ext cx="163980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70480" y="3787920"/>
            <a:ext cx="1016280" cy="16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draw an arc from 2 that crosses the arc from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34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41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958000" y="4692600"/>
            <a:ext cx="287280" cy="288720"/>
            <a:chOff x="5958000" y="4692600"/>
            <a:chExt cx="287280" cy="288720"/>
          </a:xfrm>
        </p:grpSpPr>
        <p:sp>
          <p:nvSpPr>
            <p:cNvPr id="747" name=""/>
            <p:cNvSpPr/>
            <p:nvPr/>
          </p:nvSpPr>
          <p:spPr>
            <a:xfrm>
              <a:off x="6102360" y="4692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58000" y="4836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091120" y="3859200"/>
            <a:ext cx="2124000" cy="2124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5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the point of the angle to where the arcs from 1 and 2 cr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66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773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00720" y="30924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76920" y="4568760"/>
            <a:ext cx="4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4614840" y="3787920"/>
            <a:ext cx="2874960" cy="2468520"/>
            <a:chOff x="4614840" y="3787920"/>
            <a:chExt cx="2874960" cy="2468520"/>
          </a:xfrm>
        </p:grpSpPr>
        <p:sp>
          <p:nvSpPr>
            <p:cNvPr id="789" name=""/>
            <p:cNvSpPr/>
            <p:nvPr/>
          </p:nvSpPr>
          <p:spPr>
            <a:xfrm>
              <a:off x="5079960" y="3860640"/>
              <a:ext cx="2124000" cy="212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14840" y="4267080"/>
              <a:ext cx="1379520" cy="198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50000" y="5153040"/>
              <a:ext cx="16398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70480" y="3787920"/>
              <a:ext cx="1016280" cy="16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gle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gle Bisector of angle B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08760" y="3076560"/>
            <a:ext cx="2467080" cy="2773440"/>
            <a:chOff x="6008760" y="3076560"/>
            <a:chExt cx="2467080" cy="2773440"/>
          </a:xfrm>
        </p:grpSpPr>
        <p:sp>
          <p:nvSpPr>
            <p:cNvPr id="798" name=""/>
            <p:cNvSpPr/>
            <p:nvPr/>
          </p:nvSpPr>
          <p:spPr>
            <a:xfrm>
              <a:off x="6008760" y="3193920"/>
              <a:ext cx="2411280" cy="24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705720" y="3076560"/>
              <a:ext cx="1596960" cy="6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26560" y="3513240"/>
              <a:ext cx="449280" cy="23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68960" y="5138640"/>
              <a:ext cx="18860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24600" y="3645000"/>
              <a:ext cx="244440" cy="78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413320" y="2379600"/>
            <a:ext cx="2124000" cy="21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283360" y="2075040"/>
            <a:ext cx="3163680" cy="3789360"/>
            <a:chOff x="5283360" y="2075040"/>
            <a:chExt cx="3163680" cy="3789360"/>
          </a:xfrm>
        </p:grpSpPr>
        <p:sp>
          <p:nvSpPr>
            <p:cNvPr id="805" name=""/>
            <p:cNvSpPr/>
            <p:nvPr/>
          </p:nvSpPr>
          <p:spPr>
            <a:xfrm>
              <a:off x="5283360" y="2075040"/>
              <a:ext cx="3163680" cy="12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5720" y="2903400"/>
              <a:ext cx="1306440" cy="29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4137120"/>
              <a:ext cx="8269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067440" y="4340160"/>
              <a:ext cx="711360" cy="2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4917960" y="2583000"/>
            <a:ext cx="2293920" cy="2670120"/>
          </a:xfrm>
          <a:custGeom>
            <a:avLst/>
            <a:gdLst/>
            <a:ahLst/>
            <a:rect l="l" t="t" r="r" b="b"/>
            <a:pathLst>
              <a:path w="2240" h="1682">
                <a:moveTo>
                  <a:pt x="878" y="0"/>
                </a:moveTo>
                <a:lnTo>
                  <a:pt x="2240" y="1161"/>
                </a:lnTo>
                <a:lnTo>
                  <a:pt x="0" y="16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568320" y="3511440"/>
            <a:ext cx="3630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147080" y="41274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2227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0529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42000" y="2514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55000" y="4384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6040" y="5219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line 4cm above and parallel to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0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4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2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n arc above line AB using each end as the ce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435600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84600" y="5029200"/>
            <a:ext cx="128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626080" y="4292640"/>
            <a:ext cx="1003320" cy="7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46920" y="248904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45400" y="3009960"/>
            <a:ext cx="99036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83480" y="2425680"/>
            <a:ext cx="95256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3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37320" y="3076560"/>
            <a:ext cx="287280" cy="288720"/>
            <a:chOff x="7537320" y="3076560"/>
            <a:chExt cx="287280" cy="288720"/>
          </a:xfrm>
        </p:grpSpPr>
        <p:sp>
          <p:nvSpPr>
            <p:cNvPr id="846" name=""/>
            <p:cNvSpPr/>
            <p:nvPr/>
          </p:nvSpPr>
          <p:spPr>
            <a:xfrm>
              <a:off x="7681680" y="30765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37320" y="32209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5532480" y="4946760"/>
            <a:ext cx="287280" cy="288720"/>
            <a:chOff x="5532480" y="4946760"/>
            <a:chExt cx="287280" cy="288720"/>
          </a:xfrm>
        </p:grpSpPr>
        <p:sp>
          <p:nvSpPr>
            <p:cNvPr id="849" name=""/>
            <p:cNvSpPr/>
            <p:nvPr/>
          </p:nvSpPr>
          <p:spPr>
            <a:xfrm>
              <a:off x="5676840" y="494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32480" y="509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4965840" y="4354560"/>
            <a:ext cx="143964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45480" y="2487600"/>
            <a:ext cx="143964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t least 2 other centers draw more arcs abov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5778360" y="3581280"/>
            <a:ext cx="1440000" cy="144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50040" y="3048120"/>
            <a:ext cx="1440000" cy="143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97760" y="3556080"/>
            <a:ext cx="1079280" cy="96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60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64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68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76920" y="3578400"/>
            <a:ext cx="1440000" cy="14396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364440" y="4168800"/>
            <a:ext cx="287280" cy="288720"/>
            <a:chOff x="6364440" y="4168800"/>
            <a:chExt cx="287280" cy="288720"/>
          </a:xfrm>
        </p:grpSpPr>
        <p:sp>
          <p:nvSpPr>
            <p:cNvPr id="877" name=""/>
            <p:cNvSpPr/>
            <p:nvPr/>
          </p:nvSpPr>
          <p:spPr>
            <a:xfrm>
              <a:off x="6508800" y="41688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64440" y="43131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6348240" y="3046320"/>
            <a:ext cx="1440000" cy="144000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942240" y="3629160"/>
            <a:ext cx="287280" cy="288720"/>
            <a:chOff x="6942240" y="3629160"/>
            <a:chExt cx="287280" cy="288720"/>
          </a:xfrm>
        </p:grpSpPr>
        <p:sp>
          <p:nvSpPr>
            <p:cNvPr id="881" name=""/>
            <p:cNvSpPr/>
            <p:nvPr/>
          </p:nvSpPr>
          <p:spPr>
            <a:xfrm>
              <a:off x="7086600" y="36291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942240" y="37735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2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2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tops of all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887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891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895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899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alle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cm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778360" y="3048120"/>
            <a:ext cx="2011680" cy="1973160"/>
            <a:chOff x="5778360" y="3048120"/>
            <a:chExt cx="2011680" cy="1973160"/>
          </a:xfrm>
        </p:grpSpPr>
        <p:sp>
          <p:nvSpPr>
            <p:cNvPr id="912" name=""/>
            <p:cNvSpPr/>
            <p:nvPr/>
          </p:nvSpPr>
          <p:spPr>
            <a:xfrm>
              <a:off x="5778360" y="358128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50040" y="3048120"/>
              <a:ext cx="1440000" cy="14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97760" y="3556080"/>
              <a:ext cx="107928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584600" y="4292640"/>
            <a:ext cx="2044800" cy="1562040"/>
            <a:chOff x="4584600" y="4292640"/>
            <a:chExt cx="2044800" cy="1562040"/>
          </a:xfrm>
        </p:grpSpPr>
        <p:sp>
          <p:nvSpPr>
            <p:cNvPr id="916" name=""/>
            <p:cNvSpPr/>
            <p:nvPr/>
          </p:nvSpPr>
          <p:spPr>
            <a:xfrm>
              <a:off x="4952880" y="435600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84600" y="5029200"/>
              <a:ext cx="12826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6080" y="4292640"/>
              <a:ext cx="100332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845400" y="2425680"/>
            <a:ext cx="1790640" cy="1536840"/>
            <a:chOff x="6845400" y="2425680"/>
            <a:chExt cx="1790640" cy="1536840"/>
          </a:xfrm>
        </p:grpSpPr>
        <p:sp>
          <p:nvSpPr>
            <p:cNvPr id="920" name=""/>
            <p:cNvSpPr/>
            <p:nvPr/>
          </p:nvSpPr>
          <p:spPr>
            <a:xfrm>
              <a:off x="6946920" y="2489040"/>
              <a:ext cx="144000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45400" y="3009960"/>
              <a:ext cx="990360" cy="95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83480" y="2425680"/>
              <a:ext cx="9525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2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 flipV="1">
            <a:off x="4495680" y="2019240"/>
            <a:ext cx="3378240" cy="317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03920" y="50799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15280" y="447048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62920" y="391176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81960" y="3416400"/>
            <a:ext cx="8762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 60º angle at A, above th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3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draw an arc that crosses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46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950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8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1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4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, place point where the arc crosses the line A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5307120" y="2816280"/>
            <a:ext cx="2698560" cy="26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6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6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5305320" y="2814480"/>
            <a:ext cx="269892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519960" y="4037040"/>
            <a:ext cx="287280" cy="288720"/>
            <a:chOff x="6519960" y="4037040"/>
            <a:chExt cx="287280" cy="288720"/>
          </a:xfrm>
        </p:grpSpPr>
        <p:sp>
          <p:nvSpPr>
            <p:cNvPr id="970" name=""/>
            <p:cNvSpPr/>
            <p:nvPr/>
          </p:nvSpPr>
          <p:spPr>
            <a:xfrm>
              <a:off x="6664320" y="4037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519960" y="4181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7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where the 2 arcs cro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76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81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985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0º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58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0º Ang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07120" y="2598840"/>
            <a:ext cx="3038400" cy="3119400"/>
            <a:chOff x="5307120" y="2598840"/>
            <a:chExt cx="3038400" cy="3119400"/>
          </a:xfrm>
        </p:grpSpPr>
        <p:sp>
          <p:nvSpPr>
            <p:cNvPr id="994" name=""/>
            <p:cNvSpPr/>
            <p:nvPr/>
          </p:nvSpPr>
          <p:spPr>
            <a:xfrm>
              <a:off x="5307120" y="2816280"/>
              <a:ext cx="2698560" cy="2698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2598840"/>
              <a:ext cx="2859120" cy="10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43640" y="3513240"/>
              <a:ext cx="74160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151160" y="3732120"/>
            <a:ext cx="3468960" cy="2741760"/>
            <a:chOff x="4151160" y="3732120"/>
            <a:chExt cx="3468960" cy="2741760"/>
          </a:xfrm>
        </p:grpSpPr>
        <p:sp>
          <p:nvSpPr>
            <p:cNvPr id="999" name=""/>
            <p:cNvSpPr/>
            <p:nvPr/>
          </p:nvSpPr>
          <p:spPr>
            <a:xfrm>
              <a:off x="4308480" y="3732120"/>
              <a:ext cx="2698920" cy="2698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51160" y="4470480"/>
              <a:ext cx="3468960" cy="200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25760" y="3860640"/>
              <a:ext cx="638280" cy="73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5308560" y="2708280"/>
            <a:ext cx="2952720" cy="2814840"/>
            <a:chOff x="5308560" y="2708280"/>
            <a:chExt cx="2952720" cy="2814840"/>
          </a:xfrm>
        </p:grpSpPr>
        <p:sp>
          <p:nvSpPr>
            <p:cNvPr id="1004" name=""/>
            <p:cNvSpPr/>
            <p:nvPr/>
          </p:nvSpPr>
          <p:spPr>
            <a:xfrm flipH="1">
              <a:off x="5668920" y="3213000"/>
              <a:ext cx="201600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856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84920" y="270828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 flipV="1">
            <a:off x="5181480" y="2960280"/>
            <a:ext cx="479520" cy="21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eflection you need to state 2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eflec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irror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lect Shape ABCD in the mirror line x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435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79600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27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643280" y="3068640"/>
            <a:ext cx="2304720" cy="2232000"/>
            <a:chOff x="4643280" y="3068640"/>
            <a:chExt cx="2304720" cy="2232000"/>
          </a:xfrm>
        </p:grpSpPr>
        <p:sp>
          <p:nvSpPr>
            <p:cNvPr id="1027" name=""/>
            <p:cNvSpPr/>
            <p:nvPr/>
          </p:nvSpPr>
          <p:spPr>
            <a:xfrm>
              <a:off x="4643280" y="3068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43280" y="350028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3280" y="393372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43280" y="4437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43280" y="486900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43280" y="5300640"/>
              <a:ext cx="230472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659640" y="256536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03640" y="2637000"/>
            <a:ext cx="0" cy="3313080"/>
          </a:xfrm>
          <a:prstGeom prst="line">
            <a:avLst/>
          </a:prstGeom>
          <a:ln cap="rnd" w="32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A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2880" y="3068640"/>
            <a:ext cx="15256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4940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22760" y="5084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effective methods to do th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fold the page alo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and tra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 lines perpendicular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irror line that g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each of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n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 you get your reflection, the next step is to label its co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he image corner that same letter as the object it came from with a ( ‘ )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51520" y="2530440"/>
            <a:ext cx="3257280" cy="285840"/>
          </a:xfrm>
          <a:custGeom>
            <a:avLst/>
            <a:gdLst/>
            <a:ahLst/>
            <a:rect l="l" t="t" r="r" b="b"/>
            <a:pathLst>
              <a:path w="2052" h="180">
                <a:moveTo>
                  <a:pt x="0" y="180"/>
                </a:moveTo>
                <a:cubicBezTo>
                  <a:pt x="148" y="102"/>
                  <a:pt x="308" y="87"/>
                  <a:pt x="475" y="79"/>
                </a:cubicBezTo>
                <a:cubicBezTo>
                  <a:pt x="959" y="0"/>
                  <a:pt x="1454" y="44"/>
                  <a:pt x="1938" y="97"/>
                </a:cubicBezTo>
                <a:cubicBezTo>
                  <a:pt x="1962" y="114"/>
                  <a:pt x="1984" y="139"/>
                  <a:pt x="2011" y="152"/>
                </a:cubicBezTo>
                <a:cubicBezTo>
                  <a:pt x="2052" y="172"/>
                  <a:pt x="2028" y="149"/>
                  <a:pt x="2048" y="1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2120" y="5589720"/>
            <a:ext cx="685800" cy="115920"/>
          </a:xfrm>
          <a:custGeom>
            <a:avLst/>
            <a:gdLst/>
            <a:ahLst/>
            <a:rect l="l" t="t" r="r" b="b"/>
            <a:pathLst>
              <a:path w="432" h="73">
                <a:moveTo>
                  <a:pt x="0" y="0"/>
                </a:moveTo>
                <a:cubicBezTo>
                  <a:pt x="31" y="29"/>
                  <a:pt x="74" y="31"/>
                  <a:pt x="110" y="55"/>
                </a:cubicBezTo>
                <a:cubicBezTo>
                  <a:pt x="432" y="41"/>
                  <a:pt x="239" y="73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443560" y="5589720"/>
            <a:ext cx="2249640" cy="311040"/>
          </a:xfrm>
          <a:custGeom>
            <a:avLst/>
            <a:gdLst/>
            <a:ahLst/>
            <a:rect l="l" t="t" r="r" b="b"/>
            <a:pathLst>
              <a:path w="1417" h="196">
                <a:moveTo>
                  <a:pt x="0" y="0"/>
                </a:moveTo>
                <a:cubicBezTo>
                  <a:pt x="12" y="3"/>
                  <a:pt x="25" y="4"/>
                  <a:pt x="36" y="9"/>
                </a:cubicBezTo>
                <a:cubicBezTo>
                  <a:pt x="46" y="13"/>
                  <a:pt x="53" y="24"/>
                  <a:pt x="64" y="27"/>
                </a:cubicBezTo>
                <a:cubicBezTo>
                  <a:pt x="91" y="34"/>
                  <a:pt x="119" y="34"/>
                  <a:pt x="146" y="37"/>
                </a:cubicBezTo>
                <a:cubicBezTo>
                  <a:pt x="221" y="62"/>
                  <a:pt x="129" y="27"/>
                  <a:pt x="192" y="64"/>
                </a:cubicBezTo>
                <a:cubicBezTo>
                  <a:pt x="210" y="74"/>
                  <a:pt x="262" y="80"/>
                  <a:pt x="274" y="82"/>
                </a:cubicBezTo>
                <a:cubicBezTo>
                  <a:pt x="292" y="88"/>
                  <a:pt x="310" y="98"/>
                  <a:pt x="329" y="101"/>
                </a:cubicBezTo>
                <a:cubicBezTo>
                  <a:pt x="372" y="107"/>
                  <a:pt x="457" y="119"/>
                  <a:pt x="457" y="119"/>
                </a:cubicBezTo>
                <a:cubicBezTo>
                  <a:pt x="554" y="151"/>
                  <a:pt x="656" y="172"/>
                  <a:pt x="758" y="183"/>
                </a:cubicBezTo>
                <a:cubicBezTo>
                  <a:pt x="908" y="178"/>
                  <a:pt x="982" y="196"/>
                  <a:pt x="1097" y="155"/>
                </a:cubicBezTo>
                <a:cubicBezTo>
                  <a:pt x="1153" y="99"/>
                  <a:pt x="1230" y="107"/>
                  <a:pt x="1298" y="73"/>
                </a:cubicBezTo>
                <a:cubicBezTo>
                  <a:pt x="1310" y="67"/>
                  <a:pt x="1323" y="62"/>
                  <a:pt x="1334" y="55"/>
                </a:cubicBezTo>
                <a:cubicBezTo>
                  <a:pt x="1341" y="50"/>
                  <a:pt x="1346" y="42"/>
                  <a:pt x="1353" y="37"/>
                </a:cubicBezTo>
                <a:cubicBezTo>
                  <a:pt x="1374" y="24"/>
                  <a:pt x="1399" y="27"/>
                  <a:pt x="1417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5770440" y="4441680"/>
            <a:ext cx="1719360" cy="1795320"/>
            <a:chOff x="5770440" y="4441680"/>
            <a:chExt cx="1719360" cy="1795320"/>
          </a:xfrm>
        </p:grpSpPr>
        <p:sp>
          <p:nvSpPr>
            <p:cNvPr id="1067" name=""/>
            <p:cNvSpPr/>
            <p:nvPr/>
          </p:nvSpPr>
          <p:spPr>
            <a:xfrm>
              <a:off x="5810400" y="44892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0440" y="532260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08600" y="532260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45240" y="449064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6647760" y="475524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41160" y="474192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92960" y="444168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 a good check is to rule a line from one point to its’ image and check that the mirror line is at right ang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) D to 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226200" y="53006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rror line x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6642000" y="2030400"/>
            <a:ext cx="0" cy="416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480000" y="1762200"/>
            <a:ext cx="4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494400" y="60530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746600" y="279720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80000" y="27734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126280" y="278136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653240" y="5327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786720" y="530064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643800" y="3065400"/>
            <a:ext cx="1574640" cy="2235240"/>
          </a:xfrm>
          <a:custGeom>
            <a:avLst/>
            <a:gdLst>
              <a:gd name="textAreaLeft" fmla="*/ 346320 w 1574640"/>
              <a:gd name="textAreaRight" fmla="*/ 1228320 w 157464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041800" y="3065400"/>
            <a:ext cx="1575000" cy="2235240"/>
          </a:xfrm>
          <a:custGeom>
            <a:avLst/>
            <a:gdLst>
              <a:gd name="textAreaLeft" fmla="*/ 346320 w 1575000"/>
              <a:gd name="textAreaRight" fmla="*/ 1228680 w 1575000"/>
              <a:gd name="textAreaTop" fmla="*/ 491400 h 2235240"/>
              <a:gd name="textAreaBottom" fmla="*/ 174384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19640" y="52941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108840" y="528336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rotation you need 3 th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rotate ar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ate the triangle ABC, 90° around point 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910560" y="2460600"/>
            <a:ext cx="55440" cy="13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32400" y="20970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entre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 flipV="1">
            <a:off x="6172200" y="3455640"/>
            <a:ext cx="2952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243400" y="517680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object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a number of methods of rotating shap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is to trace the shape onto paper, then rotate the paper 90°, with your compass pt through the centre of ro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other way i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line from one of the corners to the centre, in this case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4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draw an arc with the compass pt at the centre and pencil on the same cor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48120" y="1725480"/>
            <a:ext cx="4308480" cy="43084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6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6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774400" y="2748240"/>
            <a:ext cx="2324520" cy="2287080"/>
            <a:chOff x="5774400" y="2748240"/>
            <a:chExt cx="2324520" cy="2287080"/>
          </a:xfrm>
        </p:grpSpPr>
        <p:sp>
          <p:nvSpPr>
            <p:cNvPr id="1166" name=""/>
            <p:cNvSpPr/>
            <p:nvPr/>
          </p:nvSpPr>
          <p:spPr>
            <a:xfrm rot="3791400">
              <a:off x="6159600" y="303300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3791400">
              <a:off x="5710320" y="36046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607800" y="3122640"/>
              <a:ext cx="747360" cy="1479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6983640" y="3493800"/>
              <a:ext cx="744120" cy="37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6987600" y="3870720"/>
              <a:ext cx="773640" cy="27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6983280" y="3068280"/>
              <a:ext cx="247680" cy="803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3791400">
              <a:off x="7518960" y="34185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angle of rotation from the line B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013520" y="3452760"/>
            <a:ext cx="77004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0120" y="3068640"/>
            <a:ext cx="1468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08480" y="5445000"/>
            <a:ext cx="489744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188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738920" y="3452400"/>
            <a:ext cx="44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10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at line crosses the arc label B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"/>
          <p:cNvGrpSpPr/>
          <p:nvPr/>
        </p:nvGrpSpPr>
        <p:grpSpPr>
          <a:xfrm>
            <a:off x="5951520" y="2916360"/>
            <a:ext cx="1987560" cy="1931760"/>
            <a:chOff x="5951520" y="2916360"/>
            <a:chExt cx="1987560" cy="1931760"/>
          </a:xfrm>
        </p:grpSpPr>
        <p:sp>
          <p:nvSpPr>
            <p:cNvPr id="1232" name=""/>
            <p:cNvSpPr/>
            <p:nvPr/>
          </p:nvSpPr>
          <p:spPr>
            <a:xfrm>
              <a:off x="6008760" y="2916360"/>
              <a:ext cx="1900080" cy="1900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678800" y="3251160"/>
              <a:ext cx="260280" cy="129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51520" y="4238640"/>
              <a:ext cx="17557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6103800" y="2997360"/>
            <a:ext cx="1719360" cy="1795320"/>
            <a:chOff x="6103800" y="2997360"/>
            <a:chExt cx="1719360" cy="1795320"/>
          </a:xfrm>
        </p:grpSpPr>
        <p:sp>
          <p:nvSpPr>
            <p:cNvPr id="1236" name=""/>
            <p:cNvSpPr/>
            <p:nvPr/>
          </p:nvSpPr>
          <p:spPr>
            <a:xfrm>
              <a:off x="6143760" y="304488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03800" y="387828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141960" y="387828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978600" y="304632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6981120" y="331092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74520" y="329760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826320" y="299736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4716360" y="1727280"/>
            <a:ext cx="4427640" cy="4484520"/>
            <a:chOff x="4716360" y="1727280"/>
            <a:chExt cx="4427640" cy="4484520"/>
          </a:xfrm>
        </p:grpSpPr>
        <p:sp>
          <p:nvSpPr>
            <p:cNvPr id="1244" name=""/>
            <p:cNvSpPr/>
            <p:nvPr/>
          </p:nvSpPr>
          <p:spPr>
            <a:xfrm>
              <a:off x="4835520" y="1727280"/>
              <a:ext cx="4308480" cy="4308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16360" y="2714760"/>
              <a:ext cx="857520" cy="3105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84880" y="5311800"/>
              <a:ext cx="3149640" cy="90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0120" y="5079960"/>
              <a:ext cx="217440" cy="333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815320" y="4176720"/>
              <a:ext cx="304920" cy="852480"/>
            </a:xfrm>
            <a:custGeom>
              <a:avLst/>
              <a:gdLst/>
              <a:ahLst/>
              <a:rect l="l" t="t" r="r" b="b"/>
              <a:pathLst>
                <a:path w="192" h="537">
                  <a:moveTo>
                    <a:pt x="192" y="0"/>
                  </a:moveTo>
                  <a:cubicBezTo>
                    <a:pt x="188" y="24"/>
                    <a:pt x="188" y="52"/>
                    <a:pt x="180" y="75"/>
                  </a:cubicBezTo>
                  <a:cubicBezTo>
                    <a:pt x="176" y="106"/>
                    <a:pt x="165" y="135"/>
                    <a:pt x="159" y="165"/>
                  </a:cubicBezTo>
                  <a:cubicBezTo>
                    <a:pt x="157" y="177"/>
                    <a:pt x="154" y="189"/>
                    <a:pt x="150" y="201"/>
                  </a:cubicBezTo>
                  <a:cubicBezTo>
                    <a:pt x="148" y="207"/>
                    <a:pt x="144" y="219"/>
                    <a:pt x="144" y="219"/>
                  </a:cubicBezTo>
                  <a:cubicBezTo>
                    <a:pt x="141" y="246"/>
                    <a:pt x="141" y="248"/>
                    <a:pt x="126" y="270"/>
                  </a:cubicBezTo>
                  <a:cubicBezTo>
                    <a:pt x="112" y="291"/>
                    <a:pt x="115" y="317"/>
                    <a:pt x="96" y="336"/>
                  </a:cubicBezTo>
                  <a:cubicBezTo>
                    <a:pt x="91" y="352"/>
                    <a:pt x="87" y="383"/>
                    <a:pt x="78" y="396"/>
                  </a:cubicBezTo>
                  <a:cubicBezTo>
                    <a:pt x="74" y="402"/>
                    <a:pt x="68" y="407"/>
                    <a:pt x="66" y="414"/>
                  </a:cubicBezTo>
                  <a:cubicBezTo>
                    <a:pt x="60" y="431"/>
                    <a:pt x="60" y="437"/>
                    <a:pt x="45" y="447"/>
                  </a:cubicBezTo>
                  <a:cubicBezTo>
                    <a:pt x="37" y="470"/>
                    <a:pt x="23" y="502"/>
                    <a:pt x="6" y="519"/>
                  </a:cubicBezTo>
                  <a:cubicBezTo>
                    <a:pt x="4" y="525"/>
                    <a:pt x="0" y="537"/>
                    <a:pt x="0" y="537"/>
                  </a:cubicBezTo>
                </a:path>
              </a:pathLst>
            </a:custGeom>
            <a:noFill/>
            <a:ln w="324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688000" y="1304640"/>
            <a:ext cx="1962000" cy="38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997680" y="2711160"/>
            <a:ext cx="2146320" cy="11761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210280" y="3889440"/>
            <a:ext cx="21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05520" y="2914560"/>
            <a:ext cx="1900080" cy="190044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6967440" y="300492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6969240" y="249660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6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3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6545160" y="3497400"/>
            <a:ext cx="1190880" cy="1060200"/>
            <a:chOff x="6545160" y="3497400"/>
            <a:chExt cx="1190880" cy="1060200"/>
          </a:xfrm>
        </p:grpSpPr>
        <p:sp>
          <p:nvSpPr>
            <p:cNvPr id="1272" name=""/>
            <p:cNvSpPr/>
            <p:nvPr/>
          </p:nvSpPr>
          <p:spPr>
            <a:xfrm>
              <a:off x="6648480" y="3529080"/>
              <a:ext cx="698400" cy="698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45160" y="4005360"/>
              <a:ext cx="1190880" cy="55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272360" y="3497400"/>
              <a:ext cx="333360" cy="82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6105600" y="2998800"/>
            <a:ext cx="1719360" cy="1795320"/>
            <a:chOff x="6105600" y="2998800"/>
            <a:chExt cx="1719360" cy="1795320"/>
          </a:xfrm>
        </p:grpSpPr>
        <p:sp>
          <p:nvSpPr>
            <p:cNvPr id="1276" name=""/>
            <p:cNvSpPr/>
            <p:nvPr/>
          </p:nvSpPr>
          <p:spPr>
            <a:xfrm>
              <a:off x="6145560" y="3046320"/>
              <a:ext cx="1655640" cy="16542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05600" y="3879720"/>
              <a:ext cx="1719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43760" y="3879720"/>
              <a:ext cx="1657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980400" y="3047760"/>
              <a:ext cx="0" cy="833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982920" y="3312360"/>
              <a:ext cx="595800" cy="56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76320" y="3299040"/>
              <a:ext cx="605160" cy="583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28120" y="2998800"/>
              <a:ext cx="31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8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at for each of the other po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6138360" y="3889440"/>
            <a:ext cx="12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45240" y="3527280"/>
            <a:ext cx="698400" cy="6987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967440" y="300528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967440" y="3440160"/>
            <a:ext cx="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886440" y="34671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3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join the points of the im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rot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9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ound poin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7058160" y="36846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912000" y="3805200"/>
            <a:ext cx="1620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99040" y="3805200"/>
            <a:ext cx="16164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012000" y="1936800"/>
            <a:ext cx="631800" cy="1936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756400" y="3817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837400" y="16146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510240" y="38466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753400" y="50292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0" y="0"/>
                </a:moveTo>
                <a:cubicBezTo>
                  <a:pt x="4" y="13"/>
                  <a:pt x="5" y="20"/>
                  <a:pt x="15" y="30"/>
                </a:cubicBezTo>
                <a:cubicBezTo>
                  <a:pt x="19" y="43"/>
                  <a:pt x="27" y="51"/>
                  <a:pt x="27" y="66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798040" y="500544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8728200" y="5092560"/>
            <a:ext cx="27000" cy="61920"/>
          </a:xfrm>
          <a:custGeom>
            <a:avLst/>
            <a:gdLst/>
            <a:ahLst/>
            <a:rect l="l" t="t" r="r" b="b"/>
            <a:pathLst>
              <a:path w="17" h="39">
                <a:moveTo>
                  <a:pt x="2" y="6"/>
                </a:moveTo>
                <a:cubicBezTo>
                  <a:pt x="16" y="27"/>
                  <a:pt x="0" y="0"/>
                  <a:pt x="11" y="30"/>
                </a:cubicBezTo>
                <a:cubicBezTo>
                  <a:pt x="12" y="33"/>
                  <a:pt x="17" y="39"/>
                  <a:pt x="17" y="39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454960" y="260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840880" y="281628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2859120"/>
            <a:ext cx="1018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13440" y="2597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924600" y="3484440"/>
            <a:ext cx="1015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950160" y="28735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967440" y="29034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967440" y="2859120"/>
            <a:ext cx="193032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 translation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ranslat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ay how far to 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"/>
          <p:cNvGrpSpPr/>
          <p:nvPr/>
        </p:nvGrpSpPr>
        <p:grpSpPr>
          <a:xfrm>
            <a:off x="5364000" y="2637000"/>
            <a:ext cx="1729080" cy="3313080"/>
            <a:chOff x="5364000" y="2637000"/>
            <a:chExt cx="1729080" cy="3313080"/>
          </a:xfrm>
        </p:grpSpPr>
        <p:sp>
          <p:nvSpPr>
            <p:cNvPr id="1350" name=""/>
            <p:cNvSpPr/>
            <p:nvPr/>
          </p:nvSpPr>
          <p:spPr>
            <a:xfrm>
              <a:off x="579600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27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659640" y="2637000"/>
              <a:ext cx="0" cy="331308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64000" y="3068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64000" y="350028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364000" y="393372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364000" y="4437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364000" y="486900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64000" y="5300640"/>
              <a:ext cx="1729080" cy="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the shape ABCD 5cm right and 3cm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 occasionally written as a vector in which case the top number means distance acr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2422440" y="4776840"/>
            <a:ext cx="49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2974680" y="49640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452680" y="4761000"/>
            <a:ext cx="392040" cy="79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54200" y="550080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8360" y="4714920"/>
            <a:ext cx="2174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584520" y="4803840"/>
            <a:ext cx="10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Righ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54560" y="52815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ow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2873160" y="54435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ing with pt A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581880" y="43099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269040" y="30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8069400" y="30481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026560" y="4106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794640" y="26859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028000" y="3409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 B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 that 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30920" y="39751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631280" y="39895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356520" y="362736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7589880" y="433692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2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on B and draw and arc above and below the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25720" y="3068640"/>
            <a:ext cx="14828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84920" y="3068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4056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eat for pts C and D measure 5cm right and 3cm d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beling them C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829480" y="53229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7629480" y="5336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6354720" y="497520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27960" y="44672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427960" y="4481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153200" y="411948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591320" y="56721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73960" y="4757760"/>
            <a:ext cx="7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9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in up the points A’ B’ C’ and D’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8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translat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[ 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5819760" y="3033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103800" y="2728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475240" y="3762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581800" y="5327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81880" y="43243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026560" y="4121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061480" y="39765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588080" y="5048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623000" y="4917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86640" y="6396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621560" y="626580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385120" y="554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420040" y="54100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659720" y="4149720"/>
            <a:ext cx="812880" cy="2308320"/>
          </a:xfrm>
          <a:custGeom>
            <a:avLst/>
            <a:gdLst/>
            <a:ahLst/>
            <a:rect l="l" t="t" r="r" b="b"/>
            <a:pathLst>
              <a:path w="512" h="1454">
                <a:moveTo>
                  <a:pt x="265" y="0"/>
                </a:moveTo>
                <a:lnTo>
                  <a:pt x="0" y="594"/>
                </a:lnTo>
                <a:lnTo>
                  <a:pt x="0" y="1454"/>
                </a:lnTo>
                <a:lnTo>
                  <a:pt x="512" y="914"/>
                </a:lnTo>
                <a:lnTo>
                  <a:pt x="26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51000" y="280044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do an Enlargement you need 3 thing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enlar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ntre of enlar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 fa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ay how big to make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6473880" y="3645000"/>
            <a:ext cx="963720" cy="2016000"/>
            <a:chOff x="6473880" y="3645000"/>
            <a:chExt cx="963720" cy="2016000"/>
          </a:xfrm>
        </p:grpSpPr>
        <p:sp>
          <p:nvSpPr>
            <p:cNvPr id="1468" name=""/>
            <p:cNvSpPr/>
            <p:nvPr/>
          </p:nvSpPr>
          <p:spPr>
            <a:xfrm>
              <a:off x="647388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7716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437600" y="3645000"/>
              <a:ext cx="0" cy="2016000"/>
            </a:xfrm>
            <a:prstGeom prst="line">
              <a:avLst/>
            </a:prstGeom>
            <a:ln cap="rnd" w="324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6012000" y="406224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012000" y="440856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012000" y="47689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012000" y="5157720"/>
            <a:ext cx="1728720" cy="0"/>
          </a:xfrm>
          <a:prstGeom prst="line">
            <a:avLst/>
          </a:prstGeom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large the shape ABCD by a scale factor of 3 about the point 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 a line from the centre of enlargement trough each of the points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 the distance from the centre to each of the poi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C is cent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each of the distances by the scale fact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this case 3 is Scale fac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30760" y="2523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415280" y="2610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207040" y="4116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 3 = 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that far along each of the lines from the centre and mark A’, B’ and 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630760" y="1887480"/>
            <a:ext cx="1351080" cy="3235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6996240" y="1915920"/>
            <a:ext cx="1306440" cy="325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5486400" y="4063680"/>
            <a:ext cx="1495440" cy="107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2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4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2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6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oin the points of the image A’, B’ C and D’ with a rul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oint C doesn’t move as it’s the centre of enlargem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5551200" y="1707840"/>
            <a:ext cx="1452600" cy="34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 flipV="1">
            <a:off x="5136840" y="3792600"/>
            <a:ext cx="2273400" cy="166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953400" y="1654200"/>
            <a:ext cx="1465200" cy="3603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477120" y="440064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207200" y="4302000"/>
            <a:ext cx="8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222960" y="499428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1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587920" y="1843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8272440" y="1841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410080" y="3987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630760" y="2523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415280" y="2610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5467320" y="416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.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42" dur="3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the 2 arcs cross join with a Straight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13120" y="3068640"/>
            <a:ext cx="1495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2680" y="547200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lar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n enlargement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cale factor of 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int 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6211800" y="38847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175440" y="4635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831000" y="51404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29680" y="38671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81800" y="4060800"/>
            <a:ext cx="954000" cy="1089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460840" y="1882800"/>
            <a:ext cx="2860920" cy="3267000"/>
          </a:xfrm>
          <a:custGeom>
            <a:avLst/>
            <a:gdLst/>
            <a:ahLst/>
            <a:rect l="l" t="t" r="r" b="b"/>
            <a:pathLst>
              <a:path w="601" h="686">
                <a:moveTo>
                  <a:pt x="34" y="0"/>
                </a:moveTo>
                <a:lnTo>
                  <a:pt x="601" y="0"/>
                </a:lnTo>
                <a:lnTo>
                  <a:pt x="322" y="686"/>
                </a:lnTo>
                <a:lnTo>
                  <a:pt x="0" y="449"/>
                </a:lnTo>
                <a:lnTo>
                  <a:pt x="3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243400" y="16128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20080" y="1568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108400" y="394020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ss than 4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point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for the l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4 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446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ull circle with the compass point on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he locus of points exactly 4c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448320" y="3776760"/>
            <a:ext cx="287280" cy="288720"/>
            <a:chOff x="6448320" y="3776760"/>
            <a:chExt cx="287280" cy="288720"/>
          </a:xfrm>
        </p:grpSpPr>
        <p:sp>
          <p:nvSpPr>
            <p:cNvPr id="1596" name=""/>
            <p:cNvSpPr/>
            <p:nvPr/>
          </p:nvSpPr>
          <p:spPr>
            <a:xfrm>
              <a:off x="6592680" y="377676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48320" y="39211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7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5149800" y="24670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95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e inside the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This is to represent the locus of points less than  4cm from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5151600" y="2468520"/>
            <a:ext cx="2879640" cy="2879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About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0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Locus of points less than 4 cm from point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6211800" y="388476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545160" y="387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33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your compass to the maximum or minimum distance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 this Case 2c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5689440" y="267984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line parallel to AB above and below the l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78440" y="193032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00880" y="254016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248520" y="3137040"/>
            <a:ext cx="8888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7061040" y="3949560"/>
            <a:ext cx="8892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597640" y="2595600"/>
            <a:ext cx="287280" cy="288720"/>
            <a:chOff x="5597640" y="2595600"/>
            <a:chExt cx="287280" cy="288720"/>
          </a:xfrm>
        </p:grpSpPr>
        <p:sp>
          <p:nvSpPr>
            <p:cNvPr id="1633" name=""/>
            <p:cNvSpPr/>
            <p:nvPr/>
          </p:nvSpPr>
          <p:spPr>
            <a:xfrm>
              <a:off x="5742000" y="2595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597640" y="2739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6943680" y="3903840"/>
            <a:ext cx="287280" cy="288720"/>
            <a:chOff x="6943680" y="3903840"/>
            <a:chExt cx="287280" cy="288720"/>
          </a:xfrm>
        </p:grpSpPr>
        <p:sp>
          <p:nvSpPr>
            <p:cNvPr id="1636" name=""/>
            <p:cNvSpPr/>
            <p:nvPr/>
          </p:nvSpPr>
          <p:spPr>
            <a:xfrm>
              <a:off x="7088040" y="3903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943680" y="4048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6232680" y="3218040"/>
            <a:ext cx="287280" cy="288720"/>
            <a:chOff x="6232680" y="3218040"/>
            <a:chExt cx="287280" cy="288720"/>
          </a:xfrm>
        </p:grpSpPr>
        <p:sp>
          <p:nvSpPr>
            <p:cNvPr id="1639" name=""/>
            <p:cNvSpPr/>
            <p:nvPr/>
          </p:nvSpPr>
          <p:spPr>
            <a:xfrm>
              <a:off x="6377040" y="32180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2680" y="3362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2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1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4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2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were no end points specified then this would be where we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5740560" y="2743200"/>
            <a:ext cx="13460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Bise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868560" y="32846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0856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84920" y="2708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068640"/>
            <a:ext cx="144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56200" y="1495440"/>
            <a:ext cx="3419640" cy="338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1633680"/>
            <a:ext cx="351936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0240" y="4395960"/>
            <a:ext cx="6858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89800" y="4516560"/>
            <a:ext cx="986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461440" y="4121280"/>
            <a:ext cx="452520" cy="47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999640" y="4035600"/>
            <a:ext cx="14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955000" y="4238640"/>
            <a:ext cx="1800" cy="130320"/>
          </a:xfrm>
          <a:custGeom>
            <a:avLst/>
            <a:gdLst/>
            <a:ahLst/>
            <a:rect l="l" t="t" r="r" b="b"/>
            <a:pathLst>
              <a:path w="1" h="82">
                <a:moveTo>
                  <a:pt x="0" y="0"/>
                </a:moveTo>
                <a:cubicBezTo>
                  <a:pt x="0" y="27"/>
                  <a:pt x="0" y="55"/>
                  <a:pt x="0" y="82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1465200"/>
            <a:ext cx="113184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73720"/>
            <a:ext cx="489744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38640" y="2378160"/>
            <a:ext cx="2914920" cy="334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4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erpendicular Bise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9055080" y="2046240"/>
            <a:ext cx="889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912160" y="1960560"/>
            <a:ext cx="139680" cy="287280"/>
          </a:xfrm>
          <a:custGeom>
            <a:avLst/>
            <a:gdLst/>
            <a:ahLst/>
            <a:rect l="l" t="t" r="r" b="b"/>
            <a:pathLst>
              <a:path w="88" h="181">
                <a:moveTo>
                  <a:pt x="0" y="36"/>
                </a:moveTo>
                <a:cubicBezTo>
                  <a:pt x="42" y="100"/>
                  <a:pt x="18" y="79"/>
                  <a:pt x="64" y="109"/>
                </a:cubicBezTo>
                <a:cubicBezTo>
                  <a:pt x="88" y="181"/>
                  <a:pt x="30" y="103"/>
                  <a:pt x="18" y="91"/>
                </a:cubicBezTo>
                <a:cubicBezTo>
                  <a:pt x="16" y="83"/>
                  <a:pt x="0" y="0"/>
                  <a:pt x="0" y="36"/>
                </a:cubicBezTo>
                <a:close/>
              </a:path>
            </a:pathLst>
          </a:custGeom>
          <a:solidFill>
            <a:srgbClr val="ffef6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22760" y="1604880"/>
            <a:ext cx="3519360" cy="10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42120" y="1552680"/>
            <a:ext cx="281160" cy="112680"/>
          </a:xfrm>
          <a:custGeom>
            <a:avLst/>
            <a:gdLst/>
            <a:ahLst/>
            <a:rect l="l" t="t" r="r" b="b"/>
            <a:pathLst>
              <a:path w="177" h="71">
                <a:moveTo>
                  <a:pt x="0" y="0"/>
                </a:moveTo>
                <a:cubicBezTo>
                  <a:pt x="36" y="7"/>
                  <a:pt x="66" y="17"/>
                  <a:pt x="101" y="28"/>
                </a:cubicBezTo>
                <a:cubicBezTo>
                  <a:pt x="164" y="69"/>
                  <a:pt x="177" y="71"/>
                  <a:pt x="128" y="55"/>
                </a:cubicBezTo>
                <a:cubicBezTo>
                  <a:pt x="63" y="12"/>
                  <a:pt x="94" y="25"/>
                  <a:pt x="37" y="9"/>
                </a:cubicBezTo>
                <a:cubicBezTo>
                  <a:pt x="28" y="12"/>
                  <a:pt x="2" y="12"/>
                  <a:pt x="9" y="19"/>
                </a:cubicBezTo>
                <a:cubicBezTo>
                  <a:pt x="20" y="30"/>
                  <a:pt x="40" y="24"/>
                  <a:pt x="55" y="28"/>
                </a:cubicBezTo>
                <a:cubicBezTo>
                  <a:pt x="74" y="33"/>
                  <a:pt x="110" y="46"/>
                  <a:pt x="110" y="46"/>
                </a:cubicBezTo>
                <a:cubicBezTo>
                  <a:pt x="119" y="52"/>
                  <a:pt x="137" y="64"/>
                  <a:pt x="137" y="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99280" y="1552680"/>
            <a:ext cx="238320" cy="101520"/>
          </a:xfrm>
          <a:custGeom>
            <a:avLst/>
            <a:gdLst/>
            <a:ahLst/>
            <a:rect l="l" t="t" r="r" b="b"/>
            <a:pathLst>
              <a:path w="150" h="64">
                <a:moveTo>
                  <a:pt x="27" y="0"/>
                </a:moveTo>
                <a:cubicBezTo>
                  <a:pt x="65" y="7"/>
                  <a:pt x="100" y="16"/>
                  <a:pt x="137" y="28"/>
                </a:cubicBezTo>
                <a:cubicBezTo>
                  <a:pt x="140" y="37"/>
                  <a:pt x="150" y="47"/>
                  <a:pt x="146" y="55"/>
                </a:cubicBezTo>
                <a:cubicBezTo>
                  <a:pt x="142" y="63"/>
                  <a:pt x="128" y="64"/>
                  <a:pt x="119" y="64"/>
                </a:cubicBezTo>
                <a:cubicBezTo>
                  <a:pt x="94" y="64"/>
                  <a:pt x="70" y="58"/>
                  <a:pt x="45" y="55"/>
                </a:cubicBezTo>
                <a:cubicBezTo>
                  <a:pt x="36" y="49"/>
                  <a:pt x="25" y="46"/>
                  <a:pt x="18" y="37"/>
                </a:cubicBezTo>
                <a:cubicBezTo>
                  <a:pt x="12" y="29"/>
                  <a:pt x="0" y="13"/>
                  <a:pt x="9" y="9"/>
                </a:cubicBezTo>
                <a:cubicBezTo>
                  <a:pt x="17" y="5"/>
                  <a:pt x="69" y="24"/>
                  <a:pt x="82" y="28"/>
                </a:cubicBezTo>
                <a:cubicBezTo>
                  <a:pt x="91" y="25"/>
                  <a:pt x="100" y="15"/>
                  <a:pt x="109" y="19"/>
                </a:cubicBezTo>
                <a:cubicBezTo>
                  <a:pt x="118" y="23"/>
                  <a:pt x="110" y="42"/>
                  <a:pt x="119" y="46"/>
                </a:cubicBezTo>
                <a:cubicBezTo>
                  <a:pt x="128" y="50"/>
                  <a:pt x="146" y="37"/>
                  <a:pt x="146" y="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21640" y="1785960"/>
            <a:ext cx="73080" cy="4284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0"/>
                </a:moveTo>
                <a:cubicBezTo>
                  <a:pt x="33" y="22"/>
                  <a:pt x="17" y="13"/>
                  <a:pt x="46" y="27"/>
                </a:cubicBezTo>
              </a:path>
            </a:pathLst>
          </a:custGeom>
          <a:noFill/>
          <a:ln w="5724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64680" y="169236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0"/>
                </a:moveTo>
                <a:cubicBezTo>
                  <a:pt x="7" y="2"/>
                  <a:pt x="18" y="10"/>
                  <a:pt x="18" y="10"/>
                </a:cubicBezTo>
                <a:cubicBezTo>
                  <a:pt x="23" y="18"/>
                  <a:pt x="20" y="16"/>
                  <a:pt x="28" y="1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10520" y="1573200"/>
            <a:ext cx="851040" cy="649440"/>
          </a:xfrm>
          <a:custGeom>
            <a:avLst/>
            <a:gdLst/>
            <a:ahLst/>
            <a:rect l="l" t="t" r="r" b="b"/>
            <a:pathLst>
              <a:path w="536" h="409">
                <a:moveTo>
                  <a:pt x="92" y="23"/>
                </a:moveTo>
                <a:cubicBezTo>
                  <a:pt x="96" y="35"/>
                  <a:pt x="98" y="46"/>
                  <a:pt x="104" y="57"/>
                </a:cubicBezTo>
                <a:cubicBezTo>
                  <a:pt x="106" y="61"/>
                  <a:pt x="112" y="69"/>
                  <a:pt x="112" y="69"/>
                </a:cubicBezTo>
                <a:cubicBezTo>
                  <a:pt x="91" y="76"/>
                  <a:pt x="64" y="46"/>
                  <a:pt x="44" y="39"/>
                </a:cubicBezTo>
                <a:cubicBezTo>
                  <a:pt x="30" y="25"/>
                  <a:pt x="37" y="30"/>
                  <a:pt x="26" y="23"/>
                </a:cubicBezTo>
                <a:cubicBezTo>
                  <a:pt x="11" y="0"/>
                  <a:pt x="3" y="35"/>
                  <a:pt x="0" y="49"/>
                </a:cubicBezTo>
                <a:cubicBezTo>
                  <a:pt x="5" y="123"/>
                  <a:pt x="41" y="149"/>
                  <a:pt x="98" y="189"/>
                </a:cubicBezTo>
                <a:cubicBezTo>
                  <a:pt x="118" y="203"/>
                  <a:pt x="136" y="217"/>
                  <a:pt x="158" y="227"/>
                </a:cubicBezTo>
                <a:cubicBezTo>
                  <a:pt x="183" y="238"/>
                  <a:pt x="209" y="246"/>
                  <a:pt x="234" y="257"/>
                </a:cubicBezTo>
                <a:cubicBezTo>
                  <a:pt x="242" y="260"/>
                  <a:pt x="248" y="266"/>
                  <a:pt x="256" y="269"/>
                </a:cubicBezTo>
                <a:cubicBezTo>
                  <a:pt x="260" y="271"/>
                  <a:pt x="268" y="273"/>
                  <a:pt x="268" y="273"/>
                </a:cubicBezTo>
                <a:cubicBezTo>
                  <a:pt x="280" y="285"/>
                  <a:pt x="295" y="294"/>
                  <a:pt x="308" y="303"/>
                </a:cubicBezTo>
                <a:cubicBezTo>
                  <a:pt x="313" y="311"/>
                  <a:pt x="321" y="318"/>
                  <a:pt x="330" y="321"/>
                </a:cubicBezTo>
                <a:cubicBezTo>
                  <a:pt x="340" y="335"/>
                  <a:pt x="391" y="369"/>
                  <a:pt x="408" y="377"/>
                </a:cubicBezTo>
                <a:cubicBezTo>
                  <a:pt x="421" y="397"/>
                  <a:pt x="445" y="397"/>
                  <a:pt x="466" y="401"/>
                </a:cubicBezTo>
                <a:cubicBezTo>
                  <a:pt x="497" y="397"/>
                  <a:pt x="469" y="403"/>
                  <a:pt x="486" y="395"/>
                </a:cubicBezTo>
                <a:cubicBezTo>
                  <a:pt x="490" y="393"/>
                  <a:pt x="498" y="391"/>
                  <a:pt x="498" y="391"/>
                </a:cubicBezTo>
                <a:cubicBezTo>
                  <a:pt x="507" y="405"/>
                  <a:pt x="504" y="398"/>
                  <a:pt x="508" y="409"/>
                </a:cubicBezTo>
                <a:cubicBezTo>
                  <a:pt x="525" y="403"/>
                  <a:pt x="518" y="387"/>
                  <a:pt x="532" y="377"/>
                </a:cubicBezTo>
                <a:cubicBezTo>
                  <a:pt x="534" y="370"/>
                  <a:pt x="532" y="371"/>
                  <a:pt x="536" y="37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7760" y="1333440"/>
            <a:ext cx="168120" cy="37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50280" y="1673280"/>
            <a:ext cx="68400" cy="71280"/>
          </a:xfrm>
          <a:custGeom>
            <a:avLst/>
            <a:gdLst/>
            <a:ahLst/>
            <a:rect l="l" t="t" r="r" b="b"/>
            <a:pathLst>
              <a:path w="43" h="45">
                <a:moveTo>
                  <a:pt x="5" y="0"/>
                </a:moveTo>
                <a:cubicBezTo>
                  <a:pt x="2" y="15"/>
                  <a:pt x="0" y="26"/>
                  <a:pt x="5" y="42"/>
                </a:cubicBezTo>
                <a:cubicBezTo>
                  <a:pt x="16" y="41"/>
                  <a:pt x="29" y="45"/>
                  <a:pt x="39" y="40"/>
                </a:cubicBezTo>
                <a:cubicBezTo>
                  <a:pt x="43" y="38"/>
                  <a:pt x="36" y="32"/>
                  <a:pt x="35" y="28"/>
                </a:cubicBezTo>
                <a:cubicBezTo>
                  <a:pt x="30" y="14"/>
                  <a:pt x="18" y="7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572680" y="1760400"/>
            <a:ext cx="172800" cy="111240"/>
          </a:xfrm>
          <a:custGeom>
            <a:avLst/>
            <a:gdLst/>
            <a:ahLst/>
            <a:rect l="l" t="t" r="r" b="b"/>
            <a:pathLst>
              <a:path w="109" h="70">
                <a:moveTo>
                  <a:pt x="0" y="13"/>
                </a:moveTo>
                <a:cubicBezTo>
                  <a:pt x="6" y="3"/>
                  <a:pt x="2" y="8"/>
                  <a:pt x="16" y="3"/>
                </a:cubicBezTo>
                <a:cubicBezTo>
                  <a:pt x="18" y="2"/>
                  <a:pt x="22" y="1"/>
                  <a:pt x="22" y="1"/>
                </a:cubicBezTo>
                <a:cubicBezTo>
                  <a:pt x="29" y="2"/>
                  <a:pt x="38" y="0"/>
                  <a:pt x="44" y="3"/>
                </a:cubicBezTo>
                <a:cubicBezTo>
                  <a:pt x="48" y="5"/>
                  <a:pt x="45" y="12"/>
                  <a:pt x="48" y="15"/>
                </a:cubicBezTo>
                <a:cubicBezTo>
                  <a:pt x="56" y="21"/>
                  <a:pt x="60" y="25"/>
                  <a:pt x="70" y="27"/>
                </a:cubicBezTo>
                <a:cubicBezTo>
                  <a:pt x="79" y="33"/>
                  <a:pt x="80" y="38"/>
                  <a:pt x="84" y="49"/>
                </a:cubicBezTo>
                <a:cubicBezTo>
                  <a:pt x="85" y="52"/>
                  <a:pt x="99" y="57"/>
                  <a:pt x="102" y="59"/>
                </a:cubicBezTo>
                <a:cubicBezTo>
                  <a:pt x="109" y="70"/>
                  <a:pt x="96" y="68"/>
                  <a:pt x="86" y="69"/>
                </a:cubicBezTo>
                <a:cubicBezTo>
                  <a:pt x="58" y="66"/>
                  <a:pt x="63" y="55"/>
                  <a:pt x="40" y="47"/>
                </a:cubicBezTo>
                <a:cubicBezTo>
                  <a:pt x="32" y="39"/>
                  <a:pt x="25" y="30"/>
                  <a:pt x="18" y="23"/>
                </a:cubicBezTo>
                <a:cubicBezTo>
                  <a:pt x="13" y="18"/>
                  <a:pt x="0" y="13"/>
                  <a:pt x="0" y="13"/>
                </a:cubicBezTo>
                <a:close/>
              </a:path>
            </a:pathLst>
          </a:custGeom>
          <a:solidFill>
            <a:srgbClr val="703dff"/>
          </a:solidFill>
          <a:ln w="936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58160" y="1930320"/>
            <a:ext cx="60480" cy="200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86040" y="4713120"/>
            <a:ext cx="3366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endpoints are spec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2cm semicircle around each of the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ase the excess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57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664240" y="1689120"/>
            <a:ext cx="2832120" cy="27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330800" y="2400480"/>
            <a:ext cx="30988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002200" y="2017800"/>
            <a:ext cx="1440000" cy="1439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353280" y="3309840"/>
            <a:ext cx="1439640" cy="144000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70560" y="5730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9" dur="5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4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7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2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79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82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cus From a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ne A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5003640" y="2019240"/>
            <a:ext cx="144000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50040" y="3314880"/>
            <a:ext cx="144000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270400" y="2260440"/>
            <a:ext cx="22226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5232240" y="2235240"/>
            <a:ext cx="2349720" cy="2324160"/>
            <a:chOff x="5232240" y="2235240"/>
            <a:chExt cx="2349720" cy="2324160"/>
          </a:xfrm>
        </p:grpSpPr>
        <p:sp>
          <p:nvSpPr>
            <p:cNvPr id="1676" name=""/>
            <p:cNvSpPr/>
            <p:nvPr/>
          </p:nvSpPr>
          <p:spPr>
            <a:xfrm>
              <a:off x="5740560" y="2743200"/>
              <a:ext cx="1346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235560" y="2235240"/>
              <a:ext cx="1346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232240" y="3263760"/>
              <a:ext cx="13464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5450040" y="267804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08680" y="39862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the locus of point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th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 flipV="1">
            <a:off x="4521240" y="3251160"/>
            <a:ext cx="3938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889520" y="4584600"/>
            <a:ext cx="2184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This means in the 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 we need to find a set of points that go straight through the midd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 a perpendicular bise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5643720" y="3630600"/>
            <a:ext cx="287280" cy="288720"/>
            <a:chOff x="5643720" y="3630600"/>
            <a:chExt cx="287280" cy="288720"/>
          </a:xfrm>
        </p:grpSpPr>
        <p:sp>
          <p:nvSpPr>
            <p:cNvPr id="1694" name=""/>
            <p:cNvSpPr/>
            <p:nvPr/>
          </p:nvSpPr>
          <p:spPr>
            <a:xfrm>
              <a:off x="5788080" y="3630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643720" y="3774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192800" y="3770280"/>
            <a:ext cx="287280" cy="288720"/>
            <a:chOff x="7192800" y="3770280"/>
            <a:chExt cx="287280" cy="288720"/>
          </a:xfrm>
        </p:grpSpPr>
        <p:sp>
          <p:nvSpPr>
            <p:cNvPr id="1697" name=""/>
            <p:cNvSpPr/>
            <p:nvPr/>
          </p:nvSpPr>
          <p:spPr>
            <a:xfrm>
              <a:off x="7337160" y="3770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192800" y="391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9" name=""/>
          <p:cNvSpPr/>
          <p:nvPr/>
        </p:nvSpPr>
        <p:spPr>
          <a:xfrm>
            <a:off x="4876920" y="287028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26360" y="3009960"/>
            <a:ext cx="180000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915080" y="2844720"/>
            <a:ext cx="148572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819840" y="298440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69080" y="4483080"/>
            <a:ext cx="135900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876920" y="4203720"/>
            <a:ext cx="135864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826160" y="3276720"/>
            <a:ext cx="2412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429000"/>
            <a:ext cx="2412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0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hat any point on the line is the same distance from A as it is from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6575400" y="30909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5805360" y="3134880"/>
            <a:ext cx="812880" cy="6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6603840" y="3121200"/>
            <a:ext cx="725760" cy="798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605560" y="3164040"/>
            <a:ext cx="8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894360" y="32637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distant from 2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5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ratulations that is the Locus of Point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quidista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ints A and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>
            <a:hlinkClick r:id="rId1" action="ppaction://hlinksldjump"/>
          </p:cNvPr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rId2" action="ppaction://hlinksldjump"/>
          </p:cNvPr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740560" y="37339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89640" y="3873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387840" y="2413080"/>
            <a:ext cx="291960" cy="32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450040" y="364320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16640" y="3745080"/>
            <a:ext cx="4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5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drawings done using a compass and a ruler and not measuring distances if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are operations done to a shape to move it and shift it around the page without changing the sh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a series of points, a line or a shape that fits a certain set of rules (ie is always 2cm from a po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000" fill="hold"/>
                                        <p:tgtEl>
                                          <p:spTgt spid="1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1000" fill="hold"/>
                                        <p:tgtEl>
                                          <p:spTgt spid="1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6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1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1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7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37306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54560" y="5514840"/>
            <a:ext cx="971640" cy="108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57400" y="2184480"/>
            <a:ext cx="2306880" cy="63792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7920"/>
              <a:gd name="textAreaBottom" fmla="*/ 596880 h 637920"/>
            </a:gdLst>
            <a:ahLst/>
            <a:rect l="textAreaLeft" t="textAreaTop" r="textAreaRight" b="textAreaBottom"/>
            <a:pathLst>
              <a:path w="78079" h="21600">
                <a:moveTo>
                  <a:pt x="0" y="0"/>
                </a:moveTo>
                <a:lnTo>
                  <a:pt x="78079" y="0"/>
                </a:lnTo>
                <a:lnTo>
                  <a:pt x="78079" y="21600"/>
                </a:lnTo>
                <a:lnTo>
                  <a:pt x="0" y="21600"/>
                </a:lnTo>
                <a:close/>
              </a:path>
              <a:path fill="lightenLess" w="78079" h="21600">
                <a:moveTo>
                  <a:pt x="0" y="0"/>
                </a:moveTo>
                <a:lnTo>
                  <a:pt x="78079" y="0"/>
                </a:lnTo>
                <a:lnTo>
                  <a:pt x="76679" y="1400"/>
                </a:lnTo>
                <a:lnTo>
                  <a:pt x="1400" y="1400"/>
                </a:lnTo>
                <a:close/>
              </a:path>
              <a:path fill="darken" w="78079" h="21600">
                <a:moveTo>
                  <a:pt x="78079" y="0"/>
                </a:moveTo>
                <a:lnTo>
                  <a:pt x="78079" y="21600"/>
                </a:lnTo>
                <a:lnTo>
                  <a:pt x="76679" y="20200"/>
                </a:lnTo>
                <a:lnTo>
                  <a:pt x="76679" y="1400"/>
                </a:lnTo>
                <a:close/>
              </a:path>
              <a:path fill="darkenLess" w="78079" h="21600">
                <a:moveTo>
                  <a:pt x="7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79" y="20200"/>
                </a:lnTo>
                <a:close/>
              </a:path>
              <a:path fill="lighten" w="7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43360" y="21700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959200" y="2911320"/>
            <a:ext cx="2306520" cy="638280"/>
          </a:xfrm>
          <a:custGeom>
            <a:avLst/>
            <a:gdLst>
              <a:gd name="textAreaLeft" fmla="*/ 41040 w 2306520"/>
              <a:gd name="textAreaRight" fmla="*/ 2265480 w 23065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23" h="21600">
                <a:moveTo>
                  <a:pt x="0" y="0"/>
                </a:moveTo>
                <a:lnTo>
                  <a:pt x="78023" y="0"/>
                </a:lnTo>
                <a:lnTo>
                  <a:pt x="78023" y="21600"/>
                </a:lnTo>
                <a:lnTo>
                  <a:pt x="0" y="21600"/>
                </a:lnTo>
                <a:close/>
              </a:path>
              <a:path fill="lightenLess" w="78023" h="21600">
                <a:moveTo>
                  <a:pt x="0" y="0"/>
                </a:moveTo>
                <a:lnTo>
                  <a:pt x="78023" y="0"/>
                </a:lnTo>
                <a:lnTo>
                  <a:pt x="76623" y="1400"/>
                </a:lnTo>
                <a:lnTo>
                  <a:pt x="1400" y="1400"/>
                </a:lnTo>
                <a:close/>
              </a:path>
              <a:path fill="darken" w="78023" h="21600">
                <a:moveTo>
                  <a:pt x="78023" y="0"/>
                </a:moveTo>
                <a:lnTo>
                  <a:pt x="78023" y="21600"/>
                </a:lnTo>
                <a:lnTo>
                  <a:pt x="76623" y="20200"/>
                </a:lnTo>
                <a:lnTo>
                  <a:pt x="76623" y="1400"/>
                </a:lnTo>
                <a:close/>
              </a:path>
              <a:path fill="darkenLess" w="78023" h="21600">
                <a:moveTo>
                  <a:pt x="78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23" y="20200"/>
                </a:lnTo>
                <a:close/>
              </a:path>
              <a:path fill="lighten" w="78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59200" y="29113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7400" y="366696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930400" y="3666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957400" y="4441680"/>
            <a:ext cx="2306880" cy="638280"/>
          </a:xfrm>
          <a:custGeom>
            <a:avLst/>
            <a:gdLst>
              <a:gd name="textAreaLeft" fmla="*/ 41040 w 2306880"/>
              <a:gd name="textAreaRight" fmla="*/ 2265840 w 230688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78035" h="21600">
                <a:moveTo>
                  <a:pt x="0" y="0"/>
                </a:moveTo>
                <a:lnTo>
                  <a:pt x="78035" y="0"/>
                </a:lnTo>
                <a:lnTo>
                  <a:pt x="78035" y="21600"/>
                </a:lnTo>
                <a:lnTo>
                  <a:pt x="0" y="21600"/>
                </a:lnTo>
                <a:close/>
              </a:path>
              <a:path fill="lightenLess" w="78035" h="21600">
                <a:moveTo>
                  <a:pt x="0" y="0"/>
                </a:moveTo>
                <a:lnTo>
                  <a:pt x="78035" y="0"/>
                </a:lnTo>
                <a:lnTo>
                  <a:pt x="76635" y="1400"/>
                </a:lnTo>
                <a:lnTo>
                  <a:pt x="1400" y="1400"/>
                </a:lnTo>
                <a:close/>
              </a:path>
              <a:path fill="darken" w="78035" h="21600">
                <a:moveTo>
                  <a:pt x="78035" y="0"/>
                </a:moveTo>
                <a:lnTo>
                  <a:pt x="78035" y="21600"/>
                </a:lnTo>
                <a:lnTo>
                  <a:pt x="76635" y="20200"/>
                </a:lnTo>
                <a:lnTo>
                  <a:pt x="76635" y="1400"/>
                </a:lnTo>
                <a:close/>
              </a:path>
              <a:path fill="darkenLess" w="78035" h="21600">
                <a:moveTo>
                  <a:pt x="78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35" y="20200"/>
                </a:lnTo>
                <a:close/>
              </a:path>
              <a:path fill="lighten" w="78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43360" y="442764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equilateral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A  draw an arc from B above the line, about ¼ of a cir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5518080" y="4951440"/>
            <a:ext cx="287280" cy="288720"/>
            <a:chOff x="5518080" y="4951440"/>
            <a:chExt cx="287280" cy="288720"/>
          </a:xfrm>
        </p:grpSpPr>
        <p:sp>
          <p:nvSpPr>
            <p:cNvPr id="1765" name=""/>
            <p:cNvSpPr/>
            <p:nvPr/>
          </p:nvSpPr>
          <p:spPr>
            <a:xfrm>
              <a:off x="5662440" y="49514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518080" y="50958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4307040" y="3730680"/>
            <a:ext cx="2698560" cy="26985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1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1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0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pendicular Line Through a Po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oal of this construction is to create a line through point A that is perpendicular to the line gi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62440" y="3308400"/>
            <a:ext cx="6192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68920" y="321300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80120" y="30718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compass point on B  draw an arc from A above the line,  It must cross the first ar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8" name=""/>
          <p:cNvGrpSpPr/>
          <p:nvPr/>
        </p:nvGrpSpPr>
        <p:grpSpPr>
          <a:xfrm>
            <a:off x="6491160" y="4008600"/>
            <a:ext cx="287280" cy="288720"/>
            <a:chOff x="6491160" y="4008600"/>
            <a:chExt cx="287280" cy="288720"/>
          </a:xfrm>
        </p:grpSpPr>
        <p:sp>
          <p:nvSpPr>
            <p:cNvPr id="1779" name=""/>
            <p:cNvSpPr/>
            <p:nvPr/>
          </p:nvSpPr>
          <p:spPr>
            <a:xfrm>
              <a:off x="6635520" y="4008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491160" y="41529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76880" y="2786040"/>
            <a:ext cx="2698560" cy="269892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0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3" dur="2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1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/>
          <p:nvPr/>
        </p:nvSpPr>
        <p:spPr>
          <a:xfrm>
            <a:off x="5264280" y="2787480"/>
            <a:ext cx="269856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ilateral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 is an equilateral tri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5210280" y="4484520"/>
            <a:ext cx="2293920" cy="12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308480" y="3732120"/>
            <a:ext cx="2698920" cy="26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151160" y="4470480"/>
            <a:ext cx="3468960" cy="20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325760" y="3860640"/>
            <a:ext cx="6382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86400" y="2598840"/>
            <a:ext cx="28591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7343640" y="3513240"/>
            <a:ext cx="7416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5324400" y="3778200"/>
            <a:ext cx="309600" cy="13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11800" y="3765600"/>
            <a:ext cx="13176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 an isoceles triangle with bas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ide length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your compass to 5 c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oint on A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5491080" y="4965840"/>
            <a:ext cx="287280" cy="288720"/>
            <a:chOff x="5491080" y="4965840"/>
            <a:chExt cx="287280" cy="288720"/>
          </a:xfrm>
        </p:grpSpPr>
        <p:sp>
          <p:nvSpPr>
            <p:cNvPr id="1831" name=""/>
            <p:cNvSpPr/>
            <p:nvPr/>
          </p:nvSpPr>
          <p:spPr>
            <a:xfrm>
              <a:off x="5635440" y="496584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491080" y="51102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"/>
          <p:cNvSpPr/>
          <p:nvPr/>
        </p:nvSpPr>
        <p:spPr>
          <a:xfrm>
            <a:off x="3584520" y="4049640"/>
            <a:ext cx="184320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039080" y="3716280"/>
            <a:ext cx="420480" cy="19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849840" y="3289320"/>
            <a:ext cx="359856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3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4" dur="3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7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changing the compass place the point on B and draw an ar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6492960" y="3992400"/>
            <a:ext cx="287280" cy="288720"/>
            <a:chOff x="6492960" y="3992400"/>
            <a:chExt cx="287280" cy="288720"/>
          </a:xfrm>
        </p:grpSpPr>
        <p:sp>
          <p:nvSpPr>
            <p:cNvPr id="1844" name=""/>
            <p:cNvSpPr/>
            <p:nvPr/>
          </p:nvSpPr>
          <p:spPr>
            <a:xfrm>
              <a:off x="6637320" y="39924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92960" y="41367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836960" y="2333520"/>
            <a:ext cx="3598920" cy="35989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9" dur="3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2" dur="3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04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le a line from A to the intersection of the arcs then from B to the intersection of the ar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2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2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celes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5654160" y="4151160"/>
            <a:ext cx="962280" cy="94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5438880" y="50529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3848040" y="3287880"/>
            <a:ext cx="3598920" cy="35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573880" y="3192480"/>
            <a:ext cx="159696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35520" y="233208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138640" y="2278080"/>
            <a:ext cx="314964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659640" y="3868560"/>
            <a:ext cx="2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079960" y="5545080"/>
            <a:ext cx="246708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039080" y="3106800"/>
            <a:ext cx="14796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4520" y="4049640"/>
            <a:ext cx="1944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992840" y="3411360"/>
            <a:ext cx="652320" cy="168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978440" y="3411360"/>
            <a:ext cx="1625400" cy="75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gratul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n Isoceles Triang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2897280" y="5627520"/>
            <a:ext cx="830160" cy="758880"/>
          </a:xfrm>
          <a:custGeom>
            <a:avLst/>
            <a:gdLst>
              <a:gd name="textAreaLeft" fmla="*/ 48960 w 830160"/>
              <a:gd name="textAreaRight" fmla="*/ 781200 w 83016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3628" h="21600">
                <a:moveTo>
                  <a:pt x="0" y="0"/>
                </a:moveTo>
                <a:lnTo>
                  <a:pt x="23628" y="0"/>
                </a:lnTo>
                <a:lnTo>
                  <a:pt x="23628" y="21600"/>
                </a:lnTo>
                <a:lnTo>
                  <a:pt x="0" y="21600"/>
                </a:lnTo>
                <a:close/>
              </a:path>
              <a:path fill="lightenLess" w="23628" h="21600">
                <a:moveTo>
                  <a:pt x="0" y="0"/>
                </a:moveTo>
                <a:lnTo>
                  <a:pt x="23628" y="0"/>
                </a:lnTo>
                <a:lnTo>
                  <a:pt x="22228" y="1400"/>
                </a:lnTo>
                <a:lnTo>
                  <a:pt x="1400" y="1400"/>
                </a:lnTo>
                <a:close/>
              </a:path>
              <a:path fill="darken" w="23628" h="21600">
                <a:moveTo>
                  <a:pt x="23628" y="0"/>
                </a:moveTo>
                <a:lnTo>
                  <a:pt x="23628" y="21600"/>
                </a:lnTo>
                <a:lnTo>
                  <a:pt x="22228" y="20200"/>
                </a:lnTo>
                <a:lnTo>
                  <a:pt x="22228" y="1400"/>
                </a:lnTo>
                <a:close/>
              </a:path>
              <a:path fill="darkenLess" w="23628" h="21600">
                <a:moveTo>
                  <a:pt x="2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8" y="20200"/>
                </a:lnTo>
                <a:close/>
              </a:path>
              <a:path fill="lighten" w="2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8" h="21600">
                <a:moveTo>
                  <a:pt x="11814" y="3837"/>
                </a:moveTo>
                <a:lnTo>
                  <a:pt x="14390" y="6448"/>
                </a:ln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lnTo>
                  <a:pt x="18777" y="10800"/>
                </a:lnTo>
                <a:lnTo>
                  <a:pt x="17123" y="10800"/>
                </a:lnTo>
                <a:lnTo>
                  <a:pt x="17123" y="17989"/>
                </a:lnTo>
                <a:lnTo>
                  <a:pt x="6505" y="17989"/>
                </a:lnTo>
                <a:lnTo>
                  <a:pt x="6505" y="10800"/>
                </a:lnTo>
                <a:lnTo>
                  <a:pt x="4851" y="10800"/>
                </a:lnTo>
                <a:close/>
              </a:path>
              <a:path fill="darkenLess" w="23628" h="21600">
                <a:moveTo>
                  <a:pt x="14390" y="6448"/>
                </a:moveTo>
                <a:lnTo>
                  <a:pt x="14390" y="4707"/>
                </a:lnTo>
                <a:lnTo>
                  <a:pt x="16166" y="4707"/>
                </a:lnTo>
                <a:lnTo>
                  <a:pt x="16166" y="8224"/>
                </a:lnTo>
                <a:close/>
              </a:path>
              <a:path fill="darkenLess" w="23628" h="21600">
                <a:moveTo>
                  <a:pt x="10891" y="14299"/>
                </a:moveTo>
                <a:lnTo>
                  <a:pt x="12737" y="14299"/>
                </a:lnTo>
                <a:lnTo>
                  <a:pt x="12737" y="17989"/>
                </a:lnTo>
                <a:lnTo>
                  <a:pt x="17123" y="17989"/>
                </a:lnTo>
                <a:lnTo>
                  <a:pt x="17123" y="10800"/>
                </a:lnTo>
                <a:lnTo>
                  <a:pt x="6505" y="10800"/>
                </a:lnTo>
                <a:lnTo>
                  <a:pt x="6505" y="17989"/>
                </a:lnTo>
                <a:lnTo>
                  <a:pt x="1089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037040" y="5627520"/>
            <a:ext cx="942840" cy="787680"/>
          </a:xfrm>
          <a:custGeom>
            <a:avLst/>
            <a:gdLst>
              <a:gd name="textAreaLeft" fmla="*/ 50760 w 942840"/>
              <a:gd name="textAreaRight" fmla="*/ 892080 w 942840"/>
              <a:gd name="textAreaTop" fmla="*/ 50760 h 787680"/>
              <a:gd name="textAreaBottom" fmla="*/ 736920 h 787680"/>
            </a:gdLst>
            <a:ahLst/>
            <a:rect l="textAreaLeft" t="textAreaTop" r="textAreaRight" b="textAreaBottom"/>
            <a:pathLst>
              <a:path w="25853" h="21600">
                <a:moveTo>
                  <a:pt x="0" y="0"/>
                </a:moveTo>
                <a:lnTo>
                  <a:pt x="25853" y="0"/>
                </a:lnTo>
                <a:lnTo>
                  <a:pt x="25853" y="21600"/>
                </a:lnTo>
                <a:lnTo>
                  <a:pt x="0" y="21600"/>
                </a:lnTo>
                <a:close/>
              </a:path>
              <a:path fill="lightenLess" w="25853" h="21600">
                <a:moveTo>
                  <a:pt x="0" y="0"/>
                </a:moveTo>
                <a:lnTo>
                  <a:pt x="25853" y="0"/>
                </a:lnTo>
                <a:lnTo>
                  <a:pt x="24453" y="1400"/>
                </a:lnTo>
                <a:lnTo>
                  <a:pt x="1400" y="1400"/>
                </a:lnTo>
                <a:close/>
              </a:path>
              <a:path fill="darken" w="25853" h="21600">
                <a:moveTo>
                  <a:pt x="25853" y="0"/>
                </a:moveTo>
                <a:lnTo>
                  <a:pt x="25853" y="21600"/>
                </a:lnTo>
                <a:lnTo>
                  <a:pt x="24453" y="20200"/>
                </a:lnTo>
                <a:lnTo>
                  <a:pt x="24453" y="1400"/>
                </a:lnTo>
                <a:close/>
              </a:path>
              <a:path fill="darkenLess" w="25853" h="21600">
                <a:moveTo>
                  <a:pt x="25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53" y="20200"/>
                </a:lnTo>
                <a:close/>
              </a:path>
              <a:path fill="lighten" w="25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53" h="21600">
                <a:moveTo>
                  <a:pt x="9428" y="10800"/>
                </a:moveTo>
                <a:lnTo>
                  <a:pt x="19933" y="3794"/>
                </a:lnTo>
                <a:lnTo>
                  <a:pt x="19933" y="17806"/>
                </a:lnTo>
                <a:close/>
              </a:path>
              <a:path fill="darken" w="25853" h="21600">
                <a:moveTo>
                  <a:pt x="5920" y="3794"/>
                </a:moveTo>
                <a:lnTo>
                  <a:pt x="7582" y="3794"/>
                </a:lnTo>
                <a:lnTo>
                  <a:pt x="7582" y="17806"/>
                </a:lnTo>
                <a:lnTo>
                  <a:pt x="592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lene Tri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2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 a triangle with sides 3 cm, 4 cm and 5 c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20:42:33Z</dcterms:created>
  <dc:creator>sykesr</dc:creator>
  <dc:description/>
  <dc:language>en-US</dc:language>
  <cp:lastModifiedBy>Ministry of Education</cp:lastModifiedBy>
  <dcterms:modified xsi:type="dcterms:W3CDTF">2008-08-05T02:57:43Z</dcterms:modified>
  <cp:revision>24</cp:revision>
  <dc:subject/>
  <dc:title>1.3 Construction Drawing</dc:title>
</cp:coreProperties>
</file>