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6C3-91F0-4EAF-8087-CA7A45B2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738-9807-4FD0-9EF7-08315264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8A4-210F-448A-B027-9AA06A42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9B1-D404-4F44-B2FD-D92E25FC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3A9-389E-4DAF-B89E-5483CDDC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E6A-43D8-4F83-ACB0-988BC0A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17B-5B31-4FB5-AE96-B6021A9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618-12F0-423B-868F-CA56E6A6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88F-30E4-4B04-AA28-502E7668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3EB-9A6F-4889-A720-9B5E09D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0E5-7016-4890-8248-185B10D5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ABB-0E43-4E08-AA65-292797B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492-AD94-47E5-8B96-DEF7F29842EC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o 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ight Triangle 3"/>
          <p:cNvSpPr/>
          <p:nvPr/>
        </p:nvSpPr>
        <p:spPr>
          <a:xfrm>
            <a:off x="928800" y="2571840"/>
            <a:ext cx="2428920" cy="25002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14720" y="4572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3429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571760" y="51436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Triangle 7"/>
          <p:cNvSpPr/>
          <p:nvPr/>
        </p:nvSpPr>
        <p:spPr>
          <a:xfrm rot="5400000">
            <a:off x="5143320" y="2143080"/>
            <a:ext cx="2928600" cy="2071800"/>
          </a:xfrm>
          <a:prstGeom prst="rtTriangl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572080" y="3714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572160" y="30718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72120" y="1214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928800" y="57150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.8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429240" y="4429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4.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50"/>
                </a:solidFill>
                <a:latin typeface="Calibri"/>
              </a:rPr>
              <a:t>More examples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4275 to 2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035 to 1 significant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60784 to 3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b050"/>
                </a:solidFill>
                <a:latin typeface="Calibri"/>
              </a:rPr>
              <a:t>Some for you to 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3556 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368 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17.3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0.00975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1843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654.9589 (4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50020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0200" y="30718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28960" y="39290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0.0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00200" y="4786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71880" y="57150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6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571840" y="142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9160" y="4143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0Tick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6 P3 pg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2143080"/>
            <a:ext cx="7186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How many decimal places do each of these numbers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6.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98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56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70c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en rounding decim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keep the required number of decimal 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&lt; 5 (less than 5) keep the final required digit the same and drop all the unwanted digits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≥ 5 (greater than or equal to 5) round up by adding 1 to the final required digit and then dropping off all the unwanted dig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b050"/>
                </a:solidFill>
                <a:latin typeface="Calibri"/>
              </a:rPr>
              <a:t>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Round the following decimals to the number of deci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places indicated in the bracke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a) 25.679 (1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b) 0.0450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c) 56.2798 (2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d) 1.04998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When solving a problem the answer should always be rounded to a sensible number of decimal places. The number of decimal places a number is rounded to should be written in brackets after the answ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7142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A 150cm plank of wood is divided into seven pieces.  How long is each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1.428 57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t would be sensible to round this answer to 1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2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030a0"/>
                </a:solidFill>
                <a:latin typeface="Calibri"/>
              </a:rPr>
              <a:t>Recap of 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4.875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0.027942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11.0498 to 3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A family uses 3578 litres of water in one week.  How much water does the family use, on average, per day?  (Round your answer to the nearest lit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)   Here are the rainfall amounts for the five months of May, June, July, August and Septe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9.3cm, 18.28cm, 25.91cm, 79.307cm and 18.4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at is the total rainfall for this five-month peri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143240" y="1143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7146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2908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11.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72040" y="40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51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632720" y="5143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201.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f0"/>
                </a:solidFill>
                <a:latin typeface="Calibri"/>
              </a:rPr>
              <a:t>Significant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ow many significant figures do these numbers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.08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 0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073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4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inbetween other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Both at the end of a number and after the first non-zero digit after the decimal pl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9.703 (4sf)               27.40  (4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not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front of a 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end of a number with no decimal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0.036  (2sf)           24 000  (2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When rounding, using significant figures, it is often necessary to use zeros as place hold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b050"/>
                </a:solidFill>
                <a:latin typeface="Calibri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389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2136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47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6451 to 2 significant figur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50:06Z</dcterms:created>
  <dc:creator>ma</dc:creator>
  <dc:description/>
  <dc:language>en-US</dc:language>
  <cp:lastModifiedBy>mk</cp:lastModifiedBy>
  <dcterms:modified xsi:type="dcterms:W3CDTF">2012-05-10T20:45:35Z</dcterms:modified>
  <cp:revision>4</cp:revision>
  <dc:subject/>
  <dc:title>Do Now:</dc:title>
</cp:coreProperties>
</file>