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EE55-9CEF-40B8-BB77-82394E82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B05C-6838-43C8-8AB7-8AE2DC99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3DB2-CDAE-41B4-A65B-7FE65CE5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E9AB-C2A4-4428-A7A9-B59BE44C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797F-2525-4983-B62A-51381A6C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4CA5-ADA6-4245-A043-A7AF6017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84E1-89DF-4F55-8A95-99B8791E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0906-ABA1-4AED-9FA5-3352DF0D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204E-AFCB-49D8-BE83-59F50672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9D54-B75C-4AB0-8B52-B832414A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C5FC-A222-4C1E-B4EF-472DDA2D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EBEB-FF6E-4D54-8940-9391DB8F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B422-867A-405E-9EDB-3227A6CAA166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Do Now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ight Triangle 3"/>
          <p:cNvSpPr/>
          <p:nvPr/>
        </p:nvSpPr>
        <p:spPr>
          <a:xfrm>
            <a:off x="928800" y="2571840"/>
            <a:ext cx="2428920" cy="2500200"/>
          </a:xfrm>
          <a:prstGeom prst="rtTriangl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214720" y="457200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47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0" y="342900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6.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1571760" y="514368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ight Triangle 7"/>
          <p:cNvSpPr/>
          <p:nvPr/>
        </p:nvSpPr>
        <p:spPr>
          <a:xfrm rot="5400000">
            <a:off x="5143320" y="2143080"/>
            <a:ext cx="2928600" cy="2071800"/>
          </a:xfrm>
          <a:prstGeom prst="rtTriangl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5572080" y="37148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6572160" y="307188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6072120" y="121428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928800" y="571500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5.8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6429240" y="442908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54.3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b050"/>
                </a:solidFill>
                <a:latin typeface="Calibri"/>
              </a:rPr>
              <a:t>More examples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58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Round 0.04275 to 2 significant fig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Round 0.0035 to 1 significant fig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Round 0.060784 to 3 significant fig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14200" y="85716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b050"/>
                </a:solidFill>
                <a:latin typeface="Calibri"/>
              </a:rPr>
              <a:t>Some for you to t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3556  (1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4368  (2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417.3 (1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0.00975 (2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1843 (2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654.9589 (4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2500200" y="221472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4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2500200" y="307188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2928960" y="392904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0.00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2500200" y="478620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1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3071880" y="571500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655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2571840" y="1428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5429160" y="414324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10Ticks work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L6 P3 pg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8588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Rounding Dec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3920" y="2143080"/>
            <a:ext cx="718668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How many decimal places do each of these numbers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4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6.4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0.98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0.00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456.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70c0"/>
                </a:solidFill>
                <a:latin typeface="Calibri"/>
              </a:rPr>
              <a:t>Rounding Dec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When rounding decima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keep the required number of decimal pl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if the next digit is &lt; 5 (less than 5) keep the final required digit the same and drop all the unwanted digits o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if the next digit is ≥ 5 (greater than or equal to 5) round up by adding 1 to the final required digit and then dropping off all the unwanted dig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b050"/>
                </a:solidFill>
                <a:latin typeface="Calibri"/>
              </a:rPr>
              <a:t>Examp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7120" y="9284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Round the following decimals to the number of decim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places indicated in the bracke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a) 25.679 (1 d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b) 0.0450 (3 d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c) 56.2798 (2 d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d) 1.04998 (3 d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When solving a problem the answer should always be rounded to a sensible number of decimal places. The number of decimal places a number is rounded to should be written in brackets after the answe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85840" y="71424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A 150cm plank of wood is divided into seven pieces.  How long is each pie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21.428 571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It would be sensible to round this answer to 1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or 2d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7030a0"/>
                </a:solidFill>
                <a:latin typeface="Calibri"/>
              </a:rPr>
              <a:t>Recap of rounding dec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840" y="11426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Round 4.875 to 2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Round 0.027942 to 2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Round 11.0498 to 3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A family uses 3578 litres of water in one week.  How much water does the family use, on average, per day?  (Round your answer to the nearest lit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5)   Here are the rainfall amounts for the five months of May, June, July, August and Septem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59.3cm, 18.28cm, 25.91cm, 79.307cm and 18.4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What is the total rainfall for this five-month perio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143240" y="11430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4.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500720" y="171468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0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429080" y="22147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11.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5072040" y="4000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511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7632720" y="51436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201.2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b0f0"/>
                </a:solidFill>
                <a:latin typeface="Calibri"/>
              </a:rPr>
              <a:t>Significant Fig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How many significant figures do these numbers ha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10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1500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3.5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5.08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5 000 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0.0073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0.04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35712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c00000"/>
                </a:solidFill>
                <a:latin typeface="Calibri"/>
              </a:rPr>
              <a:t>Zeros are significant when they a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inbetween other nu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Both at the end of a number and after the first non-zero digit after the decimal plac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Calibri"/>
              </a:rPr>
              <a:t>Examples:      </a:t>
            </a: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9.703 (4sf)               27.40  (4s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c00000"/>
                </a:solidFill>
                <a:latin typeface="Calibri"/>
              </a:rPr>
              <a:t>Zeros are not significant when they a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At the front of a numb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At the end of a number with no decimal poi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Calibri"/>
              </a:rPr>
              <a:t>Examples:        </a:t>
            </a: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0.036  (2sf)           24 000  (2s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When rounding, using significant figures, it is often necessary to use zeros as place hold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b050"/>
                </a:solidFill>
                <a:latin typeface="Calibri"/>
              </a:rPr>
              <a:t>Examp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8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700" spc="-1" strike="noStrike">
                <a:solidFill>
                  <a:srgbClr val="000000"/>
                </a:solidFill>
                <a:latin typeface="Calibri"/>
              </a:rPr>
              <a:t>Round 389 to 1 significant figur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700" spc="-1" strike="noStrike">
                <a:solidFill>
                  <a:srgbClr val="000000"/>
                </a:solidFill>
                <a:latin typeface="Calibri"/>
              </a:rPr>
              <a:t>Round 2136 to 1 significant figur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700" spc="-1" strike="noStrike">
                <a:solidFill>
                  <a:srgbClr val="000000"/>
                </a:solidFill>
                <a:latin typeface="Calibri"/>
              </a:rPr>
              <a:t>Round 47 to 1 significant figur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700" spc="-1" strike="noStrike">
                <a:solidFill>
                  <a:srgbClr val="000000"/>
                </a:solidFill>
                <a:latin typeface="Calibri"/>
              </a:rPr>
              <a:t>Round 6451 to 2 significant figur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07:50:06Z</dcterms:created>
  <dc:creator>ma</dc:creator>
  <dc:description/>
  <dc:language>en-US</dc:language>
  <cp:lastModifiedBy>mk</cp:lastModifiedBy>
  <dcterms:modified xsi:type="dcterms:W3CDTF">2012-05-10T20:45:35Z</dcterms:modified>
  <cp:revision>4</cp:revision>
  <dc:subject/>
  <dc:title>Do Now:</dc:title>
</cp:coreProperties>
</file>