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20D-BFAE-4E38-83B1-F2C5C2D2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F38-E80E-421D-B5E4-0132347B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91C-E890-4B2A-8742-DB22274E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B92-1447-4EAD-BE82-22872378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558-E772-42DF-B54C-8DAC2EF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179-E09F-4FBA-9580-8BACE75F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F2B-5CBC-4E9C-816A-20CA0330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20D-563B-4FBE-AC07-4671956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A9D-24B9-4EFE-BC51-5088766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B4D-18D5-45B8-8897-5FD89F3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4B0-38C7-43C7-BDDF-7BA56D9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62E-96E6-4389-86B4-D28402A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7421-466E-4D4E-9A34-828AA5E9DEF2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Do N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ight Triangle 3"/>
          <p:cNvSpPr/>
          <p:nvPr/>
        </p:nvSpPr>
        <p:spPr>
          <a:xfrm>
            <a:off x="928800" y="2571840"/>
            <a:ext cx="2428920" cy="25002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14720" y="4572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3429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571760" y="5143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Triangle 7"/>
          <p:cNvSpPr/>
          <p:nvPr/>
        </p:nvSpPr>
        <p:spPr>
          <a:xfrm rot="5400000">
            <a:off x="5143320" y="2143080"/>
            <a:ext cx="2928600" cy="2071800"/>
          </a:xfrm>
          <a:prstGeom prst="rtTriangl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572080" y="3714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572160" y="3071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6072120" y="1214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928800" y="57150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.8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429240" y="4429080"/>
            <a:ext cx="15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54.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50"/>
                </a:solidFill>
                <a:latin typeface="Calibri"/>
              </a:rPr>
              <a:t>More examples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4275 to 2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035 to 1 significant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Round 0.060784 to 3 significant fig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4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b050"/>
                </a:solidFill>
                <a:latin typeface="Calibri"/>
              </a:rPr>
              <a:t>Some for you to 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3556 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368 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417.3 (1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0.00975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1843 (2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2060"/>
                </a:solidFill>
                <a:latin typeface="Calibri"/>
              </a:rPr>
              <a:t>654.9589 (4s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250020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2500200" y="30718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28960" y="39290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0.00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00200" y="47862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71880" y="571500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6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571840" y="1428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429160" y="4143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0Ticks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L6 P3 pg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2143080"/>
            <a:ext cx="7186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How many decimal places do each of these numbers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6.4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98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0.00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en-NZ" sz="2800" spc="-1" strike="noStrike">
                <a:solidFill>
                  <a:srgbClr val="898989"/>
                </a:solidFill>
                <a:latin typeface="Calibri"/>
              </a:rPr>
              <a:t>456.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70c0"/>
                </a:solidFill>
                <a:latin typeface="Calibri"/>
              </a:rPr>
              <a:t>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en rounding decim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keep the required number of decimal 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&lt; 5 (less than 5) keep the final required digit the same and drop all the unwanted digits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if the next digit is ≥ 5 (greater than or equal to 5) round up by adding 1 to the final required digit and then dropping off all the unwanted dig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b050"/>
                </a:solidFill>
                <a:latin typeface="Calibri"/>
              </a:rPr>
              <a:t>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928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Round the following decimals to the number of deci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places indicated in the bracke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a) 25.679 (1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b) 0.0450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c) 56.2798 (2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d) 1.04998 (3 d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alibri"/>
              </a:rPr>
              <a:t>When solving a problem the answer should always be rounded to a sensible number of decimal places. The number of decimal places a number is rounded to should be written in brackets after the answe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71424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A 150cm plank of wood is divided into seven pieces.  How long is each pie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1.428 57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t would be sensible to round this answer to 1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2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030a0"/>
                </a:solidFill>
                <a:latin typeface="Calibri"/>
              </a:rPr>
              <a:t>Recap of rounding dec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1426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4.875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0.027942 to 2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Round 11.0498 to 3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A family uses 3578 litres of water in one week.  How much water does the family use, on average, per day?  (Round your answer to the nearest lit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)   Here are the rainfall amounts for the five months of May, June, July, August and Septe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59.3cm, 18.28cm, 25.91cm, 79.307cm and 18.4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hat is the total rainfall for this five-month peri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143240" y="1143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00720" y="17146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429080" y="2214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11.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072040" y="4000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511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632720" y="51436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201.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b0f0"/>
                </a:solidFill>
                <a:latin typeface="Calibri"/>
              </a:rPr>
              <a:t>Significant Fig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ow many significant figures do these numbers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500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.08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5 0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073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0.04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357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inbetween other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Both at the end of a number and after the first non-zero digit after the decimal pla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9.703 (4sf)               27.40  (4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c00000"/>
                </a:solidFill>
                <a:latin typeface="Calibri"/>
              </a:rPr>
              <a:t>Zeros are not significant when they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front of a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At the end of a number with no decimal poi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alibri"/>
              </a:rPr>
              <a:t>Examples:       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0.036  (2sf)           24 000  (2s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alibri"/>
              </a:rPr>
              <a:t>When rounding, using significant figures, it is often necessary to use zeros as place hold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b050"/>
                </a:solidFill>
                <a:latin typeface="Calibri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389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2136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47 to 1 significant figu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700" spc="-1" strike="noStrike">
                <a:solidFill>
                  <a:srgbClr val="000000"/>
                </a:solidFill>
                <a:latin typeface="Calibri"/>
              </a:rPr>
              <a:t>Round 6451 to 2 significant figur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50:06Z</dcterms:created>
  <dc:creator>ma</dc:creator>
  <dc:description/>
  <dc:language>en-US</dc:language>
  <cp:lastModifiedBy>mk</cp:lastModifiedBy>
  <dcterms:modified xsi:type="dcterms:W3CDTF">2012-05-10T20:45:35Z</dcterms:modified>
  <cp:revision>4</cp:revision>
  <dc:subject/>
  <dc:title>Do Now:</dc:title>
</cp:coreProperties>
</file>